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move the slide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6749-2483-4ED9-8BF7-CFFA9131DB6E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D32C-E6FB-4DE0-BF40-1285CBEBE79C}" type="slidenum">
              <a:rPr b="0" lang="cs-CZ" sz="1200" spc="-1" strike="noStrike">
                <a:solidFill>
                  <a:srgbClr val="000000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FA92-9C9F-44A8-A224-8699D34A1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6C2-19DD-4217-972F-FB4B1100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6C4E-11D2-41A5-AE5E-FF7FF226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0D2E-1B5C-4B48-AB6F-9460CAEC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2DB7-6C42-4DEB-BDE2-C18953BED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A7D43-2F31-431E-B9A0-B0C6875E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F6C7-DBC1-4BFE-86C3-F7E24CA7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A478-19E6-4F3D-B9A1-7105D7A0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5CDD-2CAB-47D4-A693-25A7387A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EA81-F8ED-463A-AD44-7CF9FC80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AE899-6488-44B5-9D0F-7E89D5EC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D32-9489-49AC-BF51-609E3715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B1EC-5C1F-4BCB-B5D7-D5B6E6CF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4657-21D0-4A06-B095-12A593170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1C307-7DE5-408E-8A45-F9B2E12B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210B-C8D2-4060-8E6A-244A0490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448F-0905-4752-8319-4D628A728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7C881-44B9-447A-9BDC-C2526455D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68812D-14CA-4047-93D8-29FE127F2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D6E18-0C4F-476E-A5D6-6BF59AE3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5EB91-5190-4300-8666-51E1C6DC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35F64-CDD1-47E6-AF33-C499C9FF6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85D-D74F-44CE-930E-D7F3D68DA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B5606-97A6-416E-A3DA-45E76858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6970-F520-4C47-BDCF-FE26897D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76CA7-5247-4DEA-9115-D65DCAE3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01129-2E8A-46A8-BD12-D995011E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91AED-17F4-45D2-9F9C-9C6FA78C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35C08-C4DC-4F30-80F0-37510FFF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B5BEA-6A98-479B-A4F6-F9DB02D0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A1616-81A2-4A6F-B827-F38ADF42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7202-99D4-43E9-AC5D-71C6E8D7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829F3-4491-420D-8DCE-0E165D23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A0CD-ABB3-4ECF-B919-E26FC75C0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AADD1-72A1-4A7D-BAE2-E2E0A93C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C93B6-6119-4008-88FB-0C5034AC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DF816-352D-4497-83D1-4F46AE32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ECAFD-7E4F-42BD-83EF-D3166F19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17C56-2C98-4223-BA00-D0BEAC59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FD33D-523F-44AD-93A1-832A7DBF5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375C1-350E-44F7-8010-BB83AE8E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F52B4-7412-4CB8-A673-55D56B4C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E97C-CE52-4E53-87E3-B09306F6B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26714-154F-4C1D-A94C-34B75790C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3241-3D3C-4F54-AEED-D068C318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16F33-63AF-43AA-95F4-2EDBC41B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9924-2BA1-4561-8FB1-AF92BEA14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F948C-1C87-4386-AAB2-FCB74FBA8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8BAFE-D6CE-49FE-BBD8-2098575E5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A226F-8832-4358-AF05-F0CF49A78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873C7-A07A-4DE4-8EDA-2CFC4D3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82E83-1568-4A71-8712-E1F56EDB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D54D7-8F1A-49CB-BE52-D2EC6870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B5BE6-31D9-4182-B551-1BF47D74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3AE31-69FD-4111-93B2-193660EF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39E6-DEFB-4CE5-B26D-72AFA939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65751-C582-424B-BCA0-D371E52C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DEB56-0BBB-4CB8-8222-2BADD84A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488A4-43F2-4ED4-9DED-1E3775B7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941678-0B9A-498F-814D-6EE73319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2E40E-06CD-427F-93B3-B330A391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E97401-011B-48F3-9D31-2B7577B3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DF5FD-DF60-46C8-8032-6BC1DCEC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3D3AD-320C-43D1-A298-EC9A5A5A6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2E1361-F242-4FF8-A3CE-3341CFDF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6F28B-5383-472F-861F-2823F514D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4B37-8249-42F6-B4A5-6DE4AACEB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C6B1-E505-428F-8E8F-F91C77F0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A868D-3327-413D-A807-71C0AF12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99C0E-50DA-47AB-A0BC-13B973B40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12BBA3-A12C-42B7-9581-8CF39021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CF433B-742C-41FD-80CD-F05C50C5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A4ABD3-68B0-4B35-8D2A-41D9A64D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172AD4-699A-42B6-B86D-AE92F32B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21676-1527-48E0-9A91-B55EA95B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FE12D2-E335-4F24-AAE5-47994A5D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BF3DA-327E-4A70-B321-C6F981DF2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FC7-62B5-48BF-80E8-530FCB31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676BC-4A87-4319-838C-96A626F4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B6F48-381E-44DF-B4C4-86104F57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8FAED-E0CA-476C-A079-9E2E59C3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1DDAE-48CD-472E-BDB5-1928D77B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CE077D-FE09-497A-8FE2-81277B425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237-32D2-43EC-8796-84272A3C9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942A-BFE7-4C46-B7C2-A984C3CB64B2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3e35"/>
            </a:gs>
            <a:gs pos="100000">
              <a:srgbClr val="3e3e3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TextBox 14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962520" y="4392720"/>
            <a:ext cx="121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d7dae1"/>
                </a:solidFill>
                <a:latin typeface="Bodoni MT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1AAD-828B-462A-8E0C-063AC52959F6}" type="slidenum">
              <a:rPr b="0" lang="cs-CZ" sz="2400" spc="-1" strike="noStrike">
                <a:solidFill>
                  <a:srgbClr val="d7dae1"/>
                </a:solidFill>
                <a:latin typeface="Bodoni MT Condensed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3a8"/>
            </a:gs>
            <a:gs pos="100000">
              <a:srgbClr val="a0a3a8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TextBox 10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TextBox 11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59280" y="438948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199A-E27A-41E9-B4B1-9A6BA461BED9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74D0-94E4-44D1-8EE0-A583CB4CC8B4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9C7EC-DE37-4869-8B8C-59CCC0A4FB6D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1ADB-A039-4A42-BE08-295FD0C36A60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6"/>
          <p:cNvSpPr/>
          <p:nvPr/>
        </p:nvSpPr>
        <p:spPr>
          <a:xfrm rot="5400000">
            <a:off x="4590720" y="2409840"/>
            <a:ext cx="68580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2" name="Rectangle 7"/>
          <p:cNvSpPr/>
          <p:nvPr/>
        </p:nvSpPr>
        <p:spPr>
          <a:xfrm rot="5400000">
            <a:off x="4667400" y="2570760"/>
            <a:ext cx="6858000" cy="17161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3" name="Rectangle 8"/>
          <p:cNvSpPr/>
          <p:nvPr/>
        </p:nvSpPr>
        <p:spPr>
          <a:xfrm rot="5400000">
            <a:off x="3681000" y="3354480"/>
            <a:ext cx="6858000" cy="14904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0955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CF63-99CD-4D4E-9A75-75D393981BF1}" type="slidenum">
              <a:rPr b="0" lang="cs-CZ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Credit-cards.jpg" TargetMode="External"/><Relationship Id="rId2" Type="http://schemas.openxmlformats.org/officeDocument/2006/relationships/hyperlink" Target="http://commons.wikimedia.org/wiki/File:Credit-cards.jpg" TargetMode="External"/><Relationship Id="rId3" Type="http://schemas.openxmlformats.org/officeDocument/2006/relationships/hyperlink" Target="http://commons.wikimedia.org/wiki/File:Robot_ATM_Sydney.jpg" TargetMode="External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</a:rPr>
              <a:t>Projekt:  Inovace vybavení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24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325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6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ffffff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7" name="TextovéPole 6"/>
          <p:cNvSpPr/>
          <p:nvPr/>
        </p:nvSpPr>
        <p:spPr>
          <a:xfrm>
            <a:off x="320760" y="1165320"/>
            <a:ext cx="6195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   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 Ida  Taušlová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TextovéPole 7"/>
          <p:cNvSpPr/>
          <p:nvPr/>
        </p:nvSpPr>
        <p:spPr>
          <a:xfrm>
            <a:off x="331920" y="903240"/>
            <a:ext cx="6472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:      Shopping – ways of paying, complaining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9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TextovéPole 9"/>
          <p:cNvSpPr/>
          <p:nvPr/>
        </p:nvSpPr>
        <p:spPr>
          <a:xfrm>
            <a:off x="5335560" y="1908000"/>
            <a:ext cx="2062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 anglický jazyk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TextovéPole 12"/>
          <p:cNvSpPr/>
          <p:nvPr/>
        </p:nvSpPr>
        <p:spPr>
          <a:xfrm>
            <a:off x="5400720" y="2205000"/>
            <a:ext cx="2232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 15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TextovéPole 14"/>
          <p:cNvSpPr/>
          <p:nvPr/>
        </p:nvSpPr>
        <p:spPr>
          <a:xfrm>
            <a:off x="320760" y="2914560"/>
            <a:ext cx="6338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       2. dubna  2013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TextovéPole 15"/>
          <p:cNvSpPr/>
          <p:nvPr/>
        </p:nvSpPr>
        <p:spPr>
          <a:xfrm>
            <a:off x="320760" y="3429000"/>
            <a:ext cx="46116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                        4.C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TextovéPole 16"/>
          <p:cNvSpPr/>
          <p:nvPr/>
        </p:nvSpPr>
        <p:spPr>
          <a:xfrm>
            <a:off x="320760" y="3178080"/>
            <a:ext cx="6699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        Mgr. Ida Taušlová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TextovéPole 17"/>
          <p:cNvSpPr/>
          <p:nvPr/>
        </p:nvSpPr>
        <p:spPr>
          <a:xfrm>
            <a:off x="4572000" y="148428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TextovéPole 19"/>
          <p:cNvSpPr/>
          <p:nvPr/>
        </p:nvSpPr>
        <p:spPr>
          <a:xfrm>
            <a:off x="1096920" y="1919160"/>
            <a:ext cx="4662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ročník: čtvrtý 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 _ A_1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TextovéPole 22"/>
          <p:cNvSpPr/>
          <p:nvPr/>
        </p:nvSpPr>
        <p:spPr>
          <a:xfrm>
            <a:off x="739764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Nadpis 5" descr=""/>
          <p:cNvPicPr/>
          <p:nvPr/>
        </p:nvPicPr>
        <p:blipFill>
          <a:blip r:embed="rId1"/>
          <a:stretch/>
        </p:blipFill>
        <p:spPr>
          <a:xfrm>
            <a:off x="249120" y="2908440"/>
            <a:ext cx="8686800" cy="204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Nadpis 3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55556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Pay in cash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Pay by chequ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Pay by credit card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Other useful terms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ATM (automatic teller machine)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Or cash point/machin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Have(enough money) on you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take/accept credit cards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63880" indent="-2638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Withdraw money from ATM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pic>
        <p:nvPicPr>
          <p:cNvPr id="346" name="Zástupný symbol pro obsah 1" descr=""/>
          <p:cNvPicPr/>
          <p:nvPr/>
        </p:nvPicPr>
        <p:blipFill>
          <a:blip r:embed="rId2"/>
          <a:stretch/>
        </p:blipFill>
        <p:spPr>
          <a:xfrm>
            <a:off x="3780000" y="1628640"/>
            <a:ext cx="2712960" cy="2033640"/>
          </a:xfrm>
          <a:prstGeom prst="rect">
            <a:avLst/>
          </a:prstGeom>
          <a:ln w="0">
            <a:noFill/>
          </a:ln>
        </p:spPr>
      </p:pic>
      <p:pic>
        <p:nvPicPr>
          <p:cNvPr id="347" name="Obrázek 2" descr=""/>
          <p:cNvPicPr/>
          <p:nvPr/>
        </p:nvPicPr>
        <p:blipFill>
          <a:blip r:embed="rId3"/>
          <a:stretch/>
        </p:blipFill>
        <p:spPr>
          <a:xfrm>
            <a:off x="4427640" y="4869000"/>
            <a:ext cx="3816360" cy="1827000"/>
          </a:xfrm>
          <a:prstGeom prst="rect">
            <a:avLst/>
          </a:prstGeom>
          <a:ln w="0">
            <a:noFill/>
          </a:ln>
        </p:spPr>
      </p:pic>
      <p:pic>
        <p:nvPicPr>
          <p:cNvPr id="348" name="Obrázek 4" descr=""/>
          <p:cNvPicPr/>
          <p:nvPr/>
        </p:nvPicPr>
        <p:blipFill>
          <a:blip r:embed="rId4"/>
          <a:stretch/>
        </p:blipFill>
        <p:spPr>
          <a:xfrm>
            <a:off x="7020000" y="1413000"/>
            <a:ext cx="15937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Nadpis 4" descr=""/>
          <p:cNvPicPr/>
          <p:nvPr/>
        </p:nvPicPr>
        <p:blipFill>
          <a:blip r:embed="rId1"/>
          <a:stretch/>
        </p:blipFill>
        <p:spPr>
          <a:xfrm>
            <a:off x="225360" y="2803680"/>
            <a:ext cx="8686800" cy="20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Nadpis 1" descr=""/>
          <p:cNvPicPr/>
          <p:nvPr/>
        </p:nvPicPr>
        <p:blipFill>
          <a:blip r:embed="rId1"/>
          <a:stretch/>
        </p:blipFill>
        <p:spPr>
          <a:xfrm>
            <a:off x="324000" y="-42840"/>
            <a:ext cx="8551800" cy="13352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6836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5554a"/>
                </a:solidFill>
                <a:latin typeface="Bodoni MT Condensed"/>
              </a:rPr>
              <a:t>Comlplete the dialogue with the words from the box: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55554a"/>
                </a:solidFill>
                <a:latin typeface="Bodoni MT Condensed"/>
              </a:rPr>
              <a:t>Back, complaint, exchange, manager, receipt, refunds, return.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C: Good morning. I´d like to make a 1. …… . I bought these shoes here a week ago and the heel´s come off. I´d like to 2. …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them, please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SA: Let me see. Er, yes, they don´t look too good. Have you got a 3. …  for them?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C: I do. Here it is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SA: Would you like to 4. … them for another pair? Just like this one, or perhaps this beautiful new style?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C: No, thank you, I´d just like to have my money 5. …. , please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SA: I´m afraid, we don´t give 6. … 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C: Excuse me?! I´d like to talk to the 7. … , please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Nadpis 3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5555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The manual is missing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Broken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Doesn´t work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Faulty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Keeps crashing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scratched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Try to act a similar dialogue in a shop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Interaction between a customer and a shop assistant.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Nadpis 1" descr=""/>
          <p:cNvPicPr/>
          <p:nvPr/>
        </p:nvPicPr>
        <p:blipFill>
          <a:blip r:embed="rId1"/>
          <a:stretch/>
        </p:blipFill>
        <p:spPr>
          <a:xfrm>
            <a:off x="457200" y="60480"/>
            <a:ext cx="8229600" cy="1555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599840"/>
            <a:ext cx="4038480" cy="51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Bargain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Buy (two) get (one) fre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Deal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For sal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Half pric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(to buy) in a sal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On sale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(on) special offer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Discount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55554a"/>
                </a:solidFill>
                <a:latin typeface="Bodoni MT Condensed"/>
              </a:rPr>
              <a:t>Reduced from …. to ……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648320" y="1599840"/>
            <a:ext cx="4038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Sníženo z … na …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Sleva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(v) akci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V prodeji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Výhodná koupě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Na prodej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Kup(dva) a (jeden) dostaneš zdarma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Sjedn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Poloviční cena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55554a"/>
                </a:solidFill>
                <a:latin typeface="Bodoni MT Condensed"/>
              </a:rPr>
              <a:t>Ve výprodeji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TextovéPole 2"/>
          <p:cNvSpPr/>
          <p:nvPr/>
        </p:nvSpPr>
        <p:spPr>
          <a:xfrm>
            <a:off x="2644920" y="4449600"/>
            <a:ext cx="356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                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 Mgr.Ida Taušlová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auslova@gymta.cz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uben  2013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TextovéPole 5"/>
          <p:cNvSpPr/>
          <p:nvPr/>
        </p:nvSpPr>
        <p:spPr>
          <a:xfrm>
            <a:off x="755640" y="549360"/>
            <a:ext cx="8120160" cy="6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228600" indent="-228600">
              <a:lnSpc>
                <a:spcPct val="100000"/>
              </a:lnSpc>
              <a:buClr>
                <a:srgbClr val="66aacd"/>
              </a:buClr>
              <a:buSzPct val="7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66aacd"/>
                </a:solidFill>
                <a:uFillTx/>
                <a:latin typeface="Arial Rounded MT Bold"/>
                <a:hlinkClick r:id="rId1"/>
              </a:rPr>
              <a:t>http://</a:t>
            </a:r>
            <a:r>
              <a:rPr b="0" lang="cs-CZ" sz="1100" spc="-1" strike="noStrike" u="sng">
                <a:solidFill>
                  <a:srgbClr val="66aacd"/>
                </a:solidFill>
                <a:uFillTx/>
                <a:latin typeface="Arial Rounded MT Bold"/>
                <a:hlinkClick r:id="rId2"/>
              </a:rPr>
              <a:t>commons.wikimedia.org/wiki/File:Credit-cards.jpg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buClr>
                <a:srgbClr val="66aacd"/>
              </a:buClr>
              <a:buSzPct val="75000"/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66aacd"/>
                </a:solidFill>
                <a:uFillTx/>
                <a:latin typeface="Arial Rounded MT Bold"/>
                <a:hlinkClick r:id="rId3"/>
              </a:rPr>
              <a:t>http://commons.wikimedia.org/wiki/File:Robot_ATM_Sydney.jpg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Rounded MT Bold"/>
              </a:rPr>
              <a:t>3.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Bob Hastings,D.Chandler,M.Uminska. (2009)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Maturita Activator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. Pearson Education Limited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13Z</dcterms:created>
  <dc:creator>Admin</dc:creator>
  <dc:description/>
  <dc:language>en-US</dc:language>
  <cp:lastModifiedBy>hchotovinska</cp:lastModifiedBy>
  <dcterms:modified xsi:type="dcterms:W3CDTF">2014-05-14T11:40:37Z</dcterms:modified>
  <cp:revision>118</cp:revision>
  <dc:subject/>
  <dc:title>TRAVELLING</dc:title>
</cp:coreProperties>
</file>