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media/image10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9C09-3650-4158-B6FC-B1306D05E8C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ýchodní pohled – věž táborské radnice,věž kostel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9E5E-9C26-400D-909F-48BFCCDC7FD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Jižní pohled na bývalý táborský pivov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C75A2-1ACA-45FB-97F3-C0D179B4E2F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Jižní pohled na bývalý táborský pivov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4428F-9397-4405-9F71-504C9D560869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ýchodní pohl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085F-DB83-4DBF-97CE-AB258098A24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Jižní pohled na Táb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A39E-2DE2-479D-B602-A9935300CCE7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pět jižní pohl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F6AE8-F5A9-4B8C-86A0-396CE9B92741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pět jižní pohl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5583-BB7D-45D7-AA6D-E2EA1D11F3A3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pět jižní pohl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29DC-6D5D-4C96-80F9-86944DBAD8FF}" type="slidenum">
              <a:rPr b="0" lang="cs-CZ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F7F8-1138-4599-839C-D868BE91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5567-D323-4A78-B9FE-D470C98C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FBBD-219A-450C-B280-1E99A89D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7035-BAF5-4363-AB35-595574C2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01FB-0CA7-4770-8762-1110AAF9F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4A670-99B6-4D35-A30C-CE6851DD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BBF80-9D86-4F3E-9A24-C4F114EA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1804D-2268-4B61-82EF-302BE264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E200-B53F-4F59-8893-4D59CE0E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06B3-8C02-487B-A15E-C4EDC9FC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8CE2E-6BB0-4F7B-979E-8372DF20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829D-4FB1-4E29-A0DB-03CBB326B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C1CEB-06A9-4BF7-BCD3-FF66009F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4408B-32F9-4CE9-9B67-DE034C28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C77D6-2CC2-4946-965C-28D36A9B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FB2D4-A30C-458B-9127-D3B8334E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1BD46-DFF0-4249-97A2-CF3D16952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ECBD-F3C3-4539-B1FD-ACD3C4BC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11EA-1C95-4328-BFE0-AC2E1DE9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9F03-FC32-40B3-B82A-E53A9019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8853-7846-4A78-A412-EF2F66AA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2457-1D49-4B5D-8509-E7D97338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A868-DB36-4794-B9F9-E36EA37F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69E5-D346-42F4-82E1-7003D2D50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cbcbc"/>
                </a:solidFill>
                <a:latin typeface="Arial Rounded MT 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cbcbc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cbcbc"/>
                </a:solidFill>
                <a:latin typeface="Arial Rounded MT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E42B-9660-4BA0-9CAC-C2DEEC866A00}" type="slidenum">
              <a:rPr b="0" lang="cs-CZ" sz="1200" spc="-1" strike="noStrike">
                <a:solidFill>
                  <a:srgbClr val="bcbcbc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cbcbc"/>
                </a:solidFill>
                <a:latin typeface="Arial Rounded MT Bold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bcbcbc"/>
                </a:solidFill>
                <a:latin typeface="Arial Rounded MT Bol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bcbcbc"/>
                </a:solidFill>
                <a:latin typeface="Arial Rounded MT Bol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6727-7788-4EED-A471-1E2AADC5686D}" type="slidenum">
              <a:rPr b="0" lang="cs-CZ" sz="1200" spc="-1" strike="noStrike">
                <a:solidFill>
                  <a:srgbClr val="bcbcbc"/>
                </a:solidFill>
                <a:latin typeface="Arial Rounded M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Inovace vybavení  registrační číslo projektu CZ.1.07/1.5.00/34.0325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91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2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Jakékoliv další používání podléhá autorskému zákonu.</a:t>
            </a:r>
            <a:endParaRPr b="0" lang="en-US" sz="9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" name="TextovéPole 6"/>
          <p:cNvSpPr/>
          <p:nvPr/>
        </p:nvSpPr>
        <p:spPr>
          <a:xfrm>
            <a:off x="320760" y="1165320"/>
            <a:ext cx="61959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Autor materiálu:       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Mgr.  Ida  Taušlová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331920" y="903240"/>
            <a:ext cx="6472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Název materiálu  :      Tábor - our hussite heritage, Geography and History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	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Sada: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TextovéPole 9"/>
          <p:cNvSpPr/>
          <p:nvPr/>
        </p:nvSpPr>
        <p:spPr>
          <a:xfrm>
            <a:off x="5335560" y="1908000"/>
            <a:ext cx="2062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ředmět: anglický jazyk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Zařazení materiálu: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Šablona: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0" name="TextovéPole 12"/>
          <p:cNvSpPr/>
          <p:nvPr/>
        </p:nvSpPr>
        <p:spPr>
          <a:xfrm>
            <a:off x="5214960" y="2205000"/>
            <a:ext cx="241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Číslo DUM:  18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Ověření materiálu ve výuce: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TextovéPole 14"/>
          <p:cNvSpPr/>
          <p:nvPr/>
        </p:nvSpPr>
        <p:spPr>
          <a:xfrm>
            <a:off x="320760" y="2914560"/>
            <a:ext cx="63388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Datum ověření:       19. listopadu  2012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TextovéPole 15"/>
          <p:cNvSpPr/>
          <p:nvPr/>
        </p:nvSpPr>
        <p:spPr>
          <a:xfrm>
            <a:off x="320760" y="3429000"/>
            <a:ext cx="46116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Třída:                       4.C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TextovéPole 16"/>
          <p:cNvSpPr/>
          <p:nvPr/>
        </p:nvSpPr>
        <p:spPr>
          <a:xfrm>
            <a:off x="320760" y="3178080"/>
            <a:ext cx="6699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Ověřující učitel:       Mgr.  Ida Taušlová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TextovéPole 17"/>
          <p:cNvSpPr/>
          <p:nvPr/>
        </p:nvSpPr>
        <p:spPr>
          <a:xfrm>
            <a:off x="4572000" y="148428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TextovéPole 19"/>
          <p:cNvSpPr/>
          <p:nvPr/>
        </p:nvSpPr>
        <p:spPr>
          <a:xfrm>
            <a:off x="1096920" y="1919160"/>
            <a:ext cx="46623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Inovace a zkvalitnění výuky prostřednictvím ICT (III/2)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ročník: čtvrtý  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32 _ A_2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Obrázek 1" descr="TABOR II (6).JPG"/>
          <p:cNvPicPr/>
          <p:nvPr/>
        </p:nvPicPr>
        <p:blipFill>
          <a:blip r:embed="rId1"/>
          <a:stretch/>
        </p:blipFill>
        <p:spPr>
          <a:xfrm>
            <a:off x="1332000" y="0"/>
            <a:ext cx="6480000" cy="4508640"/>
          </a:xfrm>
          <a:prstGeom prst="rect">
            <a:avLst/>
          </a:prstGeom>
          <a:ln w="0">
            <a:noFill/>
          </a:ln>
        </p:spPr>
      </p:pic>
      <p:sp>
        <p:nvSpPr>
          <p:cNvPr id="131" name="TextovéPole 1"/>
          <p:cNvSpPr/>
          <p:nvPr/>
        </p:nvSpPr>
        <p:spPr>
          <a:xfrm>
            <a:off x="0" y="4630680"/>
            <a:ext cx="9144000" cy="222696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It played a vital role in politics, it had a strong economy, its own armed forces and it even had its own foreign policy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he citizens of Tabor did not respect the authority of the Czech King.</a:t>
            </a:r>
            <a:r>
              <a:rPr b="0" lang="cs-CZ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Obrázek 1" descr="TABOR II (102).JPG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4969080"/>
          </a:xfrm>
          <a:prstGeom prst="rect">
            <a:avLst/>
          </a:prstGeom>
          <a:ln w="0">
            <a:noFill/>
          </a:ln>
        </p:spPr>
      </p:pic>
      <p:sp>
        <p:nvSpPr>
          <p:cNvPr id="133" name="TextovéPole 1"/>
          <p:cNvSpPr/>
          <p:nvPr/>
        </p:nvSpPr>
        <p:spPr>
          <a:xfrm>
            <a:off x="0" y="4630680"/>
            <a:ext cx="9144000" cy="222696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In 1452 it was the first time that the unique fortification system let the citizens of Tabor down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The town surrendered to the troops of the Governor of Bohemia, Jiri of Podebrady; only then the proud town acknowledged the king to be their master.</a:t>
            </a:r>
            <a:r>
              <a:rPr b="0" lang="cs-CZ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Obrázek 1" descr="TABOR II (102).JPG"/>
          <p:cNvPicPr/>
          <p:nvPr/>
        </p:nvPicPr>
        <p:blipFill>
          <a:blip r:embed="rId1"/>
          <a:stretch/>
        </p:blipFill>
        <p:spPr>
          <a:xfrm>
            <a:off x="468360" y="0"/>
            <a:ext cx="8129520" cy="5084640"/>
          </a:xfrm>
          <a:prstGeom prst="rect">
            <a:avLst/>
          </a:prstGeom>
          <a:ln w="0">
            <a:noFill/>
          </a:ln>
        </p:spPr>
      </p:pic>
      <p:sp>
        <p:nvSpPr>
          <p:cNvPr id="135" name="TextovéPole 1"/>
          <p:cNvSpPr/>
          <p:nvPr/>
        </p:nvSpPr>
        <p:spPr>
          <a:xfrm>
            <a:off x="0" y="5157720"/>
            <a:ext cx="9144000" cy="137376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In 1437 Tabor became a royal town; the privilege was granted by the Holy Roman Emperor and Czech King Sigismund of Luxembourg.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Obrázek 1" descr="TABOR II (10).JPG"/>
          <p:cNvPicPr/>
          <p:nvPr/>
        </p:nvPicPr>
        <p:blipFill>
          <a:blip r:embed="rId1"/>
          <a:stretch/>
        </p:blipFill>
        <p:spPr>
          <a:xfrm>
            <a:off x="250920" y="0"/>
            <a:ext cx="8424720" cy="4619520"/>
          </a:xfrm>
          <a:prstGeom prst="rect">
            <a:avLst/>
          </a:prstGeom>
          <a:ln w="0">
            <a:noFill/>
          </a:ln>
        </p:spPr>
      </p:pic>
      <p:sp>
        <p:nvSpPr>
          <p:cNvPr id="137" name="TextovéPole 1"/>
          <p:cNvSpPr/>
          <p:nvPr/>
        </p:nvSpPr>
        <p:spPr>
          <a:xfrm>
            <a:off x="0" y="4869000"/>
            <a:ext cx="9144000" cy="180036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he end of the 15th century brought peace and the town flourished. Tabor underwent a transformation from a military fortress into a real town, and the general features have not changed much ever since.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ovéPole 2"/>
          <p:cNvSpPr/>
          <p:nvPr/>
        </p:nvSpPr>
        <p:spPr>
          <a:xfrm>
            <a:off x="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cs-CZ" sz="5400" spc="-1" strike="noStrike">
                <a:solidFill>
                  <a:srgbClr val="ffffff"/>
                </a:solidFill>
                <a:latin typeface="Arial"/>
              </a:rPr>
              <a:t>NOW, IT´S YOUR TURN</a:t>
            </a:r>
            <a:endParaRPr b="0" lang="en-US" sz="5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9" name="TextovéPole 4"/>
          <p:cNvSpPr/>
          <p:nvPr/>
        </p:nvSpPr>
        <p:spPr>
          <a:xfrm>
            <a:off x="714240" y="2708280"/>
            <a:ext cx="842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40" name="Picture 5" descr="j0234687"/>
          <p:cNvPicPr/>
          <p:nvPr/>
        </p:nvPicPr>
        <p:blipFill>
          <a:blip r:embed="rId1"/>
          <a:stretch/>
        </p:blipFill>
        <p:spPr>
          <a:xfrm>
            <a:off x="3059280" y="3213000"/>
            <a:ext cx="309528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ovéPole 2"/>
          <p:cNvSpPr/>
          <p:nvPr/>
        </p:nvSpPr>
        <p:spPr>
          <a:xfrm>
            <a:off x="0" y="1484280"/>
            <a:ext cx="86169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c00000"/>
                </a:solidFill>
                <a:latin typeface="Arial"/>
              </a:rPr>
              <a:t>INTERVIEW</a:t>
            </a:r>
            <a:endParaRPr b="0" lang="en-US" sz="7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ovéPole 2"/>
          <p:cNvSpPr/>
          <p:nvPr/>
        </p:nvSpPr>
        <p:spPr>
          <a:xfrm>
            <a:off x="0" y="148428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Describe the location of Tabor.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Depict the foundation of the town.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Summarize the town process after the Hussite period.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What was the policy of the town?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3" name="TextovéPole 4"/>
          <p:cNvSpPr/>
          <p:nvPr/>
        </p:nvSpPr>
        <p:spPr>
          <a:xfrm>
            <a:off x="714240" y="2708280"/>
            <a:ext cx="842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ovéPole 2"/>
          <p:cNvSpPr/>
          <p:nvPr/>
        </p:nvSpPr>
        <p:spPr>
          <a:xfrm>
            <a:off x="2644920" y="4449600"/>
            <a:ext cx="3565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                    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Autor: Mgr. Ida Taušlová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Gymnázium Pierra de Coubertina, Tábor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tauslova@gymta.cz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listopad  2012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5" name="TextovéPole 3"/>
          <p:cNvSpPr/>
          <p:nvPr/>
        </p:nvSpPr>
        <p:spPr>
          <a:xfrm>
            <a:off x="2214720" y="2500200"/>
            <a:ext cx="47084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</a:rPr>
              <a:t>Seznam použité literatury a pramenů:</a:t>
            </a:r>
            <a:endParaRPr b="0" lang="en-US" sz="1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TextovéPole 5"/>
          <p:cNvSpPr/>
          <p:nvPr/>
        </p:nvSpPr>
        <p:spPr>
          <a:xfrm>
            <a:off x="755640" y="549360"/>
            <a:ext cx="8120160" cy="10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http://commons.wikimedia.org/wiki/File:Bohemiae_Moraviae_et_Silesiae_(Merian)_139.jpg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http://commons.wikimedia.org/wiki/File:Tabor_CoA_CZ.png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http://commons.wikimedia.org/wiki/File:Tabor_CoA_CZ.png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http://wiki.rvp.cz/@api/deki/files/18563/=Obrysov%25c3%2583%25c2%25a1_mapa_%25c3%2584%25c2%258cR.jpg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Ostatní fotografie: autor: Mgr. Ida Taušlová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Vybíral, Z. </a:t>
            </a:r>
            <a:r>
              <a:rPr b="0" i="1" lang="cs-CZ" sz="1100" spc="-1" strike="noStrike">
                <a:solidFill>
                  <a:srgbClr val="000000"/>
                </a:solidFill>
                <a:latin typeface="Arial - 16"/>
              </a:rPr>
              <a:t>Tábor – informační brožura IC.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Tábor: vydalo Město Tábor, odbor kultury a cestovního ruchu, 1999</a:t>
            </a:r>
            <a:endParaRPr b="0" lang="en-US" sz="11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ovéPole 2"/>
          <p:cNvSpPr/>
          <p:nvPr/>
        </p:nvSpPr>
        <p:spPr>
          <a:xfrm>
            <a:off x="324000" y="1341360"/>
            <a:ext cx="84596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c00000"/>
                </a:solidFill>
                <a:latin typeface="Arial"/>
              </a:rPr>
              <a:t>TABOR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ffffff"/>
                </a:solidFill>
                <a:latin typeface="Arial"/>
              </a:rPr>
              <a:t>OUR  HUSSITE  HERITAGE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3635280" y="3860640"/>
            <a:ext cx="1819440" cy="2160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ovéPole 2"/>
          <p:cNvSpPr/>
          <p:nvPr/>
        </p:nvSpPr>
        <p:spPr>
          <a:xfrm>
            <a:off x="324000" y="-531720"/>
            <a:ext cx="882000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Geography</a:t>
            </a: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3" name="Obdélník 7"/>
          <p:cNvSpPr/>
          <p:nvPr/>
        </p:nvSpPr>
        <p:spPr>
          <a:xfrm>
            <a:off x="395280" y="119700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he City of Tábor lies on the northern edge of South   Bohemia, on the boundary of the Třeboň Basin and the Vlašim Highlands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83 km south of the capital city of Prague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60 km north of České Budějovice (the centre of South Bohemia)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he district is somewhat hilly, there are charming   little hills covered with forests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ovéPole 2"/>
          <p:cNvSpPr/>
          <p:nvPr/>
        </p:nvSpPr>
        <p:spPr>
          <a:xfrm>
            <a:off x="0" y="404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0000"/>
                </a:solidFill>
                <a:latin typeface="Arial"/>
              </a:rPr>
              <a:t>Name two marked points and place the town of Tabor on the map according to the previous information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TextovéPole 4"/>
          <p:cNvSpPr/>
          <p:nvPr/>
        </p:nvSpPr>
        <p:spPr>
          <a:xfrm>
            <a:off x="714240" y="2708280"/>
            <a:ext cx="842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16" name="Obrázek 3" descr="cr_obrys.gif"/>
          <p:cNvPicPr/>
          <p:nvPr/>
        </p:nvPicPr>
        <p:blipFill>
          <a:blip r:embed="rId1"/>
          <a:stretch/>
        </p:blipFill>
        <p:spPr>
          <a:xfrm>
            <a:off x="1692360" y="1773360"/>
            <a:ext cx="6038640" cy="3697200"/>
          </a:xfrm>
          <a:prstGeom prst="rect">
            <a:avLst/>
          </a:prstGeom>
          <a:ln w="0">
            <a:noFill/>
          </a:ln>
        </p:spPr>
      </p:pic>
      <p:sp>
        <p:nvSpPr>
          <p:cNvPr id="117" name="Vývojový diagram: spojka 5"/>
          <p:cNvSpPr/>
          <p:nvPr/>
        </p:nvSpPr>
        <p:spPr>
          <a:xfrm>
            <a:off x="3419640" y="4365720"/>
            <a:ext cx="360360" cy="287280"/>
          </a:xfrm>
          <a:prstGeom prst="flowChartConnector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Vývojový diagram: spojka 6"/>
          <p:cNvSpPr/>
          <p:nvPr/>
        </p:nvSpPr>
        <p:spPr>
          <a:xfrm>
            <a:off x="3564000" y="2852640"/>
            <a:ext cx="457200" cy="432000"/>
          </a:xfrm>
          <a:prstGeom prst="flowChartConnector">
            <a:avLst/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ovéPole 4"/>
          <p:cNvSpPr/>
          <p:nvPr/>
        </p:nvSpPr>
        <p:spPr>
          <a:xfrm>
            <a:off x="714240" y="2708280"/>
            <a:ext cx="8429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TextovéPole 3"/>
          <p:cNvSpPr/>
          <p:nvPr/>
        </p:nvSpPr>
        <p:spPr>
          <a:xfrm>
            <a:off x="1835280" y="0"/>
            <a:ext cx="5545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ff0000"/>
                </a:solidFill>
                <a:latin typeface="Arial Rounded MT Bold"/>
              </a:rPr>
              <a:t>    </a:t>
            </a:r>
            <a:r>
              <a:rPr b="0" lang="cs-CZ" sz="6000" spc="-1" strike="noStrike">
                <a:solidFill>
                  <a:srgbClr val="ff0000"/>
                </a:solidFill>
                <a:latin typeface="Arial Rounded MT Bold"/>
              </a:rPr>
              <a:t>HISTORY</a:t>
            </a:r>
            <a:endParaRPr b="0" lang="en-US" sz="6000" spc="-1" strike="noStrike">
              <a:solidFill>
                <a:srgbClr val="ffffff"/>
              </a:solidFill>
              <a:latin typeface="Arial Rounded MT Bold"/>
            </a:endParaRPr>
          </a:p>
        </p:txBody>
      </p:sp>
      <p:pic>
        <p:nvPicPr>
          <p:cNvPr id="121" name="Picture 5" descr=""/>
          <p:cNvPicPr/>
          <p:nvPr/>
        </p:nvPicPr>
        <p:blipFill>
          <a:blip r:embed="rId1"/>
          <a:stretch/>
        </p:blipFill>
        <p:spPr>
          <a:xfrm>
            <a:off x="971640" y="1052640"/>
            <a:ext cx="7056360" cy="5478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40,31,-38)"/>
                                      </p:to>
                                    </p:set>
                                    <p:set>
                                      <p:cBhvr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40,31,-38)"/>
                                      </p:to>
                                    </p:set>
                                    <p:set>
                                      <p:cBhvr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rázek 1" descr="TABOR II (3).JPG"/>
          <p:cNvPicPr/>
          <p:nvPr/>
        </p:nvPicPr>
        <p:blipFill>
          <a:blip r:embed="rId1"/>
          <a:stretch/>
        </p:blipFill>
        <p:spPr>
          <a:xfrm>
            <a:off x="755640" y="404640"/>
            <a:ext cx="7416720" cy="4464360"/>
          </a:xfrm>
          <a:prstGeom prst="rect">
            <a:avLst/>
          </a:prstGeom>
          <a:ln w="0">
            <a:noFill/>
          </a:ln>
        </p:spPr>
      </p:pic>
      <p:sp>
        <p:nvSpPr>
          <p:cNvPr id="123" name="TextovéPole 1"/>
          <p:cNvSpPr/>
          <p:nvPr/>
        </p:nvSpPr>
        <p:spPr>
          <a:xfrm>
            <a:off x="0" y="5305320"/>
            <a:ext cx="9144000" cy="155700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 Rounded MT Bold"/>
              </a:rPr>
              <a:t>The primary function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of the </a:t>
            </a:r>
            <a:r>
              <a:rPr b="1" lang="cs-CZ" sz="2400" spc="-1" strike="noStrike">
                <a:solidFill>
                  <a:srgbClr val="ffffff"/>
                </a:solidFill>
                <a:latin typeface="Arial Rounded MT Bold"/>
              </a:rPr>
              <a:t>town- fortress was to protect its citizens 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 Rounded MT Bold"/>
              </a:rPr>
              <a:t>against all enemie</a:t>
            </a:r>
            <a:r>
              <a:rPr b="1" lang="cs-CZ" sz="24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cs-CZ" sz="2400" spc="-1" strike="noStrike">
                <a:solidFill>
                  <a:srgbClr val="ffffff"/>
                </a:solidFill>
                <a:latin typeface="Arial Rounded MT Bold"/>
              </a:rPr>
              <a:t>it was built on a promontory above the confluence of the River Tismenicky and the River Luznice.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Obrázek 1" descr="TABOR II (5).JPG"/>
          <p:cNvPicPr/>
          <p:nvPr/>
        </p:nvPicPr>
        <p:blipFill>
          <a:blip r:embed="rId1"/>
          <a:stretch/>
        </p:blipFill>
        <p:spPr>
          <a:xfrm>
            <a:off x="1187280" y="260280"/>
            <a:ext cx="7129800" cy="439272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1"/>
          <p:cNvSpPr/>
          <p:nvPr/>
        </p:nvSpPr>
        <p:spPr>
          <a:xfrm>
            <a:off x="0" y="5484960"/>
            <a:ext cx="9144000" cy="137376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he remarkable history of the town started in the spring of 1420 when a group of followers of the great Catholic reformer Jan Hus came here.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rázek 1" descr="TABOR II (5).JPG"/>
          <p:cNvPicPr/>
          <p:nvPr/>
        </p:nvPicPr>
        <p:blipFill>
          <a:blip r:embed="rId1"/>
          <a:stretch/>
        </p:blipFill>
        <p:spPr>
          <a:xfrm>
            <a:off x="1042920" y="549360"/>
            <a:ext cx="7201080" cy="4363920"/>
          </a:xfrm>
          <a:prstGeom prst="rect">
            <a:avLst/>
          </a:prstGeom>
          <a:ln w="0">
            <a:noFill/>
          </a:ln>
        </p:spPr>
      </p:pic>
      <p:sp>
        <p:nvSpPr>
          <p:cNvPr id="127" name="TextovéPole 1"/>
          <p:cNvSpPr/>
          <p:nvPr/>
        </p:nvSpPr>
        <p:spPr>
          <a:xfrm>
            <a:off x="0" y="5484960"/>
            <a:ext cx="9144000" cy="137376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he hill bore the biblical name Tabor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cs-CZ" sz="2800" spc="-1" strike="noStrike">
                <a:solidFill>
                  <a:srgbClr val="ffffff"/>
                </a:solidFill>
                <a:latin typeface="Arial"/>
              </a:rPr>
              <a:t>The citizens hoped to turn their vision of a just society into reality. 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Obrázek 1" descr="TABOR II (5).JPG"/>
          <p:cNvPicPr/>
          <p:nvPr/>
        </p:nvPicPr>
        <p:blipFill>
          <a:blip r:embed="rId1"/>
          <a:stretch/>
        </p:blipFill>
        <p:spPr>
          <a:xfrm>
            <a:off x="826920" y="692280"/>
            <a:ext cx="7201080" cy="4076640"/>
          </a:xfrm>
          <a:prstGeom prst="rect">
            <a:avLst/>
          </a:prstGeom>
          <a:ln w="0">
            <a:noFill/>
          </a:ln>
        </p:spPr>
      </p:pic>
      <p:sp>
        <p:nvSpPr>
          <p:cNvPr id="129" name="TextovéPole 1"/>
          <p:cNvSpPr/>
          <p:nvPr/>
        </p:nvSpPr>
        <p:spPr>
          <a:xfrm>
            <a:off x="0" y="5300640"/>
            <a:ext cx="9144000" cy="947160"/>
          </a:xfrm>
          <a:prstGeom prst="rect">
            <a:avLst/>
          </a:prstGeom>
          <a:solidFill>
            <a:srgbClr val="6967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 Rounded MT Bold"/>
              </a:rPr>
              <a:t>The town soon became the power base of the Hussite movement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8T08:57:04Z</dcterms:created>
  <dc:creator>Pavel Taušl</dc:creator>
  <dc:description/>
  <dc:language>en-US</dc:language>
  <cp:lastModifiedBy>hchotovinska</cp:lastModifiedBy>
  <dcterms:modified xsi:type="dcterms:W3CDTF">2014-05-15T06:23:15Z</dcterms:modified>
  <cp:revision>137</cp:revision>
  <dc:subject/>
  <dc:title>Snímek 1</dc:title>
</cp:coreProperties>
</file>