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0E97-A117-4575-858E-C33F4608A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AF48-6FB5-4D92-8A25-6B8C3A134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A365-598A-4144-B5BD-2C051D854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05E9-3DFE-4445-88F4-EC48FC95C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C4A5-D02F-4160-92CD-BA83A8F2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EB41-5735-4D30-8CD8-0B532294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6FC-65DC-4472-89D0-5A90A2B8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680-C8A5-4C68-BAB5-97CE4EB0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AD1-D068-4D96-8973-A8F20109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FBE-55D2-4B57-B12A-60E69150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434-8B55-4D0E-84BA-AE6033E1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A6D-6892-4CDF-B875-3D8F02C9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8C9-A8EC-4657-9EC9-73CBCE23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3B7-91CB-4E10-80D9-5A0759DE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E5E-2586-45FB-9A71-D5F1437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A61-E243-411A-8440-BD905B2E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88B-674A-4FAA-9789-7D2FC2C72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en.wikipedia.org/wiki/File:Eug&#232;ne_Delacroix_-_Le_Massacre_de_Scio.jp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static1.assistancescolaire.com/ele/images/h_europe_1815z.jpg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24000" y="227664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2987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 soul</a:t>
            </a:r>
            <a:r>
              <a:rPr b="1" lang="en-US" sz="1100" spc="-1" strike="noStrike">
                <a:solidFill>
                  <a:srgbClr val="000000"/>
                </a:solidFill>
                <a:latin typeface="Arial - 16"/>
                <a:ea typeface="Arial"/>
              </a:rPr>
              <a:t>è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vement gr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tvrt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16000" y="227664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Z_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3"/>
          <p:cNvSpPr/>
          <p:nvPr/>
        </p:nvSpPr>
        <p:spPr>
          <a:xfrm>
            <a:off x="2160720" y="316548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9.4.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ub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628560" y="514440"/>
            <a:ext cx="85154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mage1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en.wikipedia.org/wiki/File:Eug%C3%A8ne_Delacroix_-_Le_Massacre_de_Scio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Image 2: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static1.assistancescolaire.com/ele/images/h_europe_1815z.jp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AVIES, Norma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Evropa: dějiny jednoho kontinent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 V českém jazyce 2., rev. vyd. Praha: Prostor, 2005, 1365 s. ISBN 80-726-0138-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ARPENTIER, J a François LEBRUN. </a:t>
            </a:r>
            <a:r>
              <a:rPr b="0" i="1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istoire de l'Europe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. Vyd. 1. Překlad Martin Hořák. Paris: Seuil, c1990, 620 p. Dějiny Evropy (Vyšehrad). ISBN 20-201-2494-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http://fr.wikipedia.org/wiki/Sc%C3%A8ne_des_massacres_de_Sci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52000" y="25920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tudier un tabl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E"/>
          <p:cNvPicPr/>
          <p:nvPr/>
        </p:nvPicPr>
        <p:blipFill>
          <a:blip r:embed="rId1"/>
          <a:stretch/>
        </p:blipFill>
        <p:spPr>
          <a:xfrm>
            <a:off x="2195640" y="907920"/>
            <a:ext cx="4449600" cy="54435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0" y="6452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Image 1: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en.wikipedia.org/wiki/File:Eug%C3%A8ne_Delacroix_-_Le_Massacre_de_Scio.jpg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E"/>
          <p:cNvPicPr/>
          <p:nvPr/>
        </p:nvPicPr>
        <p:blipFill>
          <a:blip r:embed="rId1"/>
          <a:stretch/>
        </p:blipFill>
        <p:spPr>
          <a:xfrm>
            <a:off x="1809720" y="0"/>
            <a:ext cx="5607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66880" y="-2232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«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Scène des massacres de Scio », 1824,  E. Delacro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E"/>
          <p:cNvPicPr/>
          <p:nvPr/>
        </p:nvPicPr>
        <p:blipFill>
          <a:blip r:embed="rId1"/>
          <a:stretch/>
        </p:blipFill>
        <p:spPr>
          <a:xfrm>
            <a:off x="250920" y="260280"/>
            <a:ext cx="3038400" cy="3716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3492360" y="1699200"/>
            <a:ext cx="56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tableau s´appell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ène des massacres de Scio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ulez des hypo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s sur le tabl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492360" y="309564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qui? Par qui? Pour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trouve Chios? Qui le con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h_europe_1815z"/>
          <p:cNvPicPr/>
          <p:nvPr/>
        </p:nvPicPr>
        <p:blipFill>
          <a:blip r:embed="rId1"/>
          <a:srcRect l="2743" t="0" r="0" b="0"/>
          <a:stretch/>
        </p:blipFill>
        <p:spPr>
          <a:xfrm>
            <a:off x="0" y="1557360"/>
            <a:ext cx="9144000" cy="42940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6084720" y="4869000"/>
            <a:ext cx="1006560" cy="50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6732720" y="3429000"/>
            <a:ext cx="1942920" cy="1079640"/>
          </a:xfrm>
          <a:prstGeom prst="wedgeRoundRectCallout">
            <a:avLst>
              <a:gd name="adj1" fmla="val -27370"/>
              <a:gd name="adj2" fmla="val 91175"/>
              <a:gd name="adj3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est u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 dans la mer Ég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60" y="47628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calisation de Ch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6308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Image 2: </a:t>
            </a:r>
            <a:r>
              <a:rPr b="0" lang="cs-CZ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://static1.assistancescolaire.com/ele/images/h_europe_1815z.jpg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E"/>
          <p:cNvPicPr/>
          <p:nvPr/>
        </p:nvPicPr>
        <p:blipFill>
          <a:blip r:embed="rId1"/>
          <a:stretch/>
        </p:blipFill>
        <p:spPr>
          <a:xfrm>
            <a:off x="2771640" y="2133720"/>
            <a:ext cx="3568680" cy="4365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250920" y="404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assacre de Chios (18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ors du sou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vement des Grecs de Chios contre les Ottomans l´armée ottomane a massacré les habitants de l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le (20 000 morts). Les 45 000 Grecs auraient été vendus comme esclaves. Le tableau a marqué l´opinion publique europé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E"/>
          <p:cNvPicPr/>
          <p:nvPr/>
        </p:nvPicPr>
        <p:blipFill>
          <a:blip r:embed="rId1"/>
          <a:stretch/>
        </p:blipFill>
        <p:spPr>
          <a:xfrm>
            <a:off x="2411280" y="981000"/>
            <a:ext cx="4276800" cy="52308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50560" y="260280"/>
            <a:ext cx="63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alysons le tableau. Qu´est-ce qu´on obse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539640" y="836640"/>
            <a:ext cx="2952720" cy="720720"/>
          </a:xfrm>
          <a:prstGeom prst="wedgeRoundRectCallout">
            <a:avLst>
              <a:gd name="adj1" fmla="val 43976"/>
              <a:gd name="adj2" fmla="val 248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a population civ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 quelle nationalit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651640" y="907920"/>
            <a:ext cx="2952720" cy="649440"/>
          </a:xfrm>
          <a:prstGeom prst="wedgeRoundRectCallout">
            <a:avLst>
              <a:gd name="adj1" fmla="val -32796"/>
              <a:gd name="adj2" fmla="val 17909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sold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 quelle nationalit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0920" y="5445000"/>
            <a:ext cx="2952720" cy="720720"/>
          </a:xfrm>
          <a:prstGeom prst="wedgeRoundRectCallout">
            <a:avLst>
              <a:gd name="adj1" fmla="val 91722"/>
              <a:gd name="adj2" fmla="val -6563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civils morts, blessés ou tortu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5867280" y="5157720"/>
            <a:ext cx="2952720" cy="720720"/>
          </a:xfrm>
          <a:prstGeom prst="wedgeRoundRectCallout">
            <a:avLst>
              <a:gd name="adj1" fmla="val -36990"/>
              <a:gd name="adj2" fmla="val -30242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es soldats triomphants, victor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50200" y="26028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Qu´est-ce qu´on peut en concl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24000" y="1700280"/>
            <a:ext cx="84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population civile grecque de Chios est massacrée par les soldats ottomans. Les habitants de l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î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se sont révoltés contre l´occupation ottomane. Il veulent la libert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 liberté et l´exaltation des sentiments sont aussi les valeurs du nouveau mouvement artistique. L´auteur ce tableau Delacroix l´annonce. Il s´agit du romantisme. L´artiste devient alors un agent important dans la création du sentiment na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"/>
          <p:cNvPicPr/>
          <p:nvPr/>
        </p:nvPicPr>
        <p:blipFill>
          <a:blip r:embed="rId1"/>
          <a:stretch/>
        </p:blipFill>
        <p:spPr>
          <a:xfrm>
            <a:off x="250920" y="765000"/>
            <a:ext cx="3038400" cy="371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492360" y="1699200"/>
            <a:ext cx="5651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tableau s´appelle 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cène des massacres de Scio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Formulez des hypo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è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ses sur le tablea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492360" y="309564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qui? Par qui? Pourqu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trouve Chios? Qui le con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4360" y="1890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ri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24000" y="47242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 massacre de la population civile grec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Par l´armée ottom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es habitants se sont révoltés contre la présence ottom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se trouve dans la mer Ég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hios est cont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ô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é par l´empire otto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16:04:50Z</dcterms:created>
  <dc:creator>mvelik</dc:creator>
  <dc:description/>
  <dc:language>en-US</dc:language>
  <cp:lastModifiedBy>doma</cp:lastModifiedBy>
  <dcterms:modified xsi:type="dcterms:W3CDTF">2014-05-05T21:04:33Z</dcterms:modified>
  <cp:revision>10</cp:revision>
  <dc:subject/>
  <dc:title>Le soulevement grec DZ_2_15</dc:title>
</cp:coreProperties>
</file>