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943-9C6D-43C7-9D0A-CD13475E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DBA-E3CD-499F-813C-1D1593CE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F6E-3804-4776-A99D-3741F3E0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06E-99C9-4B28-8331-66BEA5AB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746-725F-425D-ADD6-B5E972B3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C5B-6490-4F1C-B0EB-6E98C690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274-1CA9-4F65-81DE-6ED84C9C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71A-15F5-4C22-B8DC-77DD7268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790-68F4-4207-9E9D-67DB387F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E6C-71BA-4AB8-93CD-9CF1564F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AA6-0C07-41E6-80E8-13C6A4F9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AD6-C8EC-4AC3-BE4F-25934F80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2453-CA56-4711-91EB-D719770B47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</a:rPr>
              <a:t>Projekt: Inovace vybavení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9"/>
          <p:cNvSpPr/>
          <p:nvPr/>
        </p:nvSpPr>
        <p:spPr>
          <a:xfrm>
            <a:off x="5943600" y="1908000"/>
            <a:ext cx="17240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edmět: matemati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Číslo DUM: 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7"/>
          <p:cNvSpPr/>
          <p:nvPr/>
        </p:nvSpPr>
        <p:spPr>
          <a:xfrm>
            <a:off x="2160720" y="90324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arabo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Eva Novotn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ročník: třet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2_M_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Eva Novotn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4"/>
          <p:cNvSpPr/>
          <p:nvPr/>
        </p:nvSpPr>
        <p:spPr>
          <a:xfrm>
            <a:off x="2160720" y="3429000"/>
            <a:ext cx="2340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CvM 4. ročník (4. B, V8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25"/>
          <p:cNvSpPr/>
          <p:nvPr/>
        </p:nvSpPr>
        <p:spPr>
          <a:xfrm>
            <a:off x="2160720" y="2914560"/>
            <a:ext cx="1763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26. 11.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Eva Novotn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enovotn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15. 11.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3"/>
          <p:cNvSpPr/>
          <p:nvPr/>
        </p:nvSpPr>
        <p:spPr>
          <a:xfrm>
            <a:off x="2217600" y="2514600"/>
            <a:ext cx="4708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5"/>
          <p:cNvSpPr/>
          <p:nvPr/>
        </p:nvSpPr>
        <p:spPr>
          <a:xfrm>
            <a:off x="628560" y="514440"/>
            <a:ext cx="81201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1. Kočandrle, M. a Boček, L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. Matematika pro gymnázia – Analytická geometrie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. Praha: Prometheus, 20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2. Bušek, I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ematika pro gymnázia – Analytická geometrie – sbírka úloh.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Praha: Prometheus, 19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. Petáková, J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ematika – příprava k maturitě a přijímacím zkouškám na VŠ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, Praha: Prometheus, 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4. Černý J. a kol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ematika – přijímací zkoušky na ČVUT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, ČVUT Praha, 20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5. Šařecová P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ematika – příprava na přijímací zkoušky na PEF ČZU v Praze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, PEF ČZU Praha, 20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6. Rosická M. a Eliášová L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Sbírka příkladů z matematiky k přijímacím zkouškám na VŠE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, VŠE Praha, 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7. Mikulčák J. a Charvát J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ematické, fyzikální a chemické tabulky a vzorce pro střední školy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, Praha: Prometheus, 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Parab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rovině je dán bod F a přímka d, která jím neprochází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Množina všech bodů roviny, které mají stejnou vzdálenost od bodu F a od přímky d, se nazývá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arabol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ovéPole 1"/>
          <p:cNvSpPr/>
          <p:nvPr/>
        </p:nvSpPr>
        <p:spPr>
          <a:xfrm>
            <a:off x="250920" y="6237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rametr 2p →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p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=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F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|;|VF|=|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|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½p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Zástupný symbol pro obsah 3" descr="parabola5.png"/>
          <p:cNvPicPr/>
          <p:nvPr/>
        </p:nvPicPr>
        <p:blipFill>
          <a:blip r:embed="rId1"/>
          <a:stretch/>
        </p:blipFill>
        <p:spPr>
          <a:xfrm>
            <a:off x="1763640" y="836640"/>
            <a:ext cx="5256360" cy="374472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"/>
          <p:cNvSpPr/>
          <p:nvPr/>
        </p:nvSpPr>
        <p:spPr>
          <a:xfrm>
            <a:off x="250920" y="4508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1800" spc="-1" strike="noStrike">
                <a:solidFill>
                  <a:srgbClr val="0070c0"/>
                </a:solidFill>
                <a:latin typeface="Calibri"/>
              </a:rPr>
              <a:t>ohnisko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1"/>
          <p:cNvSpPr/>
          <p:nvPr/>
        </p:nvSpPr>
        <p:spPr>
          <a:xfrm>
            <a:off x="250920" y="49417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1800" spc="-1" strike="noStrike">
                <a:solidFill>
                  <a:srgbClr val="7030a0"/>
                </a:solidFill>
                <a:latin typeface="Calibri"/>
              </a:rPr>
              <a:t>řídící přímka 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1"/>
          <p:cNvSpPr/>
          <p:nvPr/>
        </p:nvSpPr>
        <p:spPr>
          <a:xfrm>
            <a:off x="250920" y="53737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sa o → přímka procházející ohniskem F kolmá k řídící přím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1"/>
          <p:cNvSpPr/>
          <p:nvPr/>
        </p:nvSpPr>
        <p:spPr>
          <a:xfrm>
            <a:off x="250920" y="5805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1800" spc="-1" strike="noStrike">
                <a:solidFill>
                  <a:srgbClr val="984807"/>
                </a:solidFill>
                <a:latin typeface="Arial"/>
              </a:rPr>
              <a:t>vr</a:t>
            </a:r>
            <a:r>
              <a:rPr b="0" lang="cs-CZ" sz="1800" spc="-1" strike="noStrike">
                <a:solidFill>
                  <a:srgbClr val="984807"/>
                </a:solidFill>
                <a:latin typeface="Calibri"/>
              </a:rPr>
              <a:t>chol V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→ bod paraboly ležící na os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Nadpis 1"/>
          <p:cNvSpPr/>
          <p:nvPr/>
        </p:nvSpPr>
        <p:spPr>
          <a:xfrm>
            <a:off x="3059280" y="115920"/>
            <a:ext cx="25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Parab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900000" y="549360"/>
            <a:ext cx="7272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rcholová rovnice paraboly</a:t>
            </a:r>
            <a:br>
              <a:rPr sz="36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vrchol v počátku soustavy souřadné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sa x je osou parab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547640" y="551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2p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084720" y="551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-2p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parabola_nova_vpravo"/>
          <p:cNvPicPr/>
          <p:nvPr/>
        </p:nvPicPr>
        <p:blipFill>
          <a:blip r:embed="rId1"/>
          <a:stretch/>
        </p:blipFill>
        <p:spPr>
          <a:xfrm>
            <a:off x="324000" y="2349360"/>
            <a:ext cx="3771720" cy="3022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parabola_nova_vlevo"/>
          <p:cNvPicPr/>
          <p:nvPr/>
        </p:nvPicPr>
        <p:blipFill>
          <a:blip r:embed="rId2"/>
          <a:stretch/>
        </p:blipFill>
        <p:spPr>
          <a:xfrm>
            <a:off x="4786200" y="2349360"/>
            <a:ext cx="37720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73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rcholová rovnice paraboly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vrchol v počátku soustavy souřadné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sa y je osou parab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547640" y="5445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2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148360" y="5589720"/>
            <a:ext cx="23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651640" y="5445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-2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parabola_nova_nahoru"/>
          <p:cNvPicPr/>
          <p:nvPr/>
        </p:nvPicPr>
        <p:blipFill>
          <a:blip r:embed="rId1"/>
          <a:stretch/>
        </p:blipFill>
        <p:spPr>
          <a:xfrm>
            <a:off x="611280" y="2349360"/>
            <a:ext cx="3771720" cy="3022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p_nova_dolu"/>
          <p:cNvPicPr/>
          <p:nvPr/>
        </p:nvPicPr>
        <p:blipFill>
          <a:blip r:embed="rId2"/>
          <a:stretch/>
        </p:blipFill>
        <p:spPr>
          <a:xfrm>
            <a:off x="4788000" y="2349360"/>
            <a:ext cx="377172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80"/>
          </a:xfrm>
          <a:prstGeom prst="rect">
            <a:avLst/>
          </a:prstGeom>
          <a:noFill/>
          <a:ln w="0">
            <a:noFill/>
          </a:ln>
        </p:spPr>
        <p:txBody>
          <a:bodyPr tIns="12960" bIns="12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3" descr="parabola_posun.png"/>
          <p:cNvPicPr/>
          <p:nvPr/>
        </p:nvPicPr>
        <p:blipFill>
          <a:blip r:embed="rId1"/>
          <a:stretch/>
        </p:blipFill>
        <p:spPr>
          <a:xfrm>
            <a:off x="1763640" y="1268280"/>
            <a:ext cx="564192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979640" y="404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un vrcholu paraboly mimo počá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332000" y="765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826920" y="549360"/>
            <a:ext cx="756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rcholová rovnice paraboly</a:t>
            </a:r>
            <a:br>
              <a:rPr sz="36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vrchol v bodě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m,n]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bo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y je rovnoběžná s osou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5640" y="5516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y-n)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2p(x-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932360" y="5516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y-n)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-2p(x-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prabola_posun_1"/>
          <p:cNvPicPr/>
          <p:nvPr/>
        </p:nvPicPr>
        <p:blipFill>
          <a:blip r:embed="rId1"/>
          <a:stretch/>
        </p:blipFill>
        <p:spPr>
          <a:xfrm>
            <a:off x="-4714920" y="-4019400"/>
            <a:ext cx="3772080" cy="302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parabola_nova_posun_vlevo"/>
          <p:cNvPicPr/>
          <p:nvPr/>
        </p:nvPicPr>
        <p:blipFill>
          <a:blip r:embed="rId2"/>
          <a:stretch/>
        </p:blipFill>
        <p:spPr>
          <a:xfrm>
            <a:off x="4786200" y="2349360"/>
            <a:ext cx="3772080" cy="302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parabola_nova_posun_vpravo"/>
          <p:cNvPicPr/>
          <p:nvPr/>
        </p:nvPicPr>
        <p:blipFill>
          <a:blip r:embed="rId3"/>
          <a:stretch/>
        </p:blipFill>
        <p:spPr>
          <a:xfrm>
            <a:off x="611280" y="2349360"/>
            <a:ext cx="377172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826920" y="549360"/>
            <a:ext cx="756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rcholová rovnice paraboly</a:t>
            </a:r>
            <a:br>
              <a:rPr sz="36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vrchol v bodě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m,n]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bo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y je rovnoběžná s osou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00000" y="544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x-m)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2p(y-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003640" y="544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x-m)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-2p(y-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prabola_posun_1"/>
          <p:cNvPicPr/>
          <p:nvPr/>
        </p:nvPicPr>
        <p:blipFill>
          <a:blip r:embed="rId1"/>
          <a:stretch/>
        </p:blipFill>
        <p:spPr>
          <a:xfrm>
            <a:off x="-2700360" y="-3987720"/>
            <a:ext cx="3900600" cy="3128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parabola_nova_posun_nahoru"/>
          <p:cNvPicPr/>
          <p:nvPr/>
        </p:nvPicPr>
        <p:blipFill>
          <a:blip r:embed="rId2"/>
          <a:stretch/>
        </p:blipFill>
        <p:spPr>
          <a:xfrm>
            <a:off x="611280" y="2349360"/>
            <a:ext cx="3771720" cy="302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parabola_nova_posun_dolu"/>
          <p:cNvPicPr/>
          <p:nvPr/>
        </p:nvPicPr>
        <p:blipFill>
          <a:blip r:embed="rId3"/>
          <a:stretch/>
        </p:blipFill>
        <p:spPr>
          <a:xfrm>
            <a:off x="4788000" y="2349360"/>
            <a:ext cx="377172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Obecná rovnice parabo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835280" y="2924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+Ax+By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11280" y="198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 osa rovnoběžná s osou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11280" y="4076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 osa rovnoběžná s osou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835280" y="5013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+Ax+By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8:15:15Z</dcterms:created>
  <dc:creator>enovotna</dc:creator>
  <dc:description/>
  <dc:language>en-US</dc:language>
  <cp:lastModifiedBy>doma</cp:lastModifiedBy>
  <dcterms:modified xsi:type="dcterms:W3CDTF">2014-05-05T22:24:10Z</dcterms:modified>
  <cp:revision>63</cp:revision>
  <dc:subject/>
  <dc:title>Snímek 1</dc:title>
</cp:coreProperties>
</file>