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43A0-BD9E-46DC-AA2A-E2A936FF679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F799-2CE3-4250-A525-659FDB939E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64FF-5CEB-4AEC-9D8C-16291EB2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1371-5F1A-4B50-AAC4-30C5A88C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D608-909B-4475-BC40-54EEF301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9964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9132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796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9964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9132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17B-714E-4135-82F4-DBD3FE7B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2E7F-BB91-492B-AD6A-AD617B94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EAE1-5056-4451-ADC4-2D42A13D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F0C5-5BC2-4EA6-B3CE-55A84651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77DC-5E56-449C-8494-B1E20B8B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28C7-BDBC-43F7-856F-1C676E51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B3F8-D15A-4374-818C-1933EA24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E1D8-926C-4015-A2CE-5D951CD0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31C-CBA4-4025-B02E-1494A88C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AEDE-3B20-4693-9F01-8FF5F80F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CED0-E621-44FE-80AA-922F8330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72D0-D398-49FE-B70A-AB2D658D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A183-3C07-46F4-836E-FC6A9B80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9964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9132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796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9964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9132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BAE3-5491-4908-A7B3-40D39923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B3042-0628-42B8-9DE5-ECD9C499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9DAB5-83BA-4F47-AED2-CFCB4C4F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71F7C-77EA-4339-B280-E4485F06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C97DD-AF9D-464D-93A3-E14EA864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D3C20-7C09-4DA8-96FC-0CB414E0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8C4E-07A6-4ABC-9B73-17B851BD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E56A7-151D-414D-9F5C-EE84B28F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C6960-F520-4E47-BD83-8AB9DB8A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7B8CA-A108-4235-8B3A-2D93F1F9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1E485-46D9-4B5E-866B-883F03BF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2FEF3-75F7-4A44-A1A2-504414C2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8B3F7-6920-40E4-AA8E-58DC674B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9964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69132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796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9964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69132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7DCA9-11AC-4FBE-83A3-26824E18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09619-BDD5-4FEC-BF6E-B45FDB4D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B82C9-2E75-46AB-9A4C-B5B367FF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3F322-3394-4B4B-8263-D45144FB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DC7-F02E-4B95-99DA-68C9D58F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AB282-E67C-4D49-8A2C-4E652229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1AF96-976A-4D7B-9061-D0785A6D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B90E6-CE99-4918-BDE8-320A793F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0020E-8D70-4F5E-9726-6A22C241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D0956-83FA-4D5B-9B62-5AAB6F2F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78859-E84D-4D92-B29C-E05C33AD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EA696-F66A-4D90-AE4F-E939C463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DCB5A-2E55-4E2D-8B9D-FA372C77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9964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9132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796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9964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69132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BDDE4-3E2F-4311-B8F0-DDEB297B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38640-DA56-48DD-8AB5-2099C110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3E6-3658-4270-AE8E-8E6993E3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F98E0-2B82-4CB4-9AF7-CD2E6388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7E042-0CBD-4C41-94E8-2640ED52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EBEAD-69D3-4391-8035-30D9E970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15F1C-6B0A-4052-9313-3ADCBD81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8F4A6-C183-42D7-8FC8-42C342C3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1E323-4CE6-4449-9ABA-17A7E26B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B3B51-5FFA-4105-AF18-535E8CD9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15AEF-1BFD-442C-9A62-6B231FC4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9321F-2729-46CD-A684-B1FFCCA6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4BE1C-EF96-4BEC-AFB7-89030F7D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583-E23D-492B-9061-D0EF2C78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9964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69132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0796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9964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69132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FA136-2513-49A6-937D-A82460CF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729D2-5B03-40E1-9311-91C01DFD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8A483-F579-4105-899E-30C14B92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4910F-4D58-40AE-9D56-914506AD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F9A11-21AC-4F50-8623-C39FF51B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C24EA-1086-4FC7-AD73-B202C960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C89A7-8463-4672-A9EF-5CE9A0D8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B1E62-CCCA-40D8-B4A3-BB83FE95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D905D-0A55-45AC-95CA-CC58DC49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60688-9C57-479F-AC5D-DA947008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FB93-0912-490B-8F47-B62C77BC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BE5D3-0418-4686-986E-25F4F2C2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B15D1-B2BA-4DE2-860C-98F9D43C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9964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69132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0796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9964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69132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1D879-4600-4F04-9827-107F1B36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205B4-5983-4FF0-8655-D91FF28E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460C7-43DE-45D3-BA81-4A103CC0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F1254-E333-4025-842A-D76DB757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5042F-3C9F-4118-954C-E302C1DE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CD172-9AFF-4031-A6EC-B2A2651F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92B48-8BF4-4AB1-8DDC-EE13E6AB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FD8B6-A41B-43A2-A95E-518C7D5E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639-408E-4A92-AE69-F476F792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91EEF-955B-4C7F-9E22-42477DF4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E1A16-DA23-4726-9F3F-4FBF68EC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29A58-8F6F-46E9-9166-3B3B11B5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5D3B9-53B9-4937-A854-33515149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9964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9132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0796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9964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69132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84E93-FAC2-495C-B1DF-153F0CA9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9C018-B527-447B-90DB-3F1B6A9E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254DB-BC21-485D-9FA7-8979D17F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5F833-89B9-4AD6-92E8-EF0FA504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81F93-063E-43F3-9FF1-F0EE7F00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603A0-EDA4-4801-BE6F-0166286F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B7A4-3DF7-4DB3-848B-3BB7FF3C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16DB8-8230-40ED-A08C-75017AAC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27855-9B41-4E86-9C84-1CAA7D34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5BD2D-CBE7-46B9-AC78-2D26557A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737A2-497E-427F-829A-FF3AE98C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071F6-0331-471E-8256-2FA923AF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44CB5-B550-4C10-9028-85EDDB97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9964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69132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796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9964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69132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066B0-0297-4CF2-BDA0-9CA56B5B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2"/>
          <p:cNvSpPr/>
          <p:nvPr/>
        </p:nvSpPr>
        <p:spPr>
          <a:xfrm>
            <a:off x="554040" y="6605640"/>
            <a:ext cx="5489640" cy="1023840"/>
          </a:xfrm>
          <a:custGeom>
            <a:avLst/>
            <a:gdLst>
              <a:gd name="textAreaLeft" fmla="*/ 0 w 5489640"/>
              <a:gd name="textAreaRight" fmla="*/ 5490000 w 548964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11"/>
          <p:cNvSpPr/>
          <p:nvPr/>
        </p:nvSpPr>
        <p:spPr>
          <a:xfrm>
            <a:off x="539640" y="6599160"/>
            <a:ext cx="4100760" cy="1036800"/>
          </a:xfrm>
          <a:custGeom>
            <a:avLst/>
            <a:gdLst>
              <a:gd name="textAreaLeft" fmla="*/ 0 w 4100760"/>
              <a:gd name="textAreaRight" fmla="*/ 4101120 w 410076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úhlý trojúhelník 13"/>
          <p:cNvGrpSpPr/>
          <p:nvPr/>
        </p:nvGrpSpPr>
        <p:grpSpPr>
          <a:xfrm>
            <a:off x="-12600" y="6431040"/>
            <a:ext cx="3792600" cy="1212840"/>
            <a:chOff x="-12600" y="6431040"/>
            <a:chExt cx="3792600" cy="1212840"/>
          </a:xfrm>
        </p:grpSpPr>
        <p:pic>
          <p:nvPicPr>
            <p:cNvPr id="3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6431040"/>
              <a:ext cx="37926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307800" y="7135920"/>
              <a:ext cx="1890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6419880"/>
            <a:ext cx="3799080" cy="1230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0480" indent="-2523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5400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6828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244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22440" indent="-25236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22440" indent="-25236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73600" y="7120080"/>
            <a:ext cx="213372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867200" y="7120080"/>
            <a:ext cx="2611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607320" y="7120080"/>
            <a:ext cx="406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C6D5-33BC-4077-B3E1-C329A128E017}" type="slidenum">
              <a:rPr b="0" lang="cs-CZ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úhlý trojúhelník 10"/>
          <p:cNvSpPr/>
          <p:nvPr/>
        </p:nvSpPr>
        <p:spPr>
          <a:xfrm>
            <a:off x="0" y="5181480"/>
            <a:ext cx="1016784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400" bIns="-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4680" y="5504040"/>
            <a:ext cx="10164600" cy="2124000"/>
            <a:chOff x="-4680" y="5504040"/>
            <a:chExt cx="10164600" cy="2124000"/>
          </a:xfrm>
        </p:grpSpPr>
        <p:sp>
          <p:nvSpPr>
            <p:cNvPr id="49" name="Volný tvar 16"/>
            <p:cNvSpPr/>
            <p:nvPr/>
          </p:nvSpPr>
          <p:spPr>
            <a:xfrm>
              <a:off x="1879200" y="5504040"/>
              <a:ext cx="8272440" cy="541800"/>
            </a:xfrm>
            <a:custGeom>
              <a:avLst/>
              <a:gdLst>
                <a:gd name="textAreaLeft" fmla="*/ 0 w 8272440"/>
                <a:gd name="textAreaRight" fmla="*/ 8272800 w 827244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lný tvar 18"/>
            <p:cNvSpPr/>
            <p:nvPr/>
          </p:nvSpPr>
          <p:spPr>
            <a:xfrm>
              <a:off x="45360" y="5819040"/>
              <a:ext cx="10106280" cy="874440"/>
            </a:xfrm>
            <a:custGeom>
              <a:avLst/>
              <a:gdLst>
                <a:gd name="textAreaLeft" fmla="*/ 0 w 10106280"/>
                <a:gd name="textAreaRight" fmla="*/ 10106640 w 10106280"/>
                <a:gd name="textAreaTop" fmla="*/ 0 h 874440"/>
                <a:gd name="textAreaBottom" fmla="*/ 874800 h 8744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lný tvar 19"/>
            <p:cNvGrpSpPr/>
            <p:nvPr/>
          </p:nvGrpSpPr>
          <p:grpSpPr>
            <a:xfrm>
              <a:off x="1080" y="5553360"/>
              <a:ext cx="10158840" cy="2074680"/>
              <a:chOff x="1080" y="5553360"/>
              <a:chExt cx="10158840" cy="2074680"/>
            </a:xfrm>
          </p:grpSpPr>
          <p:pic>
            <p:nvPicPr>
              <p:cNvPr id="52" name="Volný tvar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" y="5553360"/>
                <a:ext cx="10158840" cy="20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6480" y="5556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římá spojovací čára 20" descr=""/>
            <p:cNvPicPr/>
            <p:nvPr/>
          </p:nvPicPr>
          <p:blipFill>
            <a:blip r:embed="rId3"/>
            <a:stretch/>
          </p:blipFill>
          <p:spPr>
            <a:xfrm>
              <a:off x="-4680" y="5541120"/>
              <a:ext cx="10164600" cy="9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0480" indent="-2523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5400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6828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244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22440" indent="-25236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22440" indent="-25236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7473600" y="7120080"/>
            <a:ext cx="213372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867200" y="7120080"/>
            <a:ext cx="2611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9607320" y="7120080"/>
            <a:ext cx="406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263D-6075-45D7-8D76-3B723819F505}" type="slidenum">
              <a:rPr b="0" lang="cs-CZ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lný tvar 12"/>
          <p:cNvSpPr/>
          <p:nvPr/>
        </p:nvSpPr>
        <p:spPr>
          <a:xfrm>
            <a:off x="554040" y="6605640"/>
            <a:ext cx="5489640" cy="1023840"/>
          </a:xfrm>
          <a:custGeom>
            <a:avLst/>
            <a:gdLst>
              <a:gd name="textAreaLeft" fmla="*/ 0 w 5489640"/>
              <a:gd name="textAreaRight" fmla="*/ 5490000 w 548964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lný tvar 11"/>
          <p:cNvSpPr/>
          <p:nvPr/>
        </p:nvSpPr>
        <p:spPr>
          <a:xfrm>
            <a:off x="539640" y="6599160"/>
            <a:ext cx="4100760" cy="1036800"/>
          </a:xfrm>
          <a:custGeom>
            <a:avLst/>
            <a:gdLst>
              <a:gd name="textAreaLeft" fmla="*/ 0 w 4100760"/>
              <a:gd name="textAreaRight" fmla="*/ 4101120 w 410076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úhlý trojúhelník 13"/>
          <p:cNvGrpSpPr/>
          <p:nvPr/>
        </p:nvGrpSpPr>
        <p:grpSpPr>
          <a:xfrm>
            <a:off x="-12600" y="6431040"/>
            <a:ext cx="3792600" cy="1212840"/>
            <a:chOff x="-12600" y="6431040"/>
            <a:chExt cx="3792600" cy="1212840"/>
          </a:xfrm>
        </p:grpSpPr>
        <p:pic>
          <p:nvPicPr>
            <p:cNvPr id="99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6431040"/>
              <a:ext cx="37926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07800" y="7135920"/>
              <a:ext cx="1890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6419880"/>
            <a:ext cx="3799080" cy="1230120"/>
          </a:xfrm>
          <a:prstGeom prst="rect">
            <a:avLst/>
          </a:prstGeom>
          <a:ln w="0">
            <a:noFill/>
          </a:ln>
        </p:spPr>
      </p:pic>
      <p:sp>
        <p:nvSpPr>
          <p:cNvPr id="102" name="Dvojitá šipka 10"/>
          <p:cNvSpPr/>
          <p:nvPr/>
        </p:nvSpPr>
        <p:spPr>
          <a:xfrm>
            <a:off x="4040280" y="3340080"/>
            <a:ext cx="203040" cy="254160"/>
          </a:xfrm>
          <a:custGeom>
            <a:avLst/>
            <a:gdLst>
              <a:gd name="textAreaLeft" fmla="*/ 0 w 203040"/>
              <a:gd name="textAreaRight" fmla="*/ 203400 w 2030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vojitá šipka 15"/>
          <p:cNvSpPr/>
          <p:nvPr/>
        </p:nvSpPr>
        <p:spPr>
          <a:xfrm>
            <a:off x="3833640" y="3340080"/>
            <a:ext cx="203400" cy="254160"/>
          </a:xfrm>
          <a:custGeom>
            <a:avLst/>
            <a:gdLst>
              <a:gd name="textAreaLeft" fmla="*/ 0 w 203400"/>
              <a:gd name="textAreaRight" fmla="*/ 203760 w 2034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0480" indent="-2523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5400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6828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2244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22440" indent="-25236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22440" indent="-25236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7473600" y="7120080"/>
            <a:ext cx="213372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867200" y="7120080"/>
            <a:ext cx="2611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9607320" y="7120080"/>
            <a:ext cx="406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2F0E-F9EE-49DD-ABFD-0309C9B2B111}" type="slidenum">
              <a:rPr b="0" lang="cs-CZ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olný tvar 12"/>
          <p:cNvSpPr/>
          <p:nvPr/>
        </p:nvSpPr>
        <p:spPr>
          <a:xfrm>
            <a:off x="554040" y="6605640"/>
            <a:ext cx="5489640" cy="1023840"/>
          </a:xfrm>
          <a:custGeom>
            <a:avLst/>
            <a:gdLst>
              <a:gd name="textAreaLeft" fmla="*/ 0 w 5489640"/>
              <a:gd name="textAreaRight" fmla="*/ 5490000 w 548964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olný tvar 11"/>
          <p:cNvSpPr/>
          <p:nvPr/>
        </p:nvSpPr>
        <p:spPr>
          <a:xfrm>
            <a:off x="539640" y="6599160"/>
            <a:ext cx="4100760" cy="1036800"/>
          </a:xfrm>
          <a:custGeom>
            <a:avLst/>
            <a:gdLst>
              <a:gd name="textAreaLeft" fmla="*/ 0 w 4100760"/>
              <a:gd name="textAreaRight" fmla="*/ 4101120 w 410076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Pravoúhlý trojúhelník 13"/>
          <p:cNvGrpSpPr/>
          <p:nvPr/>
        </p:nvGrpSpPr>
        <p:grpSpPr>
          <a:xfrm>
            <a:off x="-12600" y="6431040"/>
            <a:ext cx="3792600" cy="1212840"/>
            <a:chOff x="-12600" y="6431040"/>
            <a:chExt cx="3792600" cy="1212840"/>
          </a:xfrm>
        </p:grpSpPr>
        <p:pic>
          <p:nvPicPr>
            <p:cNvPr id="148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6431040"/>
              <a:ext cx="37926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07800" y="7135920"/>
              <a:ext cx="1890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6419880"/>
            <a:ext cx="3799080" cy="12301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0480" indent="-2523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5400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6828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2244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22440" indent="-25236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22440" indent="-25236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73600" y="7120080"/>
            <a:ext cx="213372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867200" y="7120080"/>
            <a:ext cx="2611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9607320" y="7120080"/>
            <a:ext cx="406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5281-3447-48F9-86F4-B4F03F7A73F2}" type="slidenum">
              <a:rPr b="0" lang="cs-CZ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0480" indent="-2523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5400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6828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244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22440" indent="-25236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22440" indent="-25236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7473600" y="7120080"/>
            <a:ext cx="213372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867200" y="7120080"/>
            <a:ext cx="2611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9607320" y="7120080"/>
            <a:ext cx="406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3D3D-9AE3-41A0-8D79-3B1ABDED90B2}" type="slidenum">
              <a:rPr b="0" lang="cs-CZ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olný tvar 12"/>
          <p:cNvSpPr/>
          <p:nvPr/>
        </p:nvSpPr>
        <p:spPr>
          <a:xfrm>
            <a:off x="554040" y="6605640"/>
            <a:ext cx="5489640" cy="1023840"/>
          </a:xfrm>
          <a:custGeom>
            <a:avLst/>
            <a:gdLst>
              <a:gd name="textAreaLeft" fmla="*/ 0 w 5489640"/>
              <a:gd name="textAreaRight" fmla="*/ 5490000 w 548964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olný tvar 11"/>
          <p:cNvSpPr/>
          <p:nvPr/>
        </p:nvSpPr>
        <p:spPr>
          <a:xfrm>
            <a:off x="539640" y="6599160"/>
            <a:ext cx="4100760" cy="1036800"/>
          </a:xfrm>
          <a:custGeom>
            <a:avLst/>
            <a:gdLst>
              <a:gd name="textAreaLeft" fmla="*/ 0 w 4100760"/>
              <a:gd name="textAreaRight" fmla="*/ 4101120 w 410076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Pravoúhlý trojúhelník 13"/>
          <p:cNvGrpSpPr/>
          <p:nvPr/>
        </p:nvGrpSpPr>
        <p:grpSpPr>
          <a:xfrm>
            <a:off x="-12600" y="6431040"/>
            <a:ext cx="3792600" cy="1212840"/>
            <a:chOff x="-12600" y="6431040"/>
            <a:chExt cx="3792600" cy="1212840"/>
          </a:xfrm>
        </p:grpSpPr>
        <p:pic>
          <p:nvPicPr>
            <p:cNvPr id="236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6431040"/>
              <a:ext cx="37926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07800" y="7135920"/>
              <a:ext cx="1890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6419880"/>
            <a:ext cx="3799080" cy="12301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0480" indent="-2523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5400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6828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2244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22440" indent="-25236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22440" indent="-25236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7473600" y="7120080"/>
            <a:ext cx="213372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867200" y="7120080"/>
            <a:ext cx="2611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9607320" y="7120080"/>
            <a:ext cx="406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52B6-2592-4DEA-9E16-81127F0FC43B}" type="slidenum">
              <a:rPr b="0" lang="cs-CZ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0480" indent="-2523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5400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6828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244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22440" indent="-25236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22440" indent="-25236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7473600" y="7120080"/>
            <a:ext cx="213372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867200" y="7120080"/>
            <a:ext cx="2611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9607320" y="7120080"/>
            <a:ext cx="406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6F55-C394-4D8E-BD9F-8D72E1F51F86}" type="slidenum">
              <a:rPr b="0" lang="cs-CZ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olný tvar 10"/>
          <p:cNvSpPr/>
          <p:nvPr/>
        </p:nvSpPr>
        <p:spPr>
          <a:xfrm>
            <a:off x="554040" y="6605640"/>
            <a:ext cx="5489640" cy="1023840"/>
          </a:xfrm>
          <a:custGeom>
            <a:avLst/>
            <a:gdLst>
              <a:gd name="textAreaLeft" fmla="*/ 0 w 5489640"/>
              <a:gd name="textAreaRight" fmla="*/ 5490000 w 548964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olný tvar 15"/>
          <p:cNvSpPr/>
          <p:nvPr/>
        </p:nvSpPr>
        <p:spPr>
          <a:xfrm>
            <a:off x="539640" y="6599160"/>
            <a:ext cx="4100760" cy="1036800"/>
          </a:xfrm>
          <a:custGeom>
            <a:avLst/>
            <a:gdLst>
              <a:gd name="textAreaLeft" fmla="*/ 0 w 4100760"/>
              <a:gd name="textAreaRight" fmla="*/ 4101120 w 410076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Pravoúhlý trojúhelník 16"/>
          <p:cNvGrpSpPr/>
          <p:nvPr/>
        </p:nvGrpSpPr>
        <p:grpSpPr>
          <a:xfrm>
            <a:off x="-12600" y="6431040"/>
            <a:ext cx="3792600" cy="1212840"/>
            <a:chOff x="-12600" y="6431040"/>
            <a:chExt cx="3792600" cy="1212840"/>
          </a:xfrm>
        </p:grpSpPr>
        <p:pic>
          <p:nvPicPr>
            <p:cNvPr id="324" name="Pravoúhlý trojúhelník 16" descr=""/>
            <p:cNvPicPr/>
            <p:nvPr/>
          </p:nvPicPr>
          <p:blipFill>
            <a:blip r:embed="rId3"/>
            <a:stretch/>
          </p:blipFill>
          <p:spPr>
            <a:xfrm>
              <a:off x="-12600" y="6431040"/>
              <a:ext cx="37926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07800" y="7135920"/>
              <a:ext cx="1890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Přímá spojovací čára 18" descr=""/>
          <p:cNvPicPr/>
          <p:nvPr/>
        </p:nvPicPr>
        <p:blipFill>
          <a:blip r:embed="rId4"/>
          <a:stretch/>
        </p:blipFill>
        <p:spPr>
          <a:xfrm>
            <a:off x="-19080" y="6419880"/>
            <a:ext cx="3799080" cy="1230120"/>
          </a:xfrm>
          <a:prstGeom prst="rect">
            <a:avLst/>
          </a:prstGeom>
          <a:ln w="0">
            <a:noFill/>
          </a:ln>
        </p:spPr>
      </p:pic>
      <p:sp>
        <p:nvSpPr>
          <p:cNvPr id="327" name="Dvojitá šipka 19"/>
          <p:cNvSpPr/>
          <p:nvPr/>
        </p:nvSpPr>
        <p:spPr>
          <a:xfrm>
            <a:off x="9626760" y="5541840"/>
            <a:ext cx="203040" cy="254160"/>
          </a:xfrm>
          <a:custGeom>
            <a:avLst/>
            <a:gdLst>
              <a:gd name="textAreaLeft" fmla="*/ 0 w 203040"/>
              <a:gd name="textAreaRight" fmla="*/ 203400 w 2030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vojitá šipka 20"/>
          <p:cNvSpPr/>
          <p:nvPr/>
        </p:nvSpPr>
        <p:spPr>
          <a:xfrm>
            <a:off x="9420120" y="5541840"/>
            <a:ext cx="203400" cy="254160"/>
          </a:xfrm>
          <a:custGeom>
            <a:avLst/>
            <a:gdLst>
              <a:gd name="textAreaLeft" fmla="*/ 0 w 203400"/>
              <a:gd name="textAreaRight" fmla="*/ 203760 w 2034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0480" indent="-2523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5400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6828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2244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22440" indent="-25236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22440" indent="-25236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7473600" y="7120080"/>
            <a:ext cx="213372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867200" y="7120080"/>
            <a:ext cx="2611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9607320" y="7120080"/>
            <a:ext cx="406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E21E-B127-4F00-80FE-902E5D0E41DE}" type="slidenum">
              <a:rPr b="0" lang="cs-CZ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eklamninosice.cz/ukazky-praci/img_webimg/agnesi-musi-kridla-stanek-1006152551_thumb_big.jpg" TargetMode="External"/><Relationship Id="rId2" Type="http://schemas.openxmlformats.org/officeDocument/2006/relationships/hyperlink" Target="http://www.mediaguru.cz/wp-content/uploads/2011/10/vanish_bra1.jpg" TargetMode="External"/><Relationship Id="rId3" Type="http://schemas.openxmlformats.org/officeDocument/2006/relationships/hyperlink" Target="http://www.reklamablog.cz/wp-content/uploads/macfriespedestriancrossing.preview-500x353.jp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ovéPole 1"/>
          <p:cNvSpPr/>
          <p:nvPr/>
        </p:nvSpPr>
        <p:spPr>
          <a:xfrm>
            <a:off x="1828800" y="190440"/>
            <a:ext cx="650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Projekt: Inovace vybavení   Registrační číslo projektu: CZ.1.07/1.5.00/03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ovéPole 2"/>
          <p:cNvSpPr/>
          <p:nvPr/>
        </p:nvSpPr>
        <p:spPr>
          <a:xfrm>
            <a:off x="787320" y="482760"/>
            <a:ext cx="858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     </a:t>
            </a: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Příjemce: Gymnázium Pierra de Coubertina, Tábor, Náměstí Františka Křižíka 860, 390 01 Tá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595520" y="5880240"/>
            <a:ext cx="6968880" cy="1342800"/>
          </a:xfrm>
          <a:prstGeom prst="rect">
            <a:avLst/>
          </a:prstGeom>
          <a:ln w="0">
            <a:noFill/>
          </a:ln>
        </p:spPr>
      </p:pic>
      <p:sp>
        <p:nvSpPr>
          <p:cNvPr id="380" name="TextovéPole 4"/>
          <p:cNvSpPr/>
          <p:nvPr/>
        </p:nvSpPr>
        <p:spPr>
          <a:xfrm>
            <a:off x="876240" y="5410080"/>
            <a:ext cx="840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Tento výukový materiál vznikl v rámci Operačního programu Vzdělání pro konkurenceschopno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ovéPole 5"/>
          <p:cNvSpPr/>
          <p:nvPr/>
        </p:nvSpPr>
        <p:spPr>
          <a:xfrm>
            <a:off x="0" y="4838760"/>
            <a:ext cx="1033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Materiál je určen k bezplatnému používání pro potřeby výuky a vzdělávání na všech typech škol a školských zaříze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Jakékoliv další používání podléhá autorskému zákon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ovéPole 6"/>
          <p:cNvSpPr/>
          <p:nvPr/>
        </p:nvSpPr>
        <p:spPr>
          <a:xfrm>
            <a:off x="355680" y="129528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Autor materiál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ovéPole 7"/>
          <p:cNvSpPr/>
          <p:nvPr/>
        </p:nvSpPr>
        <p:spPr>
          <a:xfrm>
            <a:off x="368280" y="100332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Název materiálu:</a:t>
            </a: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ovéPole 8"/>
          <p:cNvSpPr/>
          <p:nvPr/>
        </p:nvSpPr>
        <p:spPr>
          <a:xfrm>
            <a:off x="355680" y="24130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Sa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ovéPole 9"/>
          <p:cNvSpPr/>
          <p:nvPr/>
        </p:nvSpPr>
        <p:spPr>
          <a:xfrm>
            <a:off x="5800680" y="21207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Předmět: mediální výcho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ovéPole 10"/>
          <p:cNvSpPr/>
          <p:nvPr/>
        </p:nvSpPr>
        <p:spPr>
          <a:xfrm>
            <a:off x="355680" y="1828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Zařazení materiál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ovéPole 11"/>
          <p:cNvSpPr/>
          <p:nvPr/>
        </p:nvSpPr>
        <p:spPr>
          <a:xfrm>
            <a:off x="355680" y="21207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Šablon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ovéPole 12"/>
          <p:cNvSpPr/>
          <p:nvPr/>
        </p:nvSpPr>
        <p:spPr>
          <a:xfrm>
            <a:off x="6603840" y="2425680"/>
            <a:ext cx="243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Číslo DUM: 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ovéPole 13"/>
          <p:cNvSpPr/>
          <p:nvPr/>
        </p:nvSpPr>
        <p:spPr>
          <a:xfrm>
            <a:off x="355680" y="2946240"/>
            <a:ext cx="30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Ověření materiálu ve výu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ovéPole 14"/>
          <p:cNvSpPr/>
          <p:nvPr/>
        </p:nvSpPr>
        <p:spPr>
          <a:xfrm>
            <a:off x="355680" y="3238560"/>
            <a:ext cx="213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Datum ověření: 16. 5.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ovéPole 15"/>
          <p:cNvSpPr/>
          <p:nvPr/>
        </p:nvSpPr>
        <p:spPr>
          <a:xfrm>
            <a:off x="355680" y="380988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Třída: 2.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ovéPole 16"/>
          <p:cNvSpPr/>
          <p:nvPr/>
        </p:nvSpPr>
        <p:spPr>
          <a:xfrm>
            <a:off x="355680" y="3530520"/>
            <a:ext cx="40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Ověřující učitel: PhDr. Jiří Ká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ovéPole 17"/>
          <p:cNvSpPr/>
          <p:nvPr/>
        </p:nvSpPr>
        <p:spPr>
          <a:xfrm>
            <a:off x="2416320" y="1001880"/>
            <a:ext cx="323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Outdoorová relama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ovéPole 18"/>
          <p:cNvSpPr/>
          <p:nvPr/>
        </p:nvSpPr>
        <p:spPr>
          <a:xfrm>
            <a:off x="2400480" y="1295280"/>
            <a:ext cx="177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Petra Husá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ovéPole 19"/>
          <p:cNvSpPr/>
          <p:nvPr/>
        </p:nvSpPr>
        <p:spPr>
          <a:xfrm>
            <a:off x="1244520" y="2120760"/>
            <a:ext cx="518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Inovace a zkvalitnění výuky prostřednictvím ICT (III/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ovéPole 20"/>
          <p:cNvSpPr/>
          <p:nvPr/>
        </p:nvSpPr>
        <p:spPr>
          <a:xfrm>
            <a:off x="8051760" y="2120760"/>
            <a:ext cx="180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ročník: 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druh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ovéPole 21"/>
          <p:cNvSpPr/>
          <p:nvPr/>
        </p:nvSpPr>
        <p:spPr>
          <a:xfrm>
            <a:off x="1244520" y="2413080"/>
            <a:ext cx="26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32_Mv_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ovéPole 22"/>
          <p:cNvSpPr/>
          <p:nvPr/>
        </p:nvSpPr>
        <p:spPr>
          <a:xfrm>
            <a:off x="8051760" y="2387520"/>
            <a:ext cx="132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"/>
          <p:cNvSpPr/>
          <p:nvPr/>
        </p:nvSpPr>
        <p:spPr>
          <a:xfrm>
            <a:off x="471600" y="627480"/>
            <a:ext cx="8496360" cy="37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doorová reklama  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o si představíte pod pojmem outdoorová reklam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V následujících reklamách určete, na jakou cílovou skupinu jsou zaměřen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Vytvořte charakteristiku ideálního příjemce. Nápovědou může být,  že v prvním případě se jedná o reklamu na těstoviny, ve druhém na boj s rakovinou prsu, ve třetí na fast fo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Jsou zvolené formy reklamy vhodné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Obrázek 1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46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Obrázek 2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46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Obrázek 3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Volný tvar 1"/>
          <p:cNvSpPr/>
          <p:nvPr/>
        </p:nvSpPr>
        <p:spPr>
          <a:xfrm>
            <a:off x="2908440" y="3973680"/>
            <a:ext cx="4343400" cy="156204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ovéPole 2"/>
          <p:cNvSpPr/>
          <p:nvPr/>
        </p:nvSpPr>
        <p:spPr>
          <a:xfrm>
            <a:off x="3124080" y="4127400"/>
            <a:ext cx="3962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Aut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Petra Husá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Gymnázium Pierra de Coubertina, Tá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husakov@seznam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květen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ovéPole 3"/>
          <p:cNvSpPr/>
          <p:nvPr/>
        </p:nvSpPr>
        <p:spPr>
          <a:xfrm>
            <a:off x="2463840" y="2793960"/>
            <a:ext cx="523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Objekty použité k vytvoření sešitu pocházejí z veřejných knihoven obrázků (public domain) nebo jsou vlastní originální tvorbou auto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ovéPole 4"/>
          <p:cNvSpPr/>
          <p:nvPr/>
        </p:nvSpPr>
        <p:spPr>
          <a:xfrm>
            <a:off x="228600" y="203040"/>
            <a:ext cx="49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 - 20"/>
              </a:rPr>
              <a:t>Seznam použité literatury a pramenů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ovéPole 5"/>
          <p:cNvSpPr/>
          <p:nvPr/>
        </p:nvSpPr>
        <p:spPr>
          <a:xfrm>
            <a:off x="399960" y="641520"/>
            <a:ext cx="4103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http://www.reklamninosice.cz/ukazky-praci/img_webimg/agnesi-musi-kridla-stanek-1006152551_thumb_big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http://www.mediaguru.cz/wp-content/uploads/2011/10/vanish_bra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http://www.reklamablog.cz/wp-content/uploads/macfriespedestriancrossing.preview-500x35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8:20:36Z</dcterms:created>
  <dc:creator>svp</dc:creator>
  <dc:description/>
  <dc:language>en-US</dc:language>
  <cp:lastModifiedBy>marcela</cp:lastModifiedBy>
  <dcterms:modified xsi:type="dcterms:W3CDTF">2013-10-27T18:59:13Z</dcterms:modified>
  <cp:revision>33</cp:revision>
  <dc:subject/>
  <dc:title>Snímek 1</dc:title>
</cp:coreProperties>
</file>