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253-CEEA-440B-9A64-632DD9E5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920-4DB5-4C5A-B019-F29C936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3DD-649D-47F0-9D6F-23E3682F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A10-87ED-43C9-878A-4F0AEBFC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DC8C5-5D75-49B6-9C1C-C5AD5BC9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7003-68DF-49C9-A076-26D825A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C9DA9-FE8B-4620-B757-9DD33CCE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92A45-8C0E-4945-865D-E036311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490E5-2F2C-4E7C-823C-8E99315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C2208-EAC9-4884-A8ED-C40EE6E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9226-5CBC-4EB3-BCDE-3E1D01B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143-C3B0-4162-A933-3405B56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B0F48-3D9F-49E6-813D-6BF6469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6378C-ABE3-41FC-85D9-8670DF0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60F03-E603-4ADB-BB36-7740D6A8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6EC4D-5F62-48BC-A6AE-8E45D0EF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57E35-DACA-42EB-94C1-CAC974F8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A1B2-0587-4BCF-B74B-3EBEDAE7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EE60-3EAB-403B-8558-C397AD29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FF3C-1ABC-4B4A-8883-3F5C854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AB18-6D3C-49E7-ACE7-20F9878D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BF21-3EC8-49AE-86E5-8E03DF19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99C-0044-429C-84A1-7B99396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D2CB-8FAB-4016-8A37-183F8E5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271E-7209-46FB-8A3C-515BC44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2E8D-882A-40DC-BF32-A20564B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49FD-D657-47CD-B0FB-32CDE34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E936-D999-414A-AF59-C518E74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DDD5-35A6-41EB-96D3-9E8D388A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D739-9E88-4774-987A-EB9BA89A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D819B-66EF-4722-9DE8-634A5D78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65447-DC21-47D5-8A11-629FF9A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53DF5-BF91-44BD-B550-97993E22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39A-92E8-4DF6-91FC-1C4F5632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9978E-A652-4B62-BFB0-DA05DAA5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A8A04-47BC-4479-81AD-6790494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936B7-52BD-4C00-9600-69A6164E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9A815-0517-4A9E-9818-A770216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DBB08-E872-45BD-B88E-F22E782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979BD-4F17-4D2A-927A-AC0E7FB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79199-BD2E-4682-A45D-8023EB66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406EE-AFFF-4643-AAFA-784D309A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6FE76-9EDB-4529-A2F8-C4D51E90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03855-0CCE-424C-8FA5-4CF1B948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554-34EE-41FA-8306-64B7A53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9DFE1-DC81-43A5-B61B-3548D79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8575F-F491-4936-8407-667B0D3B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0CE54-1D2C-4824-9CD0-4511106B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21768-1DD8-49D5-B2C6-830590CB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17ACE-AC90-4FF0-870E-E303D64F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9B1B0-055B-4CB5-B98F-024625E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C2636-253F-4AE6-B6D1-4FF186AC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FC31C-E48E-43A6-A1B5-DB48D9C2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5EA5-012C-4515-A10D-D02E19FE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01B37-1D92-4925-BB65-D8C28AB7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C0D-DAC5-400B-A9E8-72FB485B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B7606-98DD-444E-8F5B-A311188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A84B9-FBEB-4FC0-9703-9DAFC4C8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27A42-BCF8-40DB-A6E6-12CF2986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5521E-A544-408B-BCE1-C1B11D9E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FB8C9-3F87-4266-BE9F-41333FB9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DB530-34FC-4B18-A8C8-626CB9B0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0A537-734A-48D4-B439-85394FBD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E7B23-C28E-40F9-8F26-D2696BA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0C367-AC02-4AC4-92E6-33532F7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63696-FD40-45D4-8C43-34C19F31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DD3-0F09-4D95-9EBB-DA5A5D6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70A3E-D1F2-45A0-9069-2C1C2A82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FC081-ED9D-4841-A04B-830FC613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0F128-B745-4722-B23D-4C5AC7C3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37A-1555-41CC-A303-403DFA8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603-DEDC-4620-95D9-E3A1F4D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nice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nice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nice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nice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4089-8D83-401B-B163-595429F0154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římá spojnice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římá spojnice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římá spojnice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nice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158F-3884-413E-95C7-6B65E697D3B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římá spojnice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římá spojnice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římá spojnice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římá spojnice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římá spojnice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Ová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Ová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Ová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vá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Ová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římá spojnice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54A-90A7-42C7-92B7-29539CC7647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římá spojnice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římá spojnice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římá spojnice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nice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8FC-F00C-45B1-9225-E2C926D21AC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římá spojnice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římá spojnice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římá spojnice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římá spojnice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římá spojnice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Ová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8E4C-BEC8-4C30-97AF-899B7DA93B8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římá spojnice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Ová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římá spojnice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římá spojnice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římá spojnice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římá spojnice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FC10-236D-44D9-A424-827207872ADE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6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297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TextovéPole 9"/>
          <p:cNvSpPr/>
          <p:nvPr/>
        </p:nvSpPr>
        <p:spPr>
          <a:xfrm>
            <a:off x="5076720" y="1916280"/>
            <a:ext cx="223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7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TextovéPole 17"/>
          <p:cNvSpPr/>
          <p:nvPr/>
        </p:nvSpPr>
        <p:spPr>
          <a:xfrm>
            <a:off x="2160720" y="903240"/>
            <a:ext cx="3274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Komunikační proc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TextovéPole 21"/>
          <p:cNvSpPr/>
          <p:nvPr/>
        </p:nvSpPr>
        <p:spPr>
          <a:xfrm>
            <a:off x="1120680" y="2171880"/>
            <a:ext cx="24145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7. 1. 2013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220464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575f6d"/>
                </a:solidFill>
                <a:latin typeface="Century Schoolbook"/>
              </a:rPr>
              <a:t>KOMUNIKAČNÍ PROCES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O JE TO KOMUNIKAČNÍ PROC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DEFINICE KOMUNIKAČNÍHO PROCES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6560" y="2060640"/>
            <a:ext cx="7572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dná se o proces vzájemného působení mezi komunikujícími partn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 to proces, jehož cílem je přenos sdělení (informace) od komunikátora k adresátovi (příjemci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SCHÉMA KOMUNIKAČNÍHO PROCES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Veselý obličej 3"/>
          <p:cNvSpPr/>
          <p:nvPr/>
        </p:nvSpPr>
        <p:spPr>
          <a:xfrm>
            <a:off x="684360" y="2227320"/>
            <a:ext cx="885600" cy="861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Mrak 5"/>
          <p:cNvSpPr/>
          <p:nvPr/>
        </p:nvSpPr>
        <p:spPr>
          <a:xfrm>
            <a:off x="2627280" y="2316240"/>
            <a:ext cx="1368360" cy="772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70c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Veselý obličej 8"/>
          <p:cNvSpPr/>
          <p:nvPr/>
        </p:nvSpPr>
        <p:spPr>
          <a:xfrm>
            <a:off x="7754760" y="2120760"/>
            <a:ext cx="863640" cy="892440"/>
          </a:xfrm>
          <a:prstGeom prst="smileyFace">
            <a:avLst>
              <a:gd name="adj" fmla="val 9282"/>
            </a:avLst>
          </a:prstGeom>
          <a:solidFill>
            <a:srgbClr val="f8ef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Šipka doprava 9"/>
          <p:cNvSpPr/>
          <p:nvPr/>
        </p:nvSpPr>
        <p:spPr>
          <a:xfrm>
            <a:off x="4284720" y="2479680"/>
            <a:ext cx="718920" cy="3999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e863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Rovnoramenný trojúhelník 11"/>
          <p:cNvSpPr/>
          <p:nvPr/>
        </p:nvSpPr>
        <p:spPr>
          <a:xfrm>
            <a:off x="5219640" y="2222640"/>
            <a:ext cx="1008000" cy="6872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Šipka doprava 12"/>
          <p:cNvSpPr/>
          <p:nvPr/>
        </p:nvSpPr>
        <p:spPr>
          <a:xfrm>
            <a:off x="6372360" y="2462040"/>
            <a:ext cx="1152360" cy="4003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TextovéPole 13"/>
          <p:cNvSpPr/>
          <p:nvPr/>
        </p:nvSpPr>
        <p:spPr>
          <a:xfrm>
            <a:off x="96840" y="3284640"/>
            <a:ext cx="17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Komunikátor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TextovéPole 14"/>
          <p:cNvSpPr/>
          <p:nvPr/>
        </p:nvSpPr>
        <p:spPr>
          <a:xfrm>
            <a:off x="262728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TextovéPole 15"/>
          <p:cNvSpPr/>
          <p:nvPr/>
        </p:nvSpPr>
        <p:spPr>
          <a:xfrm>
            <a:off x="4967280" y="3306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Symbol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Šipka doprava 16"/>
          <p:cNvSpPr/>
          <p:nvPr/>
        </p:nvSpPr>
        <p:spPr>
          <a:xfrm>
            <a:off x="1778040" y="2509920"/>
            <a:ext cx="720720" cy="3999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e863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TextovéPole 17"/>
          <p:cNvSpPr/>
          <p:nvPr/>
        </p:nvSpPr>
        <p:spPr>
          <a:xfrm>
            <a:off x="7524720" y="328464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Příjem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TextovéPole 18"/>
          <p:cNvSpPr/>
          <p:nvPr/>
        </p:nvSpPr>
        <p:spPr>
          <a:xfrm>
            <a:off x="6372360" y="20415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Kaná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SLOŽKY KOMUNIKAČNÍHO PROCESU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1. Komunikáto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ten, kdo komunikuje; autor sděle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2. Sděle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to, co sděluji; inform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3. Symboly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řeč, písmo, signály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- přenášeny prostřednictvím kanál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4. Kaná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mluvená řeč, gesta, doteky, ale také tištěný text, televize, internet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5. Příjem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= recipient (adresát) sděle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- 1 či více oso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ÚKOLY K ZAMYŠLE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0000"/>
                </a:solidFill>
                <a:latin typeface="comic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amysli se nad tím, co je nezbytné pro správnou recepci (přijetí) sděl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00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pomeň si na nějaký příklad toho, jakým způsobem probíhá komunikace ve třídě, a zakresli schéma této komunika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TextovéPole 5"/>
          <p:cNvSpPr/>
          <p:nvPr/>
        </p:nvSpPr>
        <p:spPr>
          <a:xfrm>
            <a:off x="611280" y="981000"/>
            <a:ext cx="74721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brázky použity ze sady Offic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8:20:38Z</dcterms:created>
  <dc:creator>doma</dc:creator>
  <dc:description/>
  <dc:language>en-US</dc:language>
  <cp:lastModifiedBy>doma</cp:lastModifiedBy>
  <cp:lastPrinted>2013-01-27T13:49:41Z</cp:lastPrinted>
  <dcterms:modified xsi:type="dcterms:W3CDTF">2014-05-05T22:43:46Z</dcterms:modified>
  <cp:revision>13</cp:revision>
  <dc:subject/>
  <dc:title>Komunikační proces</dc:title>
</cp:coreProperties>
</file>