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B96B-25DB-4E15-A395-33E01417F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DF78-EDAB-42F9-AB8A-B83A3798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8F8F-EDCC-4062-BF7F-9CE0EDB9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9EAD-82CB-40D4-8738-C945C936F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3B63-4F66-43F5-9C58-DC4765D97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854F-8AFB-45BB-AEB7-58355F3A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1406-833A-42C1-9B21-3220D2C9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C8FB-6012-4188-BE5F-F72C35B2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7012-EF5C-4280-8D19-D167FBD7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CC12-47E1-4D49-A39D-A85A72C4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49E8-59E9-4C08-8821-3415D5A4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01E8-B2D7-455D-A413-73FCA6F4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D5E8-2494-47D0-AE15-76AE4DE2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2AB8-D7E9-4B5D-B08F-CAF09FA0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706A-CFE1-45CB-9788-B4B5B52A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D13C-74F8-4C52-81CE-1F9F13377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F346-5FF3-43E0-9CD4-F48EB744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D1B4D-CB9F-4A0C-B85D-E4B7EAFA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B2F85-2A99-48C0-985C-664F1FE1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1CD95-4916-445D-8AC5-21C21934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5320C-B6AB-44DC-95D9-5345FA7C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FB6CE-3C8B-486E-9727-816F265E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B077-08D0-4595-AE1F-BC7F495F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32017-9125-4BF5-98F7-33EACB78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1C60E-5CDB-47E4-BA78-5062AC44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DE1A4-8957-4630-A8F5-E832215C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2CEEE-129B-4696-A08B-B0955AE4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D8FC8-CC65-437E-A540-9EA668A4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A2140-CC46-4FAE-8E40-1F0932363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69F7B-9B59-4C2A-8789-86BCBC3A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B276-2082-488B-A016-CFF4267C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E4AD-37FF-47FB-8AAD-0A135235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7F92-19C9-4AC6-88D8-970BEFA4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25C5-6AA0-4E70-A70F-1D1CCBC3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A5D4-4D2A-43A0-8D2E-1DF69585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216E-F6BB-40CC-B890-98A22688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C3DD-A59E-4D48-92FE-5B6017C4BC50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EC13-4F6A-452D-BFB2-3CD13847D5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07F5-1580-4EE6-BB49-0C5AE7D7BE49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ovéPole 1"/>
          <p:cNvSpPr/>
          <p:nvPr/>
        </p:nvSpPr>
        <p:spPr>
          <a:xfrm>
            <a:off x="1619280" y="26028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               </a:t>
            </a: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rojekt: Inovace vybavení     Registrační číslo projektu CZ.1.07/1.5.00/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"/>
          <p:cNvSpPr/>
          <p:nvPr/>
        </p:nvSpPr>
        <p:spPr>
          <a:xfrm>
            <a:off x="684360" y="54936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130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ovéPole 9"/>
          <p:cNvSpPr/>
          <p:nvPr/>
        </p:nvSpPr>
        <p:spPr>
          <a:xfrm>
            <a:off x="4859280" y="1908000"/>
            <a:ext cx="21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mediální výcho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ovéPole 12"/>
          <p:cNvSpPr/>
          <p:nvPr/>
        </p:nvSpPr>
        <p:spPr>
          <a:xfrm>
            <a:off x="5003640" y="220500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ovéPole 17"/>
          <p:cNvSpPr/>
          <p:nvPr/>
        </p:nvSpPr>
        <p:spPr>
          <a:xfrm>
            <a:off x="2160720" y="903240"/>
            <a:ext cx="428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elevizní pravodajství jako součást masové komunik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ovéPole 18"/>
          <p:cNvSpPr/>
          <p:nvPr/>
        </p:nvSpPr>
        <p:spPr>
          <a:xfrm>
            <a:off x="2160720" y="116532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druh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_Mv_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ovéPole 23"/>
          <p:cNvSpPr/>
          <p:nvPr/>
        </p:nvSpPr>
        <p:spPr>
          <a:xfrm>
            <a:off x="2160720" y="316548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V6. 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ovéPole 25"/>
          <p:cNvSpPr/>
          <p:nvPr/>
        </p:nvSpPr>
        <p:spPr>
          <a:xfrm>
            <a:off x="2160720" y="2914560"/>
            <a:ext cx="1258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18. 3.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9391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6633"/>
                </a:solidFill>
                <a:uFillTx/>
                <a:latin typeface="Garamond"/>
              </a:rPr>
              <a:t>Televizní zpravodajství jako součást masové komunikac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</a:rPr>
              <a:t>Pozorně zhlédni/poslechni následující ukázky a pokus se charakterizovat stěžejní rysy zpravodajství (popř. odlišnosti mezi jednotlivými ukázkami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</a:rPr>
              <a:t>Komerční TV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</a:rPr>
              <a:t>http://doma.nova.cz/multimedia/poledni-televizni-noviny-8-3-2013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</a:rPr>
              <a:t>Veřejnoprávní TV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</a:rPr>
              <a:t>http://www.ceskatelevize.cz/ivysilani/10253066674-zpravy-ve-12/213411012000308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Základní rysy zpravodajstv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ěcnos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otřebné a důležité údaj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esnos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řesnost informac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úplnos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esmí být nic úmyslně vynecháno, opomenu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polehlivos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souvisí s důvěryhodností informac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časnos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citová neutrálno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Konstrukce zpráv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 u="sng">
                <a:solidFill>
                  <a:srgbClr val="000000"/>
                </a:solidFill>
                <a:uFillTx/>
                <a:latin typeface="Arial"/>
              </a:rPr>
              <a:t>Jak by měla být zpráva vystavěn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Kd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C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Kd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Kd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Ja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Proč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Komu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Délka zpráv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 u="sng">
                <a:solidFill>
                  <a:srgbClr val="000000"/>
                </a:solidFill>
                <a:uFillTx/>
                <a:latin typeface="Arial"/>
              </a:rPr>
              <a:t>Jaká by měla být optimální délka zpráv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výzkumu francouzských odborníků se člověk dokáže v případě mediálního vysílání plně soustředit na zprávu asi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!!!20 vteřin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&gt; žurnalisté proto využívají tzv.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„klipové zpravodajstv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růměrná délka jednoho „klipu“ je 39 sekund (veřejnoprávní televize) a 36 sekund (komerční televiz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u rozhlasu je to asi 25 sekund/ 1 zprá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Úkol na závěr </a:t>
            </a:r>
            <a:r>
              <a:rPr b="1" lang="cs-CZ" sz="4200" spc="-1" strike="noStrike" u="sng">
                <a:solidFill>
                  <a:srgbClr val="006633"/>
                </a:solidFill>
                <a:uFillTx/>
                <a:latin typeface="Wingdings"/>
                <a:ea typeface="Wingdings"/>
              </a:rPr>
              <a:t>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964720" cy="158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</a:rPr>
              <a:t>Podívej se na večerní zpravodajství (veřejnoprávní i komerční TV) a změř, jaká byla průměrná délka jednotlivých zpráv („klipů“). Odpovídala délka jednotlivých zpráv průměru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ptac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březen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ovéPole 4"/>
          <p:cNvSpPr/>
          <p:nvPr/>
        </p:nvSpPr>
        <p:spPr>
          <a:xfrm>
            <a:off x="468360" y="404640"/>
            <a:ext cx="44337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5"/>
          <p:cNvSpPr/>
          <p:nvPr/>
        </p:nvSpPr>
        <p:spPr>
          <a:xfrm>
            <a:off x="611280" y="981000"/>
            <a:ext cx="747216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Pospíšil, J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Mediální výchov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. První vydání. Kralice na Hané : Computer Media, 20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doma.nova.cz/multimedia/poledni-televizni-noviny-8-3-2013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www.ceskatelevize.cz/ivysilani/10253066674-zpravy-ve-12/213411012000308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17:08:00Z</dcterms:created>
  <dc:creator>TERKA</dc:creator>
  <dc:description/>
  <dc:language>en-US</dc:language>
  <cp:lastModifiedBy>marcela</cp:lastModifiedBy>
  <dcterms:modified xsi:type="dcterms:W3CDTF">2013-05-07T13:53:00Z</dcterms:modified>
  <cp:revision>12</cp:revision>
  <dc:subject/>
  <dc:title>Snímek 1</dc:title>
</cp:coreProperties>
</file>