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EF1-ED39-4DB1-8620-F5E2AEED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248-CA6E-4098-BBC1-AF4C9CDD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3B6-8115-4E22-9D60-DAA38595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D92-E9BF-440C-9618-667CE3EF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5188-5C3C-4200-A521-3CB1FDD5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F25E-6AB5-4E78-B07A-733D4655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88A5-8FCF-4C94-8017-4A085255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F1DA-E164-4B56-918F-65AE2EAB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D63F-B494-40D3-B93D-CBD4328F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0BC7-9115-4E7F-8538-A2AF9A50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B8F6-C728-41D5-B9ED-DC74FCF3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670-A6BE-4DA9-B9A1-1ECF3ED5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E3FB-D48A-4AE3-97C7-EF7E2D2E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0938-4F5C-42B3-B4F8-CD45AE0E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FF54-677C-4976-B07A-62B53893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E633-DADA-4EFA-B1DD-698EE170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7496-7A31-4C9E-B9B2-DDADC266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9FC05-15C3-4D2E-9FA3-3A2BC5C4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2447A-6F98-4736-8A14-5611C5C3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7FE4F-9B35-4D67-B08F-078642DF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0BC35-0981-418A-852C-4D60ED2A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6EF2E-3D35-45FD-8822-398BCF4D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8C1-DEED-40E1-B6CA-83D6F62E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DBA3-FAD2-49B5-9FB1-D8563D40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2E73-B744-4E53-BE53-F2F3069E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28C0-D9C0-487A-8553-F0D2A9C5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F6FA-475B-475C-8826-40F02AA5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D1A53-E7E9-42F8-9833-5F03DFC7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CCF8-58B3-42DA-8798-59FACBEE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FAFDE-995F-4648-944F-6FF28B68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C9F-3019-4EF4-9D2D-12F7E733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DC7-F208-4DB7-9FEA-0961B782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467-BEF1-4706-850F-F29D5F8A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5BC-87FB-4E03-8EE5-383188A3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2F3-6079-418E-BD1B-ACC1EE69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425-18DC-40E1-BD2A-D5D51B5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BA0C-143F-4068-A37E-1DA92AE928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CFFB-D31B-4EC6-B1D7-5D016924DBC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D1B2-F1CD-457B-AB32-83FBC486F2F9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39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9"/>
          <p:cNvSpPr/>
          <p:nvPr/>
        </p:nvSpPr>
        <p:spPr>
          <a:xfrm>
            <a:off x="4859280" y="1908000"/>
            <a:ext cx="21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12"/>
          <p:cNvSpPr/>
          <p:nvPr/>
        </p:nvSpPr>
        <p:spPr>
          <a:xfrm>
            <a:off x="5003640" y="2205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ovéPole 17"/>
          <p:cNvSpPr/>
          <p:nvPr/>
        </p:nvSpPr>
        <p:spPr>
          <a:xfrm>
            <a:off x="2160720" y="903240"/>
            <a:ext cx="428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ypy zpravodajství - součást masové komunik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5. 3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6666"/>
                </a:solidFill>
                <a:uFillTx/>
                <a:latin typeface="Arial"/>
              </a:rPr>
              <a:t>Typy zpravodajstv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Rozlišujeme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3 základní typy zpravodajství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(zpráv), a to dle toho, jakým způsobem zpravodajství podává „publiku“ informaci či o jaký druh informací se jedná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1. zpravodajství serióz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. zpravodajství bulvár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3. zpravodajství fíčrov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006666"/>
                </a:solidFill>
                <a:uFillTx/>
                <a:latin typeface="Arial"/>
              </a:rPr>
              <a:t>Seriózní zpravodajstv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jedná se o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ZÁKLAD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zpravodajství jako takového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mluvíme o tzv. ryzím informování o aktuálních událoste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</a:rPr>
              <a:t>Charakteristickými rysy seriózního zpravodajství je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věcn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řesn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úpln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polehliv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včasn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citová nezabarven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je nezbytné zmínit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PROMĚNLIVOST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zpravodajských postupů-&gt; některé nové přístupy a metody mohou vést k tomu, že se seriózní zpravodajství přibližuje bulvár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006666"/>
                </a:solidFill>
                <a:uFillTx/>
                <a:latin typeface="Arial"/>
              </a:rPr>
              <a:t>Bulvární zpravodajství 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dhadnete, kdy vzniklo bulvární zpravodajství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Vznik „bulváru“ se datuje na začátek 20. století (původně se jednalo o tisk, který se prodával na bulvárech- ulicích v Anglii-&gt; odtud název „bulvár“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vůrci bulvárního zpravodajství zohledňují lidskou psychiku (zejména pudy)-&gt; odtud pramení i výběr té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Jaká jsou nejčastější bulvární témata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mrt, strach, neštěstí, erotika, násilí, sex, loupeže, at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Kde získává bulvární zpravodajství informace pro své zpráv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3366"/>
                </a:solidFill>
                <a:latin typeface="Arial"/>
              </a:rPr>
              <a:t>pochybné, těžko ověřitelné zdr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006666"/>
                </a:solidFill>
                <a:uFillTx/>
                <a:latin typeface="Arial"/>
              </a:rPr>
              <a:t>Bulvární zpravodajství I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Charakteristika bulvár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není věcn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píše o nesmyslech či nedůležitých věce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nepřesnost (pracuje s domněnkam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neúplnost (téma soustředěno jedním směrem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bez citové neutráln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snaha o co nejrychlejší informace-&gt; předjímání událost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ypické rysy-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velké titulky, krátké texty a barevné fotograf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Druhy bulváru-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měkký (neškodný) X tvrdý (škodí, vymýšlí si, at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006666"/>
                </a:solidFill>
                <a:uFillTx/>
                <a:latin typeface="Arial"/>
              </a:rPr>
              <a:t>Fíčrové zpravodajstv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7128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nachází se na pomezí seriózní a „měkce“ bulvární zpráv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vycházíme z angl. Spojení </a:t>
            </a: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FEATURE NEWS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„lidová, zábavní zpráva“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edná se o taková mediální sdělení, která nejsou až tak důležitá (pro svou věcnost), ale uveřejňují se zejména z důvodu vtipnosti, zajímavosti a zábavn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od bulváru se odlišuje tím, že toto zpravodajství není primitivní, drsné ani odpudivé (neodporuje slušnému vychování či dobrému vkusu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6666"/>
                </a:solidFill>
                <a:uFillTx/>
                <a:latin typeface="Arial"/>
              </a:rPr>
              <a:t>Úkoly na závěr </a:t>
            </a:r>
            <a:r>
              <a:rPr b="1" lang="cs-CZ" sz="3600" spc="-1" strike="noStrike" u="sng">
                <a:solidFill>
                  <a:srgbClr val="006666"/>
                </a:solidFill>
                <a:uFillTx/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terá média můžeme považovat za nositele seriózní komunikac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náte nějaký televizní pořad (vysílaný v ČR), který bychom mohli označit za bulvární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veď příklad fíčrového zpravodajstv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břez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5"/>
          <p:cNvSpPr/>
          <p:nvPr/>
        </p:nvSpPr>
        <p:spPr>
          <a:xfrm>
            <a:off x="611280" y="981000"/>
            <a:ext cx="74721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: Computer Media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9:09:06Z</dcterms:created>
  <dc:creator>TERKA</dc:creator>
  <dc:description/>
  <dc:language>en-US</dc:language>
  <cp:lastModifiedBy>doma</cp:lastModifiedBy>
  <dcterms:modified xsi:type="dcterms:W3CDTF">2014-05-05T22:44:54Z</dcterms:modified>
  <cp:revision>13</cp:revision>
  <dc:subject/>
  <dc:title>Snímek 1</dc:title>
</cp:coreProperties>
</file>