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4E-89AC-4F96-A4BF-E0E24894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EAB-C1D7-43CE-A4BD-8DDB370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143-EFAB-4E57-9FAD-A593BF4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C4A-C98A-4D46-A417-F3E4D420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D96-DF52-468E-952B-92B934F6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4100-CF45-433D-88DB-D5C0103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76B-1364-4262-966E-548826AD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1422-D1E2-487F-9CB5-357036C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32D-6A40-4311-90A3-45B3178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F906-8372-4FFA-8F6A-9436A3F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ABA-B2EB-4734-A2EF-4E5BC2F3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A4F-4FF9-4CA1-BDBA-FDA9932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FBE-094A-4F3E-9D43-DB4751A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D555-BA4E-42C2-8E03-0F9ABD9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9AF0-9B13-40D5-8079-33990B76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01F0-9EDE-4F32-9880-509448FF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6A1-E183-4D81-B5F2-D022EEEA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F303-B7EC-4849-9156-7401A90B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14F8-E2FE-4944-A623-58FDB31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DB81-24BF-457E-86F1-9F9A753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87C3-97A9-4A0E-9966-C646224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F4B3-3EDC-45D1-B9B5-10FD8FE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61B-7FE9-4A16-AA95-59F8B7BD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5383-A03C-4AA7-9E95-5FA78BC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1B870-3D83-4119-A63D-3510C97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E752-3904-4C82-95F2-7D6E976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0ED4-9D91-4372-B123-A32A4B3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1163-A5E4-45AC-8EE0-1F102B57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B477-379F-4DFA-959D-44190853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F986-3CCA-41EE-AAD1-0195FDA3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A99-B4B4-496E-87D4-391F3CD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A2-591D-4CED-8E01-32EFA7C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9EA-B26C-481E-9BB8-C50C69D1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946-E869-4376-8BDC-1A46B5C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BE4-A6D9-4BB9-B3EE-B88B696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4EA-172C-485D-9524-F396C09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D79-9F71-4617-B33E-9F65B1F160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CA3-EB44-4DE2-9C24-824CA3FF145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B4C-0F8B-49E4-BFEC-3B342660727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 Inovace vybavení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pravodajské zdroje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8. 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Zpravodajské zdroje masové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m (=komunikátorem, odesílatelem) masové komunikace (např. zpravodajského sdělení) jsou tzv.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MEDIÁLNÍ 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vým specifickým postavením na trhu vytvářejí odvětví, kterému říkám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MEDIÁLNÍ PRŮMYS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Charakteristika mediální instit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á se o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společensko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plní svou funkci pro obecné blaho společnosti), ale především o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výrob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instituci, která se účastní svou činností hospodářského procesu dané zem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 lze říci, že mediálními institucemi jsou  firmy, které poskytují služby (terciální ekonomický sek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rakteristickým rysem jejich vzniku a chodu je orientovanost na úspěch, což v mediálním průmyslu znamená orientaci na z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Činnost mediálních instituc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inností mediálních institucí j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reagovat na řadu událostí a názo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které se vyskytují ve společ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diální instituce mohou svou činností komunikaci ve společnosti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omezovat a mírnit či podněcovat k tvorbě nových té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Mediální instituce a společno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diální instituce (zdroje masové komunikace) jsou významnou měrou ovlivněna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kulturním kontexte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ve kterém se pohybuj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mediálních institucí ovlivňuje také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ekonomické a politické zázemí země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které má velký podíl na tom, jaká bude forma a obsah sdělení předávaného společ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ůležitý vliv na činnost mediálních institucí má také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očekávání publ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Typy mediálních institucí, tj. zdrojů masové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rozlišujeme mediální instituce na základě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chn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ou při masové komunikaci využívají-&gt;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sou ji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net,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ro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 jiného rozlišujeme mediální instituc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stá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ok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na závěr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náš nějaké mediální instituce, které působí na území Č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íš, které globální mediální instituce je považována za nejprestižnější zdroj informací?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Nápověda: V listopadu 2011 uběhlo 75 let od zahájení její činnos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55:48Z</dcterms:created>
  <dc:creator>TERKA</dc:creator>
  <dc:description/>
  <dc:language>en-US</dc:language>
  <cp:lastModifiedBy>doma</cp:lastModifiedBy>
  <dcterms:modified xsi:type="dcterms:W3CDTF">2014-05-05T22:45:31Z</dcterms:modified>
  <cp:revision>12</cp:revision>
  <dc:subject/>
  <dc:title>Snímek 1</dc:title>
</cp:coreProperties>
</file>