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7A5-909F-4E05-9895-B86A2ACC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4A1-EC99-45E8-B1C3-D4B5FE15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D26-6CA4-4485-BF0C-7BCFF9FB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CE2-A130-4B16-9291-BB6B5ECC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1346-3F06-45AF-B0EC-4F8135DC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98B7-8906-4EE6-B4DD-E8DC2B5F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1683-5782-4E14-BF0C-8B607286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B9A7-E557-4858-B04A-DF6C354C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9589-F3A8-483C-991D-A4306ED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D7E6-2E04-4E82-8C01-28F9D2DE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23C9-38AC-4211-9803-625D80B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44C-627A-4812-95DE-4E387D8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DF66-07B7-4BA4-9D61-29F02BDF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9616-4ED6-42BD-9E81-D35F5C75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0F7-AF64-4DE3-9518-AE6C0FAF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74F0-6D4E-4DE6-8951-EC1B40AF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E9BF-3BB1-4A1B-B121-9E91EEB4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12E3-B1EE-4D87-A7AB-496AF8A2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EEFC-3DC8-437A-A5C5-06E8F6F6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EEE16-EAE1-4827-852B-D9DADE1F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8DB3-4046-4973-AB32-A1DEE70E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0629-95D9-4ECD-B057-846DBAD4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F12-A30B-45A5-891F-98F16EFE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AFD0-1C5A-4650-BDE5-B355B3AE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1E35-3F1B-4A67-8D8F-964BDDC3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FA5ED-D01B-4400-8D04-D6BEA71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AA9B-F563-480C-AA26-63CB361B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AF27-A805-4894-881A-8991A7F5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9E39-663C-410C-A15A-D17036EC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82C4-B7AC-4281-8DDD-C2AB0BE7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B7B-1184-498E-8425-91CF3126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2FD-785A-44EB-AD0A-D4DFC6CD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FDF-EB08-40E0-96F6-1327B6AE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584-E7B0-4B32-9F2A-DB31ED10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191-2A3C-4334-A947-B3B8AF98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005-5861-4ADF-8D80-10685548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5FFC-458B-4DBA-8156-CF66C7C3EC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EFC7-1438-4D6B-BEE5-7584D194888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19E8-28EC-4B7F-B0D5-C2FE982F4D37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43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1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ternet jako prostředek komunikac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5. 4. 201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Co je to internet?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současné době se jedná o nejfrekventovanější elektronické médiu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čet uživatelů internetu roste každým dnem; téměř 50 % domácností v ČR vlastní připojení k interne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ze ho definovat jako prostředek sloužící masové komunik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Princip interne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4895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incip fungování internetu je založen na celosvětovém propojení počítačových sítí. Prostřednictvím těchto sítí mezi sebou uživatelé zařízení s připojením k internetu komunikují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Internet je založen na přenosu informací- dat z jednoho zařízení do druhého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5" descr="Soubor:Internet map 1024.jpg"/>
          <p:cNvPicPr/>
          <p:nvPr/>
        </p:nvPicPr>
        <p:blipFill>
          <a:blip r:embed="rId1"/>
          <a:stretch/>
        </p:blipFill>
        <p:spPr>
          <a:xfrm>
            <a:off x="5292720" y="2170080"/>
            <a:ext cx="3662280" cy="3662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5208120" y="5877000"/>
            <a:ext cx="36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Obr. 1 Grafické zobrazení jedné z částí internet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WWW služ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www z angl.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Worl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Wid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Web-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jedná se o nejposkytovanější službu, kterou internet nabízí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e to služba, která je kombinací grafiky, textu a multimediálních obsahů, jež jsou propojené hypertextovými odkaz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v současné době se služba www stala symbolem internetu jako takové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>
                <a:solidFill>
                  <a:srgbClr val="333399"/>
                </a:solidFill>
                <a:latin typeface="Tahoma"/>
              </a:rPr>
              <a:t>Elektronická pošta (e-mail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569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enoménem dnešního způsobu komunikace je tzv. e-mail (e= electronic + mail= pošt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-mail slouží k rychlému odesílání, doručování a přijímání zpráv, jehož nositeli jsou elektronické komunikační systé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jímavostí je, že elektronická pošta je mnohem starší než internet samotný. O vzniku tohoto způsobu komunikace se hovoří od roku 1965 (1. e-mail byl dle dostupných pramenů odeslaný na podzim v roce 197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On-line komunikace (cha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kud hovoříme o chatu, máme na mysli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munikaci dvou či více lidí, kteří spolu „mluví“ prostřednictví komunikační sítě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á se o komunikaci probíhající v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reálném čas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kdy se slova a věty zapisují do příslušných polí chatovacího softwaru či webové stránky, po odeslání se text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ihned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zobrazí druhému u účastníků komunikace.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n-line komunikace nemusí probíhat pouze psaným projevem. Existují i komunikační sítě, které umožňují on-line komunikaci prostřednictvím internetové telefonie či vid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Otázky na závěr </a:t>
            </a:r>
            <a:r>
              <a:rPr b="1" i="1" lang="cs-CZ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íš, kdy byla zprovozněna 1. webová stránka, jejímž „stvořitelem“ byl Thimothy John Berners-L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K čemu nejčastěji používáte interne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yjmenuj nejznámější poskytovatele e-mailových schráne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Které programy využíváš nejčastěji při on-line komunikaci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Odhadni, kolik se denně odešle ve světě zpráv pomocí e-mail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uben 201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ovéPole 5"/>
          <p:cNvSpPr/>
          <p:nvPr/>
        </p:nvSpPr>
        <p:spPr>
          <a:xfrm>
            <a:off x="611280" y="981000"/>
            <a:ext cx="747216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: Computer Media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Zdroj obrázku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Internet_map_1024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7:48:28Z</dcterms:created>
  <dc:creator>TERKA</dc:creator>
  <dc:description/>
  <dc:language>en-US</dc:language>
  <cp:lastModifiedBy>doma</cp:lastModifiedBy>
  <dcterms:modified xsi:type="dcterms:W3CDTF">2014-05-05T22:46:06Z</dcterms:modified>
  <cp:revision>13</cp:revision>
  <dc:subject/>
  <dc:title>Snímek 1</dc:title>
</cp:coreProperties>
</file>