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264-2CCB-4F5F-8BDF-3738F7E2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53B-0686-44EA-9203-52D753AD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5B6-7DB7-4E68-B419-2F7ABC57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157-BDC9-4D95-9B53-992C1C7D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AB0C-6D0F-41F2-A5CF-2713663A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F8F6-0FA6-4EFD-AB67-218344D8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211F-485B-46B2-AD5E-B9E5289F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2D4F-9D6A-442D-BAB9-F9E9FA18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B8C-F635-4C99-AAFB-020D1FD5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C597-9DD0-4A95-846B-0A347133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07B1-55F8-475F-B7CC-C914662B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DC5-5BBD-4C7D-9483-B9E379E8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D2D8-187E-4B3F-82B0-D54D6F73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1185-28A3-47DB-A437-169EE74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05C5-D550-4BE5-8166-077511E5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1ACF-5BF5-40E6-B8E0-3E14F15E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21DD-361A-4B97-B6A0-35694BEE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20ED-29B6-4B23-9CE4-40283DB9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D397-314F-498F-869B-FBF927B5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DE61-D234-4F07-BEAF-AE169228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B4D1-3746-473A-875B-DAD5D355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DF28-DD4F-449A-B740-8FFB44DD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6E7-EB8F-42EF-BD0F-648E18F6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92E4-2785-45B5-B963-1CB1699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0443-6E08-4FDA-B78F-4AA654D7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C1EA-6A9B-441F-ACE6-0B9C0545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CB90-A13C-4B0C-B0C7-CB41E8CF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C1BD-F55E-4BE2-972D-1C7B4BA0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73BC8-A4E0-4430-AAD6-3901D52D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7D91-87ED-4DC1-A96D-7561C8F2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26D-952D-4753-AE35-58473064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DA3-EC4E-4053-9749-2EF56E1C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EF1-BCF4-44CB-8A3A-36DB04B3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244-4D7B-4F6E-959E-0C3C5726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515-904A-4521-982D-377AADD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9BB-08DC-40E6-8B3B-B191AEB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C48D-029A-4A1E-800A-E8810A93880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1083-BA66-496D-A152-EEF16801A83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C32E-CF35-4670-85E1-6ABCCD65EB6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     Inovace vybavení    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7"/>
          <p:cNvSpPr/>
          <p:nvPr/>
        </p:nvSpPr>
        <p:spPr>
          <a:xfrm>
            <a:off x="2160720" y="903240"/>
            <a:ext cx="3274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tavba publicistických projev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5. 2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Stavba publicistických projevů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jně jako u jiných útvarů, tak i u publicistiky platí, že by jednotlivé útvary měly mít logickou výstav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ublicistických útvarů hovoříme o tzv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„obrácené pyramid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, kde jsou nejprve umístěny ty nejdůležitější informace a směrem ke konci stojí méně a méně podstatná data a fakta, která doplňují informace na počátku tex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„</a:t>
            </a: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Obrácená pyramida“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AutoShape 4"/>
          <p:cNvSpPr/>
          <p:nvPr/>
        </p:nvSpPr>
        <p:spPr>
          <a:xfrm rot="3573000">
            <a:off x="1189440" y="1410120"/>
            <a:ext cx="3024000" cy="259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619280" y="16286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ITU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187280" y="234936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DO, CO, KDY, K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547640" y="30686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Č, J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788000" y="184464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408560" y="1432080"/>
            <a:ext cx="412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140360" y="4653000"/>
            <a:ext cx="41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úvodu je shrnutý celý obsah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6633"/>
                </a:solidFill>
                <a:uFillTx/>
                <a:latin typeface="Garamond"/>
              </a:rPr>
              <a:t>„</a:t>
            </a:r>
            <a:r>
              <a:rPr b="1" lang="cs-CZ" sz="3200" spc="-1" strike="noStrike" u="sng">
                <a:solidFill>
                  <a:srgbClr val="006633"/>
                </a:solidFill>
                <a:uFillTx/>
                <a:latin typeface="Garamond"/>
              </a:rPr>
              <a:t>Stavební kameny“ publicistického útvaru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ITU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livňuje přitažlivost člá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značuje obsah člá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ůležitá je působivost, neotře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to obsahují dějová slov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ěkteré texty jsou rozděleny na menší části pomocí tzv.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mezititulk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 titulek navazuj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VLASTNÍ TEXT (dle charakteru členěný do odstavců, replik…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který je zakončen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podpisovou zkratkou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au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Noviny či časopisy dále zahrnují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hlav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název periodika v ustálené grafické formě - výraznost, estetičn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řádek pod záhlaví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datum, den, číslo, ročník, vydání, popř. ce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dtituly stran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ustálené názvy jednotlivých stran; např. Z regio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ubri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obsahové i graficky ustálené druhy článků; např. Galerie velikánů lidst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razový materiál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fotografie, kresby, karikatury,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pis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doprovodné pro obrazový materiá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zer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lošná, řádková)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iráž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technické a vydavatelské informace; obvykle na poslední straně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Úkoly na závě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7786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 titulek k následujícím fotografiím, který by odpovídal požadavkům publicistického sty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424225_291599384239117_1131905019_n"/>
          <p:cNvPicPr/>
          <p:nvPr/>
        </p:nvPicPr>
        <p:blipFill>
          <a:blip r:embed="rId1"/>
          <a:stretch/>
        </p:blipFill>
        <p:spPr>
          <a:xfrm>
            <a:off x="1619280" y="1916280"/>
            <a:ext cx="5689440" cy="3786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6441480" y="580536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oto č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309309_189919274407129_106220_n"/>
          <p:cNvPicPr/>
          <p:nvPr/>
        </p:nvPicPr>
        <p:blipFill>
          <a:blip r:embed="rId1"/>
          <a:stretch/>
        </p:blipFill>
        <p:spPr>
          <a:xfrm>
            <a:off x="684360" y="692280"/>
            <a:ext cx="3020760" cy="4530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2390400" y="537228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oto č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finale_0119"/>
          <p:cNvPicPr/>
          <p:nvPr/>
        </p:nvPicPr>
        <p:blipFill>
          <a:blip r:embed="rId2"/>
          <a:stretch/>
        </p:blipFill>
        <p:spPr>
          <a:xfrm>
            <a:off x="4976640" y="549360"/>
            <a:ext cx="3122640" cy="4680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9"/>
          <p:cNvSpPr/>
          <p:nvPr/>
        </p:nvSpPr>
        <p:spPr>
          <a:xfrm>
            <a:off x="6710040" y="537228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oto č.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ovéPole 5"/>
          <p:cNvSpPr/>
          <p:nvPr/>
        </p:nvSpPr>
        <p:spPr>
          <a:xfrm>
            <a:off x="611280" y="981000"/>
            <a:ext cx="7472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 : Computer Media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užíková, O. a ko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maturuj z českého jazyk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Druhé vydání. Brno: Didaktis, 200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Fotografie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Z archivu aut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21:30Z</dcterms:created>
  <dc:creator>TERKA</dc:creator>
  <dc:description/>
  <dc:language>en-US</dc:language>
  <cp:lastModifiedBy>doma</cp:lastModifiedBy>
  <dcterms:modified xsi:type="dcterms:W3CDTF">2014-05-05T22:57:40Z</dcterms:modified>
  <cp:revision>10</cp:revision>
  <dc:subject/>
  <dc:title>Snímek 1</dc:title>
</cp:coreProperties>
</file>