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1EF1-0329-4BF4-9680-6A5F7BDD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F177-C09F-4386-AB44-24764154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3FDF-2FB8-471B-B610-73D80B57C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7CDD-D1F4-45E2-A710-77FC61F5F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9C23-88A7-4B20-9A12-32B1F1425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5318-D529-4F40-BDA3-0E54AAC7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A850-354F-4E12-AC4A-4E1DD6C7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3C09-A380-4684-AD3A-5A7EB89E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1152-14A3-435C-BFC2-6F848D22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DE7D-F7FA-4E78-BA7F-333A592E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4DAA-8AED-4344-A531-D02C59BA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F27B-0BA7-4F67-8929-8FC43C23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304B-E630-49C8-BE2B-26D1D271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7595-0506-4D84-BA91-4B11ECF4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2390-9774-44A9-8100-664162E9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54D9-99BE-4D53-A1C0-A00285376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F640-FF83-4573-A593-67B55893F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38B8-853A-4950-9560-A464BA22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7465-D086-4D92-9179-90A96505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9BA0-FA24-4D73-BE03-2F6EDA60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2E91-CA9F-428D-956D-BCECCCF3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2FF8-ABA7-4B48-BAD2-50DAF7D2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14D3-2EF5-48D8-A55C-3ADD5C8C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B5EB-C9DF-4A69-8DD9-FA32D916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9E61-6F51-4258-8373-60E73027BA31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2891-3B2C-430D-959A-555E41293851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ovéPole 1"/>
          <p:cNvSpPr/>
          <p:nvPr/>
        </p:nvSpPr>
        <p:spPr>
          <a:xfrm>
            <a:off x="1619280" y="26028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Inovace vybavení  registrační číslo projektu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ovéPole 2"/>
          <p:cNvSpPr/>
          <p:nvPr/>
        </p:nvSpPr>
        <p:spPr>
          <a:xfrm>
            <a:off x="684360" y="549360"/>
            <a:ext cx="7727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říjemce: Gymnázium </a:t>
            </a:r>
            <a:r>
              <a:rPr b="0" lang="cs-CZ" sz="1600" spc="-1" strike="noStrike">
                <a:solidFill>
                  <a:srgbClr val="000000"/>
                </a:solidFill>
                <a:latin typeface="Arial - 16"/>
                <a:ea typeface="Arial"/>
              </a:rPr>
              <a:t>Pierra</a:t>
            </a: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89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ovéPole 9"/>
          <p:cNvSpPr/>
          <p:nvPr/>
        </p:nvSpPr>
        <p:spPr>
          <a:xfrm>
            <a:off x="5435640" y="1916280"/>
            <a:ext cx="32400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Občanský a společenskovědní zákl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ovéPole 12"/>
          <p:cNvSpPr/>
          <p:nvPr/>
        </p:nvSpPr>
        <p:spPr>
          <a:xfrm>
            <a:off x="5580000" y="242100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17"/>
          <p:cNvSpPr/>
          <p:nvPr/>
        </p:nvSpPr>
        <p:spPr>
          <a:xfrm>
            <a:off x="2160720" y="903240"/>
            <a:ext cx="4643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Kupní smlouva jako příklad závazku občanského prá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véPole 18"/>
          <p:cNvSpPr/>
          <p:nvPr/>
        </p:nvSpPr>
        <p:spPr>
          <a:xfrm>
            <a:off x="2160720" y="116532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20"/>
          <p:cNvSpPr/>
          <p:nvPr/>
        </p:nvSpPr>
        <p:spPr>
          <a:xfrm>
            <a:off x="5508720" y="2133720"/>
            <a:ext cx="1622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druh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21"/>
          <p:cNvSpPr/>
          <p:nvPr/>
        </p:nvSpPr>
        <p:spPr>
          <a:xfrm>
            <a:off x="1120680" y="2171880"/>
            <a:ext cx="4459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_OSZ_ 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23"/>
          <p:cNvSpPr/>
          <p:nvPr/>
        </p:nvSpPr>
        <p:spPr>
          <a:xfrm>
            <a:off x="2160720" y="316548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24"/>
          <p:cNvSpPr/>
          <p:nvPr/>
        </p:nvSpPr>
        <p:spPr>
          <a:xfrm>
            <a:off x="2160720" y="3429000"/>
            <a:ext cx="661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V6.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25"/>
          <p:cNvSpPr/>
          <p:nvPr/>
        </p:nvSpPr>
        <p:spPr>
          <a:xfrm>
            <a:off x="2160720" y="2914560"/>
            <a:ext cx="1258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16. 1.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8569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6633"/>
                </a:solidFill>
                <a:latin typeface="Garamond"/>
              </a:rPr>
              <a:t>KUPNÍ SMLOUVA </a:t>
            </a:r>
            <a:br>
              <a:rPr sz="4000"/>
            </a:br>
            <a:r>
              <a:rPr b="1" lang="cs-CZ" sz="4000" spc="-1" strike="noStrike">
                <a:solidFill>
                  <a:srgbClr val="006633"/>
                </a:solidFill>
                <a:latin typeface="Garamond"/>
              </a:rPr>
              <a:t>jako příklad závazku občanského práva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Kupní smlouv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aramond"/>
              </a:rPr>
              <a:t>Jeden ze základních typů smluv, které jsou součástí tzv. závazkového občanského prá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Garamond"/>
              </a:rPr>
              <a:t>smlouva je založena na tom, že prodávajícímu vzniká povinnost odevzdat kupujícímu předmět koupě, zároveň kupujícímu vzniká povinnost převzít si předmět koupě a zaplatit za něj prodávajícímu dohodnutou c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Garamond"/>
              </a:rPr>
              <a:t>Sché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1187280" y="4724280"/>
            <a:ext cx="648000" cy="6494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5796000" y="4653000"/>
            <a:ext cx="647640" cy="64908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2411280" y="4869000"/>
            <a:ext cx="2305080" cy="431640"/>
          </a:xfrm>
          <a:prstGeom prst="rightArrow">
            <a:avLst>
              <a:gd name="adj1" fmla="val 50000"/>
              <a:gd name="adj2" fmla="val 1335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7"/>
          <p:cNvSpPr/>
          <p:nvPr/>
        </p:nvSpPr>
        <p:spPr>
          <a:xfrm>
            <a:off x="2340000" y="4508640"/>
            <a:ext cx="2232000" cy="433080"/>
          </a:xfrm>
          <a:prstGeom prst="leftArrow">
            <a:avLst>
              <a:gd name="adj1" fmla="val 50000"/>
              <a:gd name="adj2" fmla="val 12884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3132000" y="5373720"/>
            <a:ext cx="792360" cy="719280"/>
          </a:xfrm>
          <a:prstGeom prst="cube">
            <a:avLst>
              <a:gd name="adj" fmla="val 250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FRAG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3132000" y="4005360"/>
            <a:ext cx="863640" cy="431640"/>
          </a:xfrm>
          <a:custGeom>
            <a:avLst/>
            <a:gdLst>
              <a:gd name="textAreaLeft" fmla="*/ 0 w 863640"/>
              <a:gd name="textAreaRight" fmla="*/ 864000 w 863640"/>
              <a:gd name="textAreaTop" fmla="*/ 55800 h 431640"/>
              <a:gd name="textAreaBottom" fmla="*/ 3758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000,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900000" y="5516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dávají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5651640" y="5516640"/>
            <a:ext cx="151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5726520" y="54450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upují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931160" cy="2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 u="sng">
                <a:solidFill>
                  <a:srgbClr val="006633"/>
                </a:solidFill>
                <a:uFillTx/>
                <a:latin typeface="Garamond"/>
              </a:rPr>
              <a:t>Vzor kupní smlouv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4" name="Object 5"/>
          <p:cNvGraphicFramePr/>
          <p:nvPr/>
        </p:nvGraphicFramePr>
        <p:xfrm>
          <a:off x="531720" y="1600200"/>
          <a:ext cx="3889440" cy="453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1600200"/>
                    <a:ext cx="388944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10"/>
          <p:cNvSpPr/>
          <p:nvPr/>
        </p:nvSpPr>
        <p:spPr>
          <a:xfrm>
            <a:off x="395280" y="1052640"/>
            <a:ext cx="374508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Kupní smlou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podle §588 občanského zákoník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málie Kocourková, trvale bytem: Navrátilova 789, Letenice 563 07 (prodávající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udolf Brtnický, trvale bytem: Hořická 67, Chvalkovice 358 00 (kupující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zavírají tuto kupní smlouv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I. Předmět koupě, doba a způsob dodá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odávající se zavazuje na základě této smlouvy dne 14. 2. 2013 osobně předat kupujícímu notebook značky Lenovo I60 v.č. 76904831894 (stáří 1 rok) včetně technické dokument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II. Kupní c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upující se zavazuje zaplatit do 7 dní od dodání notebooku kupní cenu ve výši 10 200,- Kč na bankovní účet prodávajícího číslo 8970643612/ 057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III. Prohlášení kupující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upující tímto prohlašuje, že byl detailně seznámen s technickým stavem notebooku i s jeho stáří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788000" y="1052640"/>
            <a:ext cx="39607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IV. Možnost odstoupení od smlou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kud jedna ze stran poruší některé z ustanovení této smlouvy, je druhá strana oprávněna od smlouvy odstoup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V. Prohlášení st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ě strany prohlašují, že kupní smlouva byla sepsána na základě svobodné vůle. Obě strany si smlouvu přečetly a s jejím obsahem souhlasí a ztvrzují to svými podpis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 Letenicích dne 6. 1.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málie Kocourk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prodávající)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udolf Brtnick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kupující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Úkoly k vypracová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Garamond"/>
              </a:rPr>
              <a:t>Na základě vzorové kupní smlouvy urč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účastníky právního vzta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obsah právního vzta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práva a povinnosti vyplývající z právního vzta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nezbytnosti“ pro platnost kupní smlou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Podle vzorové kupní smlouvy vytvoř svou vlastní kup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smlouvu, kde předmětem koupě bude osobní automob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(není nutná reálná existence údaj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ptackov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leden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4"/>
          <p:cNvSpPr/>
          <p:nvPr/>
        </p:nvSpPr>
        <p:spPr>
          <a:xfrm>
            <a:off x="468360" y="404640"/>
            <a:ext cx="44337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5"/>
          <p:cNvSpPr/>
          <p:nvPr/>
        </p:nvSpPr>
        <p:spPr>
          <a:xfrm>
            <a:off x="611280" y="981000"/>
            <a:ext cx="7472160" cy="11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EMMERT, F. a kol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dmaturuj ze společenských věd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. Brno: Didaktis,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brázky použity ze sady Offi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Vzor kupní smlouvy z archivu auto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7T18:31:52Z</dcterms:created>
  <dc:creator>TERKA</dc:creator>
  <dc:description/>
  <dc:language>en-US</dc:language>
  <cp:lastModifiedBy>hchotovinska</cp:lastModifiedBy>
  <cp:lastPrinted>2013-01-27T14:55:19Z</cp:lastPrinted>
  <dcterms:modified xsi:type="dcterms:W3CDTF">2014-06-09T12:50:56Z</dcterms:modified>
  <cp:revision>8</cp:revision>
  <dc:subject/>
  <dc:title>Snímek 1</dc:title>
</cp:coreProperties>
</file>