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F5B-48EA-4FFA-82FF-309FFAC3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1494-A0C4-4767-9693-62C48A65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8CF-7171-44C3-81F0-6C3D612D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E29-8AFA-43D4-8550-587047D8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240F-0DD6-4DDB-9326-522E6A4C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6983-8398-49DA-9CBC-2BD0CE61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4C5F-9BA3-43C8-BFA0-5D3A6A0E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D77C-3896-4767-9828-64DF8D89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157A-F43D-497C-B2A4-B0FEC5A4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DD60-54D2-4D7D-94B3-783B29E2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60CE-7FE8-48A4-B5D6-E6FB6486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9A64-49AB-4113-A075-7F65B42C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8191-C26F-4A81-84E9-D303E63A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2DD4-8BDB-4CE2-80CA-A28E2787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E864-82AB-4C01-8B7E-715E835E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594E-B2B0-4EDE-A5B1-02D415BA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19E1-C48B-414A-8025-E2B5ED31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0C429-8509-4749-8A35-71180E63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2E6AD-2395-46A3-AECE-BD03C2A0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C0C74-E4A5-4041-AB2F-B536EF88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F7A63-7FDD-42D6-A128-F2B44362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EE748-FAF0-432F-ACF2-1C5406EB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29D6-A2C8-489C-915C-7F707243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261F2-758C-4423-9119-B0721C66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55515-FE95-47FF-B4E7-361A2ADD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75A82-AB06-4D11-A28C-115E4F18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A06CA-E767-41F6-ABCB-6077DE35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C44AA-ECB1-492E-B7DD-8E5D080B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B154B-946B-4B21-9051-085C7E7C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8CDB7-A573-4D9A-96C2-4855B1AD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A71-4393-43FC-861F-BCBAEE6B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21F-E102-41AA-B8AB-2632B0DC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A623-978B-49B5-B316-2E5D87FE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88D7-2140-4A84-ADB3-FFF6EF2D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9561-EB99-4E6B-A9E5-34A194A5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4F4-A263-419D-8039-15F09CAB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8885-EA5A-439F-AEDC-7262DBA2BC7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ED3A-A46D-49D3-8FEA-BC36867C6181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547E-DDB1-4626-9132-6FD840500523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ovéPole 1"/>
          <p:cNvSpPr/>
          <p:nvPr/>
        </p:nvSpPr>
        <p:spPr>
          <a:xfrm>
            <a:off x="1619280" y="26028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Inovace vybavení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"/>
          <p:cNvSpPr/>
          <p:nvPr/>
        </p:nvSpPr>
        <p:spPr>
          <a:xfrm>
            <a:off x="684360" y="54936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130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ovéPole 9"/>
          <p:cNvSpPr/>
          <p:nvPr/>
        </p:nvSpPr>
        <p:spPr>
          <a:xfrm>
            <a:off x="4572000" y="1916280"/>
            <a:ext cx="4572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Seminář z občanského a společenskovědního základ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ovéPole 17"/>
          <p:cNvSpPr/>
          <p:nvPr/>
        </p:nvSpPr>
        <p:spPr>
          <a:xfrm>
            <a:off x="2160720" y="903240"/>
            <a:ext cx="4643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ývoj dětské kresb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20"/>
          <p:cNvSpPr/>
          <p:nvPr/>
        </p:nvSpPr>
        <p:spPr>
          <a:xfrm>
            <a:off x="7667640" y="2205000"/>
            <a:ext cx="11523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čtvrt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21"/>
          <p:cNvSpPr/>
          <p:nvPr/>
        </p:nvSpPr>
        <p:spPr>
          <a:xfrm>
            <a:off x="1120680" y="2171880"/>
            <a:ext cx="4459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OSZ_3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ovéPole 24"/>
          <p:cNvSpPr/>
          <p:nvPr/>
        </p:nvSpPr>
        <p:spPr>
          <a:xfrm>
            <a:off x="2160720" y="3429000"/>
            <a:ext cx="10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4. D, 4. 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ovéPole 25"/>
          <p:cNvSpPr/>
          <p:nvPr/>
        </p:nvSpPr>
        <p:spPr>
          <a:xfrm>
            <a:off x="2160720" y="2914560"/>
            <a:ext cx="1258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1. 2.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38988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Ukázka kresby z období „intelektuálního realismu“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0" name="Picture 4" descr="kresby_0001"/>
          <p:cNvPicPr/>
          <p:nvPr/>
        </p:nvPicPr>
        <p:blipFill>
          <a:blip r:embed="rId1"/>
          <a:stretch/>
        </p:blipFill>
        <p:spPr>
          <a:xfrm>
            <a:off x="4859280" y="404640"/>
            <a:ext cx="3503520" cy="52578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3780000" y="5776920"/>
            <a:ext cx="48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Jedná se o typickou ukázku rentgenového vidě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4. fáze- realistická kresb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06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ato fáze je typická pro dítě školního vě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ítě umí skutečně realisticky zobrazit skutečnost, kresba přestává být spontánní, zvyšuje sebekritika k vlastnímu výko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Ukázka tzv. realistické kresb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5" name="Picture 4" descr="kresby_0014"/>
          <p:cNvPicPr/>
          <p:nvPr/>
        </p:nvPicPr>
        <p:blipFill>
          <a:blip r:embed="rId1"/>
          <a:stretch/>
        </p:blipFill>
        <p:spPr>
          <a:xfrm>
            <a:off x="1116000" y="1125360"/>
            <a:ext cx="67960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Úkoly k zamyšlení </a:t>
            </a:r>
            <a:r>
              <a:rPr b="1" lang="cs-CZ" sz="4200" spc="-1" strike="noStrike" u="sng">
                <a:solidFill>
                  <a:srgbClr val="006633"/>
                </a:solidFill>
                <a:uFillTx/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mysli se nad tím, jaký význam má kresba (a její vývoj) z hlediska psychologi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íš, jak funguje kresba jako diagnostický prostředek u dětí? Uveď příkl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náš pojem tzv.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automatické kresb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ptac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únor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ovéPole 3"/>
          <p:cNvSpPr/>
          <p:nvPr/>
        </p:nvSpPr>
        <p:spPr>
          <a:xfrm>
            <a:off x="2217600" y="2514600"/>
            <a:ext cx="470880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bjekty, použité k vytvoření sešitu, jsou součástí SW Smart Notebook nebo pocházejí z veřejných knihoven obrázků (public domain) nebo jsou vlastní originální tvorbou autor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ovéPole 4"/>
          <p:cNvSpPr/>
          <p:nvPr/>
        </p:nvSpPr>
        <p:spPr>
          <a:xfrm>
            <a:off x="468360" y="404640"/>
            <a:ext cx="4433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ovéPole 5"/>
          <p:cNvSpPr/>
          <p:nvPr/>
        </p:nvSpPr>
        <p:spPr>
          <a:xfrm>
            <a:off x="611280" y="981000"/>
            <a:ext cx="799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edlichová, I., Heřmanová, V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Kapitoly z vývojové psychologi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Ústí nad Labem: UJEP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brázky použity z archivu auto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6633"/>
                </a:solidFill>
                <a:latin typeface="Arial Black"/>
              </a:rPr>
              <a:t>Vývoj dětské kresb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3" name="Picture 4" descr="kresby_0005"/>
          <p:cNvPicPr/>
          <p:nvPr/>
        </p:nvPicPr>
        <p:blipFill>
          <a:blip r:embed="rId1"/>
          <a:stretch/>
        </p:blipFill>
        <p:spPr>
          <a:xfrm>
            <a:off x="2124000" y="1974960"/>
            <a:ext cx="5184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Obecné poznatky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152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resbu můžeme z hlediska psychologie považovat za způsob vyjádření člověka (zejména dítěte) k zobrazovanému ob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sychologii se využívá kresby jako jedné z diagnostických metod (hlavně u dětí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resba je závislá na dosažení určité úrovně schopností  dovedností, které se týkají motoriky, senzomotoriky, kognitivních procesů at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Vývojové fáze dětské kresb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785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Obvykle psychologie rozděluje vývoj kresby u dětí do 4 fáz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 čmáran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prvotní obr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intelektuální realism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. realistická kres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1. fáze- čmárani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jevuje se na konci 1. roku dítě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zniká neúmyslně, z radosti z výtvoru či pohybu, který je do 18. měsíce nahodil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d 18. měsíce dítě kontroluje pohyb ruky, rychlost i směr kresby, rozvíjí se percepčně motorická koordin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800" spc="-1" strike="noStrike" u="sng">
                <a:solidFill>
                  <a:srgbClr val="006633"/>
                </a:solidFill>
                <a:uFillTx/>
                <a:latin typeface="Garamond"/>
              </a:rPr>
              <a:t>Ukázka kresby z období „čmáranice“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Picture 4" descr="kresby_0006"/>
          <p:cNvPicPr/>
          <p:nvPr/>
        </p:nvPicPr>
        <p:blipFill>
          <a:blip r:embed="rId1"/>
          <a:stretch/>
        </p:blipFill>
        <p:spPr>
          <a:xfrm>
            <a:off x="1187280" y="1125360"/>
            <a:ext cx="67960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2. fáze- „prvotní obrys“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ypická okolo 3. rok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ítě kreslí „něco“, jedná se o prvotní obrys, lineární znázornění „něčeho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okáže napodobit různý směr čáry (vertikální, horizontální, kruhov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brázek obvykle dítě nejprve „načmárá“, pak ho nějak pojmenuje (nemusí se podobat realitě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800" spc="-1" strike="noStrike" u="sng">
                <a:solidFill>
                  <a:srgbClr val="006633"/>
                </a:solidFill>
                <a:uFillTx/>
                <a:latin typeface="Garamond"/>
              </a:rPr>
              <a:t>Ukázka z období „prvotního obrysu“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5" name="Picture 4" descr="kresby_0002"/>
          <p:cNvPicPr/>
          <p:nvPr/>
        </p:nvPicPr>
        <p:blipFill>
          <a:blip r:embed="rId1"/>
          <a:stretch/>
        </p:blipFill>
        <p:spPr>
          <a:xfrm>
            <a:off x="395280" y="1052640"/>
            <a:ext cx="6797520" cy="4530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064480" y="5734080"/>
            <a:ext cx="34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Na obrázku je podle výpovědi dítěte dů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3. fáze- intelektuální realism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jevuje se okolo 4. roku dítě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dstatným rysem kresby v této fázi je, že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dítě kreslí to, co ví-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&gt; nekreslí, co vid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ntgenové vidě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rtoskopické vidění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8:30:36Z</dcterms:created>
  <dc:creator>TERKA</dc:creator>
  <dc:description/>
  <dc:language>en-US</dc:language>
  <cp:lastModifiedBy>hchotovinska</cp:lastModifiedBy>
  <dcterms:modified xsi:type="dcterms:W3CDTF">2014-06-09T13:09:51Z</dcterms:modified>
  <cp:revision>14</cp:revision>
  <dc:subject/>
  <dc:title>Snímek 1</dc:title>
</cp:coreProperties>
</file>