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479E-34C8-4DE6-B985-9CA9A3B8B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0873-ADD7-4C35-B5A6-BA6AF635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C342-2147-4B26-99A4-9556D2033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AE0E-44EE-421E-B9FB-09818B1B1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BB7E-981D-4E41-B3B1-AE85FB817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100C-B215-496A-B461-31055CA8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A195-11E9-4D6B-A3F9-4A7B4BB8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17EEE-DB58-4935-BE28-F2BB4589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4520-5D07-4402-8E25-A09EC899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6D3F3-FF0C-43DE-B776-BAF45438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88AD-644D-41D3-A011-C77239B6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300B-F7B6-4CA1-A69A-F17FC416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2BE4-A8DA-421F-BBD6-F4051F6F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7D77A-CF83-4F71-9B45-CDFD6A46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C4A2-D98C-47C7-8AA2-E500DD02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33BD-A47B-4E73-9220-B267F184C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24CE-A651-4C13-A23A-E996365A9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016A2-4216-4E9F-A2B2-9114F9B2F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C148B-A783-4A6F-80EC-55BE7B90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26C90-E5D7-44ED-98E4-76AB527E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B1043-420D-4E83-8152-7D7E8881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BE332-B4BE-45A2-98DC-667E1CF7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4464-8672-4FBB-BA86-992C7C3E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8EC81-8714-49F6-94CB-6C58AF0E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72C89-BEBF-445D-B9F9-2F34B9FD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9A020-7380-42CA-A606-F960A167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4D4DB-C23D-4605-9402-9D80BD83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3E2A7-8F66-47FA-BEF7-8281090A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C34BD-BAFF-46B7-B45D-41B0E6706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A81C2-9A5E-45B4-8697-03294FCF0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29299-BFE0-4A60-A63D-6B3F30520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6FA86-7DF5-4A52-82BB-63020387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6F1A1-C5E8-44A8-B653-69ED7717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6171-D9AE-4EDC-AB8F-A6C9C354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7048A-4B9F-457C-B86A-4F5151F9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33A49-8650-41A3-959C-EE7CE893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4F40B-878A-4AC4-A272-7E1439B2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E323B-2F67-4E4E-BB07-F0B8FB38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54DDD-C6DB-4BF4-977C-BB11B572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3A1E2-3AE6-4E10-B9CA-0ADC5694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8942C-D51C-43B0-9C47-D83FF746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650A7-E9DD-45D7-836F-4935037AC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4FEED-FB25-47D1-AF59-9B190CE61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21709-01C6-44B5-9307-018D59B6F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5A93-A8D1-4BAC-925A-87870E7D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19B46-12C6-4FB6-9BB9-C96A1CAD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1F2DE-628C-4B9F-9099-BA6990C1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82D3C-68CF-4167-B932-1DD38E1E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3CCB0-503E-4D98-BF87-3957C41F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59A0D-2EB2-40F4-B1E5-04AFCD70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A33C2-385C-4B5C-B633-ACB028D0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FBF2B-DC36-4A54-B40F-DEFF9ED8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F533D-A815-4FD3-9363-565C9322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B0C16-791E-4BBE-99F8-BB2B3311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C4567-EB93-48C0-9E7B-816B755B8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5CB7-CA1D-4238-8955-53F4B565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170A4-5B2B-4F64-9DB5-A0F952B5C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437FA-55D7-4AF0-B95C-5E4B8D068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487C6-AFB4-4A9A-959D-A5181C8E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92297-7EFC-405E-8968-37133AD5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6AC83-EDC7-487B-B08E-702FF3D2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5DC4A-749F-4E8F-AE26-07EDED5D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05040-3BBC-4D94-AFBC-0D60E3EE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7E90B-8B15-4E57-A696-75501A4C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6BE87-732D-4BEB-A6C9-CD783832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F4720-EA6F-42B2-9233-4BF68FF5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626E-FA20-4CC3-8F20-B24DD32A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03CB3-122A-4E3A-81E8-CA9C12BA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BE9BD-7D64-44B4-BBCF-FD315121D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62236-2070-4192-9C05-E323DAA12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A414-9503-4824-98B5-C0CF6D62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DDAF-FDB8-4712-8415-9009042B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bdélní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Obdélní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DDB0-DC9F-4D82-A034-5C9BBA0C4600}" type="slidenum">
              <a:rPr b="0" lang="cs-CZ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2152-50C0-46B8-B922-40A4EF45F18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Obdélník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86" name="Obdélník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88" name="Přímá spojnice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01EE-7C88-4325-9031-689DD6256BA6}" type="slidenum">
              <a:rPr b="0" lang="cs-CZ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Obdélní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31" name="Obdélní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7ADE-0C20-41B9-8EF2-48F275460008}" type="slidenum">
              <a:rPr b="0" lang="cs-CZ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Obdélník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Obdélník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C34C-0F0D-4382-9D7C-D179D6377314}" type="slidenum">
              <a:rPr b="0" lang="cs-CZ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Obdélní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218" name="Obdélní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544C-A6B2-4D46-8030-362951958A9F}" type="slidenum">
              <a:rPr b="0" lang="cs-CZ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ovéPole 1"/>
          <p:cNvSpPr/>
          <p:nvPr/>
        </p:nvSpPr>
        <p:spPr>
          <a:xfrm>
            <a:off x="1619280" y="26028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Inovace vybavení  registrační číslo projektu CZ.1.07/1.5.00/34.0325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TextovéPole 2"/>
          <p:cNvSpPr/>
          <p:nvPr/>
        </p:nvSpPr>
        <p:spPr>
          <a:xfrm>
            <a:off x="684360" y="54936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3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436760" y="529272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264" name="TextovéPole 4"/>
          <p:cNvSpPr/>
          <p:nvPr/>
        </p:nvSpPr>
        <p:spPr>
          <a:xfrm>
            <a:off x="789120" y="4869000"/>
            <a:ext cx="7565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TextovéPole 7"/>
          <p:cNvSpPr/>
          <p:nvPr/>
        </p:nvSpPr>
        <p:spPr>
          <a:xfrm>
            <a:off x="331920" y="903240"/>
            <a:ext cx="19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TextovéPole 8"/>
          <p:cNvSpPr/>
          <p:nvPr/>
        </p:nvSpPr>
        <p:spPr>
          <a:xfrm>
            <a:off x="320760" y="217188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TextovéPole 9"/>
          <p:cNvSpPr/>
          <p:nvPr/>
        </p:nvSpPr>
        <p:spPr>
          <a:xfrm>
            <a:off x="4572000" y="1916280"/>
            <a:ext cx="45720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edmět: Seminář z občanského a společenskovědního základu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TextovéPole 12"/>
          <p:cNvSpPr/>
          <p:nvPr/>
        </p:nvSpPr>
        <p:spPr>
          <a:xfrm>
            <a:off x="5943600" y="2182680"/>
            <a:ext cx="12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íslo DUM: 17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TextovéPole 17"/>
          <p:cNvSpPr/>
          <p:nvPr/>
        </p:nvSpPr>
        <p:spPr>
          <a:xfrm>
            <a:off x="2160720" y="903240"/>
            <a:ext cx="46432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oruchy emocí - fobie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TextovéPole 18"/>
          <p:cNvSpPr/>
          <p:nvPr/>
        </p:nvSpPr>
        <p:spPr>
          <a:xfrm>
            <a:off x="2160720" y="1165320"/>
            <a:ext cx="16002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Tereza Ptáčková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TextovéPole 19"/>
          <p:cNvSpPr/>
          <p:nvPr/>
        </p:nvSpPr>
        <p:spPr>
          <a:xfrm>
            <a:off x="1120680" y="1908000"/>
            <a:ext cx="4662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TextovéPole 20"/>
          <p:cNvSpPr/>
          <p:nvPr/>
        </p:nvSpPr>
        <p:spPr>
          <a:xfrm>
            <a:off x="7667640" y="2205000"/>
            <a:ext cx="11523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ročník: třetí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TextovéPole 21"/>
          <p:cNvSpPr/>
          <p:nvPr/>
        </p:nvSpPr>
        <p:spPr>
          <a:xfrm>
            <a:off x="1120680" y="2171880"/>
            <a:ext cx="4459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2_OSZ_3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TextovéPole 23"/>
          <p:cNvSpPr/>
          <p:nvPr/>
        </p:nvSpPr>
        <p:spPr>
          <a:xfrm>
            <a:off x="2160720" y="3165480"/>
            <a:ext cx="16002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Tereza Ptáčková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TextovéPole 24"/>
          <p:cNvSpPr/>
          <p:nvPr/>
        </p:nvSpPr>
        <p:spPr>
          <a:xfrm>
            <a:off x="2160720" y="3429000"/>
            <a:ext cx="10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V7.G, 3.C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TextovéPole 25"/>
          <p:cNvSpPr/>
          <p:nvPr/>
        </p:nvSpPr>
        <p:spPr>
          <a:xfrm>
            <a:off x="2160720" y="2914560"/>
            <a:ext cx="1258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11. 10. 2013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Volný tvar 1"/>
          <p:cNvSpPr/>
          <p:nvPr/>
        </p:nvSpPr>
        <p:spPr>
          <a:xfrm>
            <a:off x="2617920" y="3576600"/>
            <a:ext cx="3908160" cy="1405080"/>
          </a:xfrm>
          <a:custGeom>
            <a:avLst/>
            <a:gdLst>
              <a:gd name="textAreaLeft" fmla="*/ 0 w 3908160"/>
              <a:gd name="textAreaRight" fmla="*/ 3908520 w 3908160"/>
              <a:gd name="textAreaTop" fmla="*/ 0 h 1405080"/>
              <a:gd name="textAreaBottom" fmla="*/ 1405440 h 140508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TextovéPole 2"/>
          <p:cNvSpPr/>
          <p:nvPr/>
        </p:nvSpPr>
        <p:spPr>
          <a:xfrm>
            <a:off x="2811600" y="371484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Tereza Ptáčková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ptackova@gymta.cz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říjen 2013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TextovéPole 4"/>
          <p:cNvSpPr/>
          <p:nvPr/>
        </p:nvSpPr>
        <p:spPr>
          <a:xfrm>
            <a:off x="468360" y="404640"/>
            <a:ext cx="44337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  <a:ea typeface="Arial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TextovéPole 5"/>
          <p:cNvSpPr/>
          <p:nvPr/>
        </p:nvSpPr>
        <p:spPr>
          <a:xfrm>
            <a:off x="611280" y="981000"/>
            <a:ext cx="79930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Aaron, T. Beck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Kognitivní terapie a emoční poruchy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. Praha: Portál, 2005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Nadpis 1" descr=""/>
          <p:cNvPicPr/>
          <p:nvPr/>
        </p:nvPicPr>
        <p:blipFill>
          <a:blip r:embed="rId1"/>
          <a:stretch/>
        </p:blipFill>
        <p:spPr>
          <a:xfrm>
            <a:off x="3365640" y="536400"/>
            <a:ext cx="5108400" cy="320040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rebuchet MS"/>
              </a:rPr>
              <a:t>Fobi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Nadpis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107640" y="2205000"/>
            <a:ext cx="799308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Jedná se o úzkostnou emocionální poruchu, kterou lze charakterizovat naprosto bezdůvodným strachem z věcí, zvířat, míst či situací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Osoba, která trpí určitou fobií, si svůj strach uvědomuje, ale není schopna svůj strach potlačit či vysvětlit důvod, proč úzkostným strachem trpí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Nadpis 1" descr=""/>
          <p:cNvPicPr/>
          <p:nvPr/>
        </p:nvPicPr>
        <p:blipFill>
          <a:blip r:embed="rId1"/>
          <a:stretch/>
        </p:blipFill>
        <p:spPr>
          <a:xfrm>
            <a:off x="244440" y="324000"/>
            <a:ext cx="7594560" cy="13953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250560" y="1557360"/>
            <a:ext cx="777708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Každá fobie má svůj předmět- zdroj strachu, podle kterého je fobie pojmenována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Nejčastějším zdrojem strachu jsou živá zvířata (pavouci, psi, hadi….), otevřené prostory, výšky, ale dokonce i lidé (=sociální fobie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Podle zdroje strachu rozlišujeme asi 500 druhů různých fobií, jejichž názvy obvykle vychází z latinského názvosloví (např. arachnofobie-&gt; arachné= pavouk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Nadpis 1" descr=""/>
          <p:cNvPicPr/>
          <p:nvPr/>
        </p:nvPicPr>
        <p:blipFill>
          <a:blip r:embed="rId1"/>
          <a:stretch/>
        </p:blipFill>
        <p:spPr>
          <a:xfrm>
            <a:off x="225360" y="334800"/>
            <a:ext cx="7480440" cy="12081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456840" y="1483920"/>
            <a:ext cx="74278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rebuchet MS"/>
              </a:rPr>
              <a:t>Psychické příznak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-&gt; pocit ohrožení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-&gt; pocit ze ztráty kontrol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-&gt; obava ze ztráty vědomí/ ze smrti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-&gt; nervozita, nekli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rebuchet MS"/>
              </a:rPr>
              <a:t>Tělesné příznak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-&gt; bušení srdce, rychlý pulz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-&gt; chvění, tř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-&gt; obtížné dýchání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-&gt; bolest na hrudi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-&gt; závrať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-&gt; bolest či točení hlavy,……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Nadpis 1" descr=""/>
          <p:cNvPicPr/>
          <p:nvPr/>
        </p:nvPicPr>
        <p:blipFill>
          <a:blip r:embed="rId1"/>
          <a:stretch/>
        </p:blipFill>
        <p:spPr>
          <a:xfrm>
            <a:off x="225360" y="262080"/>
            <a:ext cx="7480440" cy="12063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 txBox="1"/>
          <p:nvPr/>
        </p:nvSpPr>
        <p:spPr>
          <a:xfrm>
            <a:off x="250920" y="1557360"/>
            <a:ext cx="763416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Fobie mohou mít celou řadu příčin-&gt; nejčastější příčinou fobie je trauma, které postižené prožil v dětství (např. v dětství někoho pokouše pes-&gt; v dospělosti strach ze psů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Další příčinou vzniku fobie může být, když člověk slyší o nějakém traumatickém zážitku (nehoda, vážné zranění, úmrtí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Mezi příčiny fobie také patří: psychické poruchy osobnosti, dědičnost, fyzické či sexuální zneužívání v dětství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Nadpis 1" descr=""/>
          <p:cNvPicPr/>
          <p:nvPr/>
        </p:nvPicPr>
        <p:blipFill>
          <a:blip r:embed="rId1"/>
          <a:stretch/>
        </p:blipFill>
        <p:spPr>
          <a:xfrm>
            <a:off x="182520" y="262080"/>
            <a:ext cx="7589880" cy="10969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 txBox="1"/>
          <p:nvPr/>
        </p:nvSpPr>
        <p:spPr>
          <a:xfrm>
            <a:off x="457200" y="1609560"/>
            <a:ext cx="74995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000000"/>
                </a:solidFill>
                <a:uFillTx/>
                <a:latin typeface="Trebuchet MS"/>
              </a:rPr>
              <a:t>Při diagnostice fobie postupujeme takto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rebuchet MS"/>
              </a:rPr>
              <a:t>Sledování specifických příznaků (nepřiměřený strach, vyhýbání se situaci setkání se zdrojem strachu)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rebuchet MS"/>
              </a:rPr>
              <a:t>Objevení alespoň 2 příznaků úzkosti (bušení srdce, sucho v ústech, chvění…)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rebuchet MS"/>
              </a:rPr>
              <a:t>Postižený fobií si svůj strach uvědomuje, ví, že je přehnaný a nebojí se, pokud není v kontaktu se zdrojem strachu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rebuchet MS"/>
              </a:rPr>
              <a:t>Za fobii se nepovažuje úzkostné či vyhýbavé chování, které je následkem bludů či jiných psychických poruch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Nadpis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 txBox="1"/>
          <p:nvPr/>
        </p:nvSpPr>
        <p:spPr>
          <a:xfrm>
            <a:off x="468360" y="1844280"/>
            <a:ext cx="735480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Expoziční terapi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Kognitivně behaviorální terapi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Farmakoterapie (antidepresiva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Léčba šoke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Nadpis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 txBox="1"/>
          <p:nvPr/>
        </p:nvSpPr>
        <p:spPr>
          <a:xfrm>
            <a:off x="468000" y="1988640"/>
            <a:ext cx="742644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Jaké znáš konkrétní typy fobie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Odhadni, jaká je míra rozšíření fobií v populaci? Jak je to u mužů, jak u žen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Který „psycholog“se jako první zabýval fobií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0T16:35:53Z</dcterms:created>
  <dc:creator>doma</dc:creator>
  <dc:description/>
  <dc:language>en-US</dc:language>
  <cp:lastModifiedBy>hchotovinska</cp:lastModifiedBy>
  <dcterms:modified xsi:type="dcterms:W3CDTF">2014-06-09T13:12:25Z</dcterms:modified>
  <cp:revision>20</cp:revision>
  <dc:subject/>
  <dc:title>Prezentace aplikace PowerPoint</dc:title>
</cp:coreProperties>
</file>