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AD7-FE8B-49BD-BC92-656D12970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F8B-455F-48A5-BDCB-35ABA0552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2F3-3A1E-4912-BE6D-188264E4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C45-5806-4BA0-B1BA-AECBF162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5AF-0F9E-4B2D-A471-35073010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B1D-D9C0-479A-85BD-3647FF5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AFE-3664-4319-9428-61EBAF36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484-DC95-41EC-B1F1-D45F0FE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9F7-A3AA-480E-B6CD-1E36E47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1B7-39AB-47FF-B25C-826DE97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C9F-1461-4D6F-B2CB-2272647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2B4-3C77-4C3B-9E96-6E7F0D8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141-118A-46EF-88BB-5F71FE1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F7F-6801-44D9-9108-BFF248E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28FA-3F14-4346-B5BE-E5E13E531D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ndgemalt24.de/media/images/product/popup/Portraet-von-Philipp-der-Gute-von-Rogier-van-der-Weyden-17475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395280" y="2349360"/>
            <a:ext cx="777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160720" y="903240"/>
            <a:ext cx="37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zdní středověk – osobnosti stoleté vál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prava na 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1187280" y="2349360"/>
            <a:ext cx="2414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NL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7.6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5574600" y="315900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hDr. František Mrázek, CSc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délník 1"/>
          <p:cNvSpPr/>
          <p:nvPr/>
        </p:nvSpPr>
        <p:spPr>
          <a:xfrm>
            <a:off x="153000" y="18900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- 16"/>
                <a:ea typeface="Arial"/>
              </a:rPr>
              <a:t>Podle smyslu přiřaďte osobnosti stoleté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453px-King_Edward_III_from_NPG"/>
          <p:cNvPicPr/>
          <p:nvPr/>
        </p:nvPicPr>
        <p:blipFill>
          <a:blip r:embed="rId1"/>
          <a:stretch/>
        </p:blipFill>
        <p:spPr>
          <a:xfrm>
            <a:off x="5651640" y="4508640"/>
            <a:ext cx="1657080" cy="219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lantagenet%2C_Edward%2C_The_Black_Prince%2C_Iconic_Image"/>
          <p:cNvPicPr/>
          <p:nvPr/>
        </p:nvPicPr>
        <p:blipFill>
          <a:blip r:embed="rId2"/>
          <a:stretch/>
        </p:blipFill>
        <p:spPr>
          <a:xfrm>
            <a:off x="3924360" y="4508640"/>
            <a:ext cx="1655640" cy="2176200"/>
          </a:xfrm>
          <a:prstGeom prst="rect">
            <a:avLst/>
          </a:prstGeom>
          <a:ln w="0">
            <a:noFill/>
          </a:ln>
        </p:spPr>
      </p:pic>
      <p:sp>
        <p:nvSpPr>
          <p:cNvPr id="76" name="Obdélník 7"/>
          <p:cNvSpPr/>
          <p:nvPr/>
        </p:nvSpPr>
        <p:spPr>
          <a:xfrm>
            <a:off x="2484360" y="620640"/>
            <a:ext cx="6335640" cy="7207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) anglický král, který přišel s nárokem na francouzský trůn a zahájil konflikt s Francií. V roce 1346 triumfoval nad francouzským vojskem u Kresča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8"/>
          <p:cNvSpPr/>
          <p:nvPr/>
        </p:nvSpPr>
        <p:spPr>
          <a:xfrm>
            <a:off x="2484360" y="1413000"/>
            <a:ext cx="6335640" cy="8636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) princ z Walesu a také známý jako Černý princ, nejstarší syn anglického krále Eduarda III. Výjimečný vojenský velitel, vítěz od Poitiers (1356), kde zajal francouzského krále Jana 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délník 9"/>
          <p:cNvSpPr/>
          <p:nvPr/>
        </p:nvSpPr>
        <p:spPr>
          <a:xfrm>
            <a:off x="2484360" y="2349360"/>
            <a:ext cx="6335640" cy="10796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) francouzský král, v bitvě u Poitiers byl zajat a skonal v anglickém žaláři, kam se dobrovolně vrátil, když jeho syn držený jako rukojmí prchl ze svého vězení v Calais. Jeho první manželkou byla Jitka Lucemburská, dcera Jana a Eliš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délník 12"/>
          <p:cNvSpPr/>
          <p:nvPr/>
        </p:nvSpPr>
        <p:spPr>
          <a:xfrm>
            <a:off x="2484360" y="3500280"/>
            <a:ext cx="6335640" cy="8654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) burgundský vévoda, spojenec Anglie v poslední fázi stoleté války. Jeho vojska zajala Janu z Arku a předala ji Angličanům. Rozšířil burgundská panství. Byl zakladatelem Řádu zlatého rou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an II"/>
          <p:cNvPicPr/>
          <p:nvPr/>
        </p:nvPicPr>
        <p:blipFill>
          <a:blip r:embed="rId3"/>
          <a:stretch/>
        </p:blipFill>
        <p:spPr>
          <a:xfrm>
            <a:off x="7380360" y="4508640"/>
            <a:ext cx="136836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Zástupný symbol pro obsah 4" descr="Filip Dobrý.jpg"/>
          <p:cNvPicPr/>
          <p:nvPr/>
        </p:nvPicPr>
        <p:blipFill>
          <a:blip r:embed="rId4"/>
          <a:stretch/>
        </p:blipFill>
        <p:spPr>
          <a:xfrm>
            <a:off x="2340000" y="4508640"/>
            <a:ext cx="1511280" cy="223344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15"/>
          <p:cNvSpPr/>
          <p:nvPr/>
        </p:nvSpPr>
        <p:spPr>
          <a:xfrm>
            <a:off x="-5400" y="620640"/>
            <a:ext cx="224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 1. Filip III. Dobr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. 2 Eduard z Woodstoc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. 3 Eduard I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. 4 Jan II. Dobr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bdélník 1"/>
          <p:cNvSpPr/>
          <p:nvPr/>
        </p:nvSpPr>
        <p:spPr>
          <a:xfrm>
            <a:off x="332640" y="333360"/>
            <a:ext cx="16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 D, 2 B, 3 A, 4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5"/>
          <p:cNvSpPr/>
          <p:nvPr/>
        </p:nvSpPr>
        <p:spPr>
          <a:xfrm>
            <a:off x="628560" y="514440"/>
            <a:ext cx="80470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AY, Denys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Evropa pozdního středověku, 1300-1500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Vyd. 1. Praha: Vyšehrad, 2010, 412 s. Dějiny Evropy. ISBN 978-80 -7021-986 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 1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http://www.handgemalt24.de/media/images/product/popup/Portraet-von-Philipp-der-Gute-von-Rogier-van-der-Weyden-17475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 2http://www.myheritageimages.com/Z/storage/site66704871/files/00/05/74/000574_9208023e8cg34cu0at8idf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3 http://www.fotosimagenes.org/imagenes/ricardo-ii-de-inglaterra-6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 4 http://www.malerei-meisterwerke.de/images_large/meister-des-portraets-des-jean-le-bon-portraet-des-franzoesischen-koenigs-jean-le-bon-(johann-ii.-der-gute)-06545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9:36:41Z</dcterms:created>
  <dc:creator>mvelik</dc:creator>
  <dc:description/>
  <dc:language>en-US</dc:language>
  <cp:lastModifiedBy>hchotovinska</cp:lastModifiedBy>
  <dcterms:modified xsi:type="dcterms:W3CDTF">2014-06-10T09:07:49Z</dcterms:modified>
  <cp:revision>7</cp:revision>
  <dc:subject/>
  <dc:title>Snímek 1</dc:title>
</cp:coreProperties>
</file>