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0B98-40D0-4FB4-A11A-98B74EE9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CC9B-5488-4B31-A136-A3258F69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4557-6B07-43FE-A8EC-880B9025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27C8-B445-40EA-AB50-F0CDDD05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070A-6ECB-4EC2-88B0-C9B186F8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5606-A554-42AF-8809-A53AEC0F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F7E4-6E60-48F5-92C1-9D6ED7CE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43D-CAAD-486A-8CB4-BB19B077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BDC2-0D4D-4516-8D5C-C1789434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59D-E8EF-44A9-A002-73F7922E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E67C-B913-4A65-A6C3-2392025A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97E4-9D52-4F8A-9095-63C4E013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E658-FA3F-4AEA-9C2B-9039187042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ojekt: Inovace vybavení        Registrační číslo projektu: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95360" y="530856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4"/>
          <p:cNvSpPr/>
          <p:nvPr/>
        </p:nvSpPr>
        <p:spPr>
          <a:xfrm>
            <a:off x="812880" y="4854600"/>
            <a:ext cx="75675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7"/>
          <p:cNvSpPr/>
          <p:nvPr/>
        </p:nvSpPr>
        <p:spPr>
          <a:xfrm>
            <a:off x="331920" y="903240"/>
            <a:ext cx="19429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ovéPole 8"/>
          <p:cNvSpPr/>
          <p:nvPr/>
        </p:nvSpPr>
        <p:spPr>
          <a:xfrm>
            <a:off x="395280" y="2349360"/>
            <a:ext cx="7779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9"/>
          <p:cNvSpPr/>
          <p:nvPr/>
        </p:nvSpPr>
        <p:spPr>
          <a:xfrm>
            <a:off x="5943600" y="1908000"/>
            <a:ext cx="1351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ěje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ovéPole 12"/>
          <p:cNvSpPr/>
          <p:nvPr/>
        </p:nvSpPr>
        <p:spPr>
          <a:xfrm>
            <a:off x="5943600" y="2182680"/>
            <a:ext cx="2193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véPole 17"/>
          <p:cNvSpPr/>
          <p:nvPr/>
        </p:nvSpPr>
        <p:spPr>
          <a:xfrm>
            <a:off x="2160720" y="903240"/>
            <a:ext cx="3706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ozdní středověk – chronolog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Miroslav Velí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19"/>
          <p:cNvSpPr/>
          <p:nvPr/>
        </p:nvSpPr>
        <p:spPr>
          <a:xfrm>
            <a:off x="1120680" y="1908000"/>
            <a:ext cx="4662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íprava na dvojjazyčné stu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ruh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ovéPole 21"/>
          <p:cNvSpPr/>
          <p:nvPr/>
        </p:nvSpPr>
        <p:spPr>
          <a:xfrm>
            <a:off x="1187280" y="2349360"/>
            <a:ext cx="24148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DNL_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24"/>
          <p:cNvSpPr/>
          <p:nvPr/>
        </p:nvSpPr>
        <p:spPr>
          <a:xfrm>
            <a:off x="2160720" y="3429000"/>
            <a:ext cx="3124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.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7.6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5574600" y="3159000"/>
            <a:ext cx="22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hDr. František Mrázek, CSc.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bdélník 1"/>
          <p:cNvSpPr/>
          <p:nvPr/>
        </p:nvSpPr>
        <p:spPr>
          <a:xfrm>
            <a:off x="395280" y="9810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hronolog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322 – povstání sedláků ve Flandr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347 – 1351 – morová epidemie v Evrop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358 – povstání v Paříží vedené Etiennem Marc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358 – povstání sedláků (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ve francouzštině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„jacquerrie“ 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Jacques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ve střední Fran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337 – 1453 – Stoletá válka mezi Francií a Angl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378 – 1417 – Velké schizma, dvoj a poté trojpapež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415 – 1436 – husitská revolu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453 – Turci dobývají Konstantinop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bdélník 2"/>
          <p:cNvSpPr/>
          <p:nvPr/>
        </p:nvSpPr>
        <p:spPr>
          <a:xfrm>
            <a:off x="468360" y="40464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a základě chronologie vysvětlete termín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„Krize pozdního středověku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bdélník 1"/>
          <p:cNvSpPr/>
          <p:nvPr/>
        </p:nvSpPr>
        <p:spPr>
          <a:xfrm>
            <a:off x="611280" y="1557360"/>
            <a:ext cx="828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hronolog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322 – povstání sedláků ve Flandr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347 – 1351 – morová epidemie v Evrop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358 – povstání v Paříží vedené Etiennem Marc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358 – povstání sedláků (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ve francouzštině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„jacquerrie“ 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Jacques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ve střední Fran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337 – 1453 – stoletá válka mezi Francií a Angl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378 – 1417 – Velké schizma, dvoj a poté trojpapež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415 – 1436 – husitská revolu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1453 – Turci dobývají Konstantinop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Vývojový diagram: spojka 2"/>
          <p:cNvSpPr/>
          <p:nvPr/>
        </p:nvSpPr>
        <p:spPr>
          <a:xfrm>
            <a:off x="395280" y="2421000"/>
            <a:ext cx="216000" cy="216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Vývojový diagram: spojka 3"/>
          <p:cNvSpPr/>
          <p:nvPr/>
        </p:nvSpPr>
        <p:spPr>
          <a:xfrm>
            <a:off x="395280" y="3141720"/>
            <a:ext cx="216000" cy="216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Vývojový diagram: spojka 4"/>
          <p:cNvSpPr/>
          <p:nvPr/>
        </p:nvSpPr>
        <p:spPr>
          <a:xfrm>
            <a:off x="395280" y="4941720"/>
            <a:ext cx="216000" cy="216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délník 5"/>
          <p:cNvSpPr/>
          <p:nvPr/>
        </p:nvSpPr>
        <p:spPr>
          <a:xfrm>
            <a:off x="4140360" y="189000"/>
            <a:ext cx="4032000" cy="431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vstání a revoluce – vnitřní kr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délník 6"/>
          <p:cNvSpPr/>
          <p:nvPr/>
        </p:nvSpPr>
        <p:spPr>
          <a:xfrm>
            <a:off x="4140360" y="692280"/>
            <a:ext cx="4032000" cy="3603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soupeření mezi státy - vál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Vývojový diagram: spojka 7"/>
          <p:cNvSpPr/>
          <p:nvPr/>
        </p:nvSpPr>
        <p:spPr>
          <a:xfrm>
            <a:off x="395280" y="4221000"/>
            <a:ext cx="216000" cy="216000"/>
          </a:xfrm>
          <a:prstGeom prst="flowChartConnector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Vývojový diagram: spojka 8"/>
          <p:cNvSpPr/>
          <p:nvPr/>
        </p:nvSpPr>
        <p:spPr>
          <a:xfrm>
            <a:off x="395280" y="2781360"/>
            <a:ext cx="216000" cy="21600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Vývojový diagram: spojka 9"/>
          <p:cNvSpPr/>
          <p:nvPr/>
        </p:nvSpPr>
        <p:spPr>
          <a:xfrm>
            <a:off x="395280" y="3500280"/>
            <a:ext cx="216000" cy="216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12"/>
          <p:cNvSpPr/>
          <p:nvPr/>
        </p:nvSpPr>
        <p:spPr>
          <a:xfrm>
            <a:off x="4140360" y="1125360"/>
            <a:ext cx="4032000" cy="3589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pidemie – demografická kr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bdélník 13"/>
          <p:cNvSpPr/>
          <p:nvPr/>
        </p:nvSpPr>
        <p:spPr>
          <a:xfrm>
            <a:off x="4140360" y="1557360"/>
            <a:ext cx="4032000" cy="3589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írkevní a společenská kr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Vývojový diagram: spojka 14"/>
          <p:cNvSpPr/>
          <p:nvPr/>
        </p:nvSpPr>
        <p:spPr>
          <a:xfrm>
            <a:off x="395280" y="4581360"/>
            <a:ext cx="216000" cy="21600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15"/>
          <p:cNvSpPr/>
          <p:nvPr/>
        </p:nvSpPr>
        <p:spPr>
          <a:xfrm>
            <a:off x="4140360" y="1989000"/>
            <a:ext cx="4032000" cy="360360"/>
          </a:xfrm>
          <a:prstGeom prst="rect">
            <a:avLst/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stup Turků – vnější nebezpe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Vývojový diagram: spojka 16"/>
          <p:cNvSpPr/>
          <p:nvPr/>
        </p:nvSpPr>
        <p:spPr>
          <a:xfrm>
            <a:off x="395280" y="5300640"/>
            <a:ext cx="216000" cy="216000"/>
          </a:xfrm>
          <a:prstGeom prst="flowChartConnector">
            <a:avLst/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Miroslav Velí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velik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erv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véPole 3"/>
          <p:cNvSpPr/>
          <p:nvPr/>
        </p:nvSpPr>
        <p:spPr>
          <a:xfrm>
            <a:off x="2217600" y="2514600"/>
            <a:ext cx="470880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bjekty použité k vytvoření sešitu jsou součástí SW Smart Notebook nebo pocházejí z veřejných knihoven obrázků (public domain) nebo jsou vlastní originální tvorbou autor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ovéPole 5"/>
          <p:cNvSpPr/>
          <p:nvPr/>
        </p:nvSpPr>
        <p:spPr>
          <a:xfrm>
            <a:off x="539640" y="549360"/>
            <a:ext cx="804708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HAY, Denys. </a:t>
            </a:r>
            <a:r>
              <a:rPr b="0" i="1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Evropa pozdního středověku, 1300-1500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. Vyd. 1. Praha: Vyšehrad, 2010, 412 s. Dějiny Evropy. ISBN 978-80 -7021-986 -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4T10:15:36Z</dcterms:created>
  <dc:creator>mvelik</dc:creator>
  <dc:description/>
  <dc:language>en-US</dc:language>
  <cp:lastModifiedBy>hchotovinska</cp:lastModifiedBy>
  <dcterms:modified xsi:type="dcterms:W3CDTF">2014-06-10T09:08:49Z</dcterms:modified>
  <cp:revision>6</cp:revision>
  <dc:subject/>
  <dc:title>Snímek 1</dc:title>
</cp:coreProperties>
</file>