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1DA-EC50-4415-8B3E-5861BB8A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4D7-1BCE-4F39-9D9A-E0FAA16E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433-E40D-40C5-B922-D19228F5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355-1626-4C44-B577-C29A56EE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BBC-A765-4DED-BC1E-B308834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095-A00D-4EDA-9B33-C14FCEAA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FE9-875A-4314-B374-7046D126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474-6017-4017-9F93-27FA458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94E-3976-4686-9836-776C1C2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27A-BA58-4F63-AEA8-D5D14BD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DED-252D-4D0E-A355-F6A83EE0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530-5916-4FF2-B77C-C6BB085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301-AC84-4991-8972-E233D9A755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395280" y="2349360"/>
            <a:ext cx="777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7"/>
          <p:cNvSpPr/>
          <p:nvPr/>
        </p:nvSpPr>
        <p:spPr>
          <a:xfrm>
            <a:off x="2160720" y="903240"/>
            <a:ext cx="37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zdní středověk – myšlenky reformátor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prava na 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1"/>
          <p:cNvSpPr/>
          <p:nvPr/>
        </p:nvSpPr>
        <p:spPr>
          <a:xfrm>
            <a:off x="1187280" y="2349360"/>
            <a:ext cx="2414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NL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7.6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702760" y="3159000"/>
            <a:ext cx="19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hDr. František Mrázek, CSc.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468360" y="2349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onrád Waldhauser (1325-1369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skvostné roucho boháčovo znamená pot chudých i krev žen, a to, co stojí drahocenný šat, by postačilo k výživě mnoha nuzáků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836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Milíč z Kroměříže (1320?1325-13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dokoli prodá nějakou věc dráže, než ji koupil, bude zatracen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468360" y="4076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Hus (asi 1369/1370 – 14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šťastným bohatstvím, v němž církev tone, zjedovatělo a otráveno je takměř všecko křesťanstvo v na duši. Odkud svárové mezi papeži, biskupy a jinými kněžími? Psi se o  kost hryžou! Vezmi kost, a přestanou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5"/>
          <p:cNvSpPr/>
          <p:nvPr/>
        </p:nvSpPr>
        <p:spPr>
          <a:xfrm>
            <a:off x="470520" y="11592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ečtěte si úryvky. Uveďte, co je terčem kritiky jednotlivých reformátor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délník 1"/>
          <p:cNvSpPr/>
          <p:nvPr/>
        </p:nvSpPr>
        <p:spPr>
          <a:xfrm>
            <a:off x="468360" y="2349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onrád Waldhauser (1325-1369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skvostné roucho boháčovo znamená pot chudých i krev žen, a to, co stojí drahocenný šat, by postačilo k výživě mnoha nuzáků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"/>
          <p:cNvSpPr/>
          <p:nvPr/>
        </p:nvSpPr>
        <p:spPr>
          <a:xfrm>
            <a:off x="46836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Milíč z Kroměříže (1320?1325-13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dokoli prodá nějakou věc dráže, než ji koupil, bude zatracen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3"/>
          <p:cNvSpPr/>
          <p:nvPr/>
        </p:nvSpPr>
        <p:spPr>
          <a:xfrm>
            <a:off x="468360" y="4076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Hus (asi 1369/1370 – 14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šťastným bohatstvím, v němž církev tone, zjedovatělo a otráveno je takměř všecko křesťanstvo v na duši. Odkud svárové mezi papeži, biskupy a jinými kněžími? Psi se o  kost hryžou! Vezmi kost, a přestanou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6"/>
          <p:cNvSpPr/>
          <p:nvPr/>
        </p:nvSpPr>
        <p:spPr>
          <a:xfrm>
            <a:off x="470520" y="1890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7"/>
          <p:cNvSpPr/>
          <p:nvPr/>
        </p:nvSpPr>
        <p:spPr>
          <a:xfrm>
            <a:off x="611280" y="1700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obohacování z prodeje, zisk z prodeje,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8"/>
          <p:cNvSpPr/>
          <p:nvPr/>
        </p:nvSpPr>
        <p:spPr>
          <a:xfrm>
            <a:off x="611280" y="3357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ontrast bohatství a chudoby, bohatství jedněch je vykoupeno mizérií druh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9"/>
          <p:cNvSpPr/>
          <p:nvPr/>
        </p:nvSpPr>
        <p:spPr>
          <a:xfrm>
            <a:off x="611280" y="544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situace v církvi, krize v celém křesťanském světě, spory mezi duchov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5"/>
          <p:cNvSpPr/>
          <p:nvPr/>
        </p:nvSpPr>
        <p:spPr>
          <a:xfrm>
            <a:off x="539640" y="549360"/>
            <a:ext cx="8047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AY, Denys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Evropa pozdního středověku, 1300-1500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Vyd. 1. Praha: Vyšehrad, 2010, 412 s. Dějiny Evropy. ISBN 978-80 -7021-986 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ORA-HOŘEJŠ, Petr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Toulky českou minulostí 2. Od časů Přemysla Otakara I. do nástupu Habsburků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3. vyd. Praha: Baronet, 1997, 454 s. ISBN 80-721-4014-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1:20:49Z</dcterms:created>
  <dc:creator>mvelik</dc:creator>
  <dc:description/>
  <dc:language>en-US</dc:language>
  <cp:lastModifiedBy>hchotovinska</cp:lastModifiedBy>
  <dcterms:modified xsi:type="dcterms:W3CDTF">2014-06-10T09:09:26Z</dcterms:modified>
  <cp:revision>9</cp:revision>
  <dc:subject/>
  <dc:title>Snímek 1</dc:title>
</cp:coreProperties>
</file>