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5BBFF-C94D-4794-889F-0577890868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DB53F-EFE5-4378-B0DD-4C42D732EC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1BCFF-B33A-4891-9D6C-974B389E44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DF924-E56C-443E-93A2-3DC037E4A4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C8AA6-DFDF-4AE5-BC11-5768D5917D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2AB0A-E737-4673-9EA7-B1F7BADB34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D6A64-3975-4B60-B9C1-632EC808E3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0034-00A8-49E9-8A85-3B2B2E91DF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407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600" y="4408920"/>
            <a:ext cx="91407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65EA-2FE5-4A72-9FD9-D376DCAC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156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600" y="44089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1560" y="44089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F2AD-7EE9-4469-8D9E-7E1820D0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8200" y="17827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8800" y="17827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600" y="44089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8200" y="44089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8800" y="44089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A803-A354-436E-B16D-92A2D2D2E0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600" y="1782720"/>
            <a:ext cx="91407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F76C2-BBE8-4F4C-A5A6-45273CCA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407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121B-131B-4F6D-A19E-4ABB4CEC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60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1560" y="1782720"/>
            <a:ext cx="4460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9EB0-1031-4E79-B62F-9904F82B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AD2C-FA3E-48E4-A0B3-E4B5D388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600" y="303120"/>
            <a:ext cx="914076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6601-7715-457A-9722-DFD73CC2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1560" y="1782720"/>
            <a:ext cx="4460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600" y="44089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6B60-9EE6-4A1E-83DD-ADC7D01F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60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56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1560" y="44089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BE64-7CFF-4A6E-8386-9B8FC58B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56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600" y="4408920"/>
            <a:ext cx="91407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D2A9-B2B5-4BD4-98B4-AC552F6A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600" y="7062840"/>
            <a:ext cx="23684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.11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471840" y="7062840"/>
            <a:ext cx="3216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279920" y="7062840"/>
            <a:ext cx="23684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3AC26-2F05-4939-8BC3-51D842029CD8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07600" y="1782720"/>
            <a:ext cx="91407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714680" y="190440"/>
            <a:ext cx="6500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rojekt: Inovace vybavení    Registrační číslo projektu: CZ.1.07/1.5.00/34.03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7320" y="482760"/>
            <a:ext cx="8583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95520" y="5881680"/>
            <a:ext cx="6968880" cy="1343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876240" y="5410080"/>
            <a:ext cx="840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4838760"/>
            <a:ext cx="103363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</a:t>
            </a:r>
            <a:r>
              <a:rPr b="1" lang="cs-CZ" sz="1000" spc="-1" strike="noStrike">
                <a:solidFill>
                  <a:srgbClr val="ff0000"/>
                </a:solidFill>
                <a:latin typeface="Times New Roman - 14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55680" y="1295280"/>
            <a:ext cx="19047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68280" y="1003320"/>
            <a:ext cx="2158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55680" y="24130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943600" y="2120760"/>
            <a:ext cx="2519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ředmět: tělesná vých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55680" y="1828800"/>
            <a:ext cx="2209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55680" y="2120760"/>
            <a:ext cx="1143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602400" y="2425680"/>
            <a:ext cx="1371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Číslo DUM: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55680" y="2946240"/>
            <a:ext cx="30718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55680" y="3238560"/>
            <a:ext cx="172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55680" y="38098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55680" y="3530520"/>
            <a:ext cx="1752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2400480" y="1003320"/>
            <a:ext cx="1919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osilování – pojm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400480" y="129528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1244520" y="2120760"/>
            <a:ext cx="5180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8051760" y="2120760"/>
            <a:ext cx="1803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Ročník: pr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244520" y="2413080"/>
            <a:ext cx="1282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32_Tv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8051760" y="2387520"/>
            <a:ext cx="132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2400480" y="351792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2400480" y="3809880"/>
            <a:ext cx="73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kvi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2409840" y="3238560"/>
            <a:ext cx="1090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23. 10.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215640"/>
            <a:ext cx="91425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Rozdělení svalů podle fu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2448000"/>
            <a:ext cx="91422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Agonist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vykonává pohyb v určitém s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7320" indent="-320400">
              <a:lnSpc>
                <a:spcPct val="15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Antagonist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působí proti agonist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7320" indent="-320400">
              <a:lnSpc>
                <a:spcPct val="15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Synergist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spolupracuje s agonist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92000" y="5472000"/>
            <a:ext cx="878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terý sval byl u přednožování na stroji  agonistou a který antagonist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599240" y="3378240"/>
            <a:ext cx="1785960" cy="13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8520" y="303120"/>
            <a:ext cx="9361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Rozdělení svalů podle směru pohyb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944720"/>
            <a:ext cx="9142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hybač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flexory) – ohnutí v klou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Natahovač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extenzory) – napnutí v klou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dtahovač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abduktory) – odtahují končetiny od trup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Přitahovač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adduktory) – přitahují končetiny k trup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Rotáto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tační pohy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07960" y="1122120"/>
            <a:ext cx="91425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é svaly (z hlediska pohybu) byly posilovány na těchto strojích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886440" y="2952720"/>
            <a:ext cx="2832120" cy="2127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623880" y="2984400"/>
            <a:ext cx="2832120" cy="2127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3719520" y="2952720"/>
            <a:ext cx="2832120" cy="2127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755720" y="25336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923000" y="246060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8136000" y="2460600"/>
            <a:ext cx="344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9142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gonista – čtyřhlavý stehen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tagonista – dvojhlavý stehen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flex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extenz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adduktory a abduk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"/>
          <p:cNvSpPr/>
          <p:nvPr/>
        </p:nvSpPr>
        <p:spPr>
          <a:xfrm>
            <a:off x="2908440" y="3973680"/>
            <a:ext cx="4343400" cy="1562040"/>
          </a:xfrm>
          <a:custGeom>
            <a:avLst/>
            <a:gdLst/>
            <a:ahLst/>
            <a:rect l="l" t="t" r="r" b="b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adadeb"/>
          </a:solidFill>
          <a:ln w="12600">
            <a:solidFill>
              <a:srgbClr val="adad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124080" y="4127400"/>
            <a:ext cx="396252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oudova@gymta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říje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28600" y="203040"/>
            <a:ext cx="492768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98400" y="571680"/>
            <a:ext cx="92376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kopová, M., Zítko, M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Základní gymnastika.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 Praha: Univerzita Karlova, 200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Jarkovská, H., Jarkovská, M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Posilování s vlastním tělem 417krát jinak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 Praha: Grada publishing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Jarkovská, H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Posilování: kondiční kruhový trénink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Praha: Grada publishing,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a</cp:lastModifiedBy>
  <dcterms:modified xsi:type="dcterms:W3CDTF">2014-05-11T18:01:51Z</dcterms:modified>
  <cp:revision>16</cp:revision>
  <dc:subject/>
  <dc:title>Prezentace aplikace PowerPoint</dc:title>
</cp:coreProperties>
</file>