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FBA51-AC80-41F2-8CB2-E36453B9EBC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91EC0-957C-427C-9BDD-FC0D8414B30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9DF87-A5E6-4C71-AC1A-71D2917B0A2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E592E-5577-4726-BF9A-8AB0B55D80A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5F19E-99D9-422D-B270-435DFC8E124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65C5D-D44B-4255-B714-91DA1197B18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0E424-77BF-4C47-8865-DC7309A9D26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6406F-6162-416F-8BB8-BB9F7210E56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E7E47-52AE-40EA-AE5D-BA107ED59E91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0F7DB-903E-44EA-9AB7-4EC8CF74FDA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656-042C-47AC-B585-F5F833DE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E0D-3E09-40F8-8ECD-92DEEA81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B78-2CB0-4D63-9513-BFFFFD9F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B63-5108-442A-AABB-93DAD8D8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CD64-ED35-4006-A448-CD68276F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8C4-2567-4F75-B951-3393B491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FDF-06DA-4162-91E5-854E8A76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E2E-5F58-4B49-92DC-9B80F2CA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284-502B-4285-8D9B-CC9C229D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3DC-FBD2-402F-B2BB-DF911E51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34D-F2A8-456B-A075-C41A2871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6ACD-1A31-40DE-B534-CAE82B94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7D626-CCAE-4499-8303-03B581A5FE7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731960" y="189000"/>
            <a:ext cx="6451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Projekt: Inovace vybavení   Registrační číslo projektu: CZ.1.07/1.5.00/34.03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81200" y="479520"/>
            <a:ext cx="85168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Příjemce: Gymnázium Pierra de Coubertina, Tábor, Náměstí Františka Křižíka 860, 390 01 Tá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582560" y="5834160"/>
            <a:ext cx="6913800" cy="1331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868320" y="5367240"/>
            <a:ext cx="83408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Tento výukový materiál vznikl v rámci Operačního programu Vzdělání pro konkurenceschopno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4800600"/>
            <a:ext cx="1025532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Materiál je určen k bezplatnému používání pro potřeby výuky a vzdělávání na všech typech škol a školských zaříze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Jakékoliv další používání podléhá autorskému zákon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52440" y="1284120"/>
            <a:ext cx="1890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Autor materiál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65040" y="995400"/>
            <a:ext cx="2141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Název materiálu:</a:t>
            </a: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52440" y="2394000"/>
            <a:ext cx="855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Sa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5545080" y="2103480"/>
            <a:ext cx="21654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   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Předmět: tělesná výcho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52440" y="1814400"/>
            <a:ext cx="21924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Zařazení materiál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352440" y="2103480"/>
            <a:ext cx="1133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Šablon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5688000" y="2406600"/>
            <a:ext cx="2224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Číslo DUM: 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352440" y="2922480"/>
            <a:ext cx="3048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Ověření materiálu ve výu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52440" y="3213000"/>
            <a:ext cx="21924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Datum ověření: 30.10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352440" y="3780000"/>
            <a:ext cx="1379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Třída: kvi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52440" y="3502080"/>
            <a:ext cx="2759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Ověřující učitel: Mgr. Lea Doud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2381400" y="995400"/>
            <a:ext cx="19047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Posilování – pojmy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381400" y="1284120"/>
            <a:ext cx="1763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1235160" y="2103480"/>
            <a:ext cx="5140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Inovace a zkvalitnění výuky prostřednictvím ICT (III/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7561440" y="2103480"/>
            <a:ext cx="2215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ročník: pr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1235160" y="2394000"/>
            <a:ext cx="931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32_Tv_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7988400" y="2368440"/>
            <a:ext cx="13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2381400" y="3489480"/>
            <a:ext cx="1763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2381400" y="3780000"/>
            <a:ext cx="730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2390760" y="3213000"/>
            <a:ext cx="1928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150840"/>
            <a:ext cx="907092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Arial"/>
              </a:rPr>
              <a:t>Svalová</a:t>
            </a:r>
            <a:r>
              <a:rPr b="1" lang="cs-CZ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0000ff"/>
                </a:solidFill>
                <a:latin typeface="Arial"/>
              </a:rPr>
              <a:t>kontra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80936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valový stah (kontrakce) a uvolnění (relaxace) jsou základní vlastnosti sv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33440" y="3600360"/>
            <a:ext cx="90709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Délka svalu při kontrak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>
            <a:hlinkClick r:id="rId1" action="ppaction://hlinksldjump"/>
          </p:cNvPr>
          <p:cNvSpPr/>
          <p:nvPr/>
        </p:nvSpPr>
        <p:spPr>
          <a:xfrm>
            <a:off x="6048360" y="4967280"/>
            <a:ext cx="180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nem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>
            <a:hlinkClick r:id="rId2" action="ppaction://hlinksldjump"/>
          </p:cNvPr>
          <p:cNvSpPr/>
          <p:nvPr/>
        </p:nvSpPr>
        <p:spPr>
          <a:xfrm>
            <a:off x="1335240" y="4978440"/>
            <a:ext cx="16635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s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m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>
            <a:hlinkClick r:id="" action="ppaction://hlinkshowjump?jump=lastslide"/>
          </p:cNvPr>
          <p:cNvSpPr/>
          <p:nvPr/>
        </p:nvSpPr>
        <p:spPr>
          <a:xfrm>
            <a:off x="503280" y="241200"/>
            <a:ext cx="9070920" cy="68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Změny velikosti svalu v závislosti na  jeho činnosti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>
            <a:hlinkClick r:id="rId1" action="ppaction://hlinksldjump"/>
          </p:cNvPr>
          <p:cNvSpPr/>
          <p:nvPr/>
        </p:nvSpPr>
        <p:spPr>
          <a:xfrm>
            <a:off x="431640" y="5543640"/>
            <a:ext cx="5613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aly jsou v úplné nečin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>
            <a:hlinkClick r:id="rId2" action="ppaction://hlinksldjump"/>
          </p:cNvPr>
          <p:cNvSpPr/>
          <p:nvPr/>
        </p:nvSpPr>
        <p:spPr>
          <a:xfrm>
            <a:off x="500040" y="2376360"/>
            <a:ext cx="626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aly jsou pravidelně posilov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>
            <a:hlinkClick r:id="rId3" action="ppaction://hlinksldjump"/>
          </p:cNvPr>
          <p:cNvSpPr/>
          <p:nvPr/>
        </p:nvSpPr>
        <p:spPr>
          <a:xfrm>
            <a:off x="488880" y="3887640"/>
            <a:ext cx="685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aly nejsou pravidelně zapojov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10414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Hypertrof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60360" y="2592360"/>
            <a:ext cx="712800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ůst objemu svalových vlá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7524720" y="828720"/>
            <a:ext cx="1548000" cy="1547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3313080" y="417672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>
            <a:hlinkClick r:id="rId3" action="ppaction://hlinksldjump"/>
          </p:cNvPr>
          <p:cNvSpPr/>
          <p:nvPr/>
        </p:nvSpPr>
        <p:spPr>
          <a:xfrm>
            <a:off x="8064360" y="5543640"/>
            <a:ext cx="648000" cy="431640"/>
          </a:xfrm>
          <a:prstGeom prst="leftArrow">
            <a:avLst>
              <a:gd name="adj1" fmla="val 50000"/>
              <a:gd name="adj2" fmla="val 37531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Hypotrof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31640" y="2879280"/>
            <a:ext cx="4967280" cy="1903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chabování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875200" y="25639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4">
            <a:hlinkClick r:id="rId2" action="ppaction://hlinksldjump"/>
          </p:cNvPr>
          <p:cNvSpPr/>
          <p:nvPr/>
        </p:nvSpPr>
        <p:spPr>
          <a:xfrm>
            <a:off x="7199280" y="604836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Atrof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1079280"/>
            <a:ext cx="9070920" cy="2182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bytek svalové tkáně – např. při fixaci zlomeni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527280" y="324000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4">
            <a:hlinkClick r:id="rId2" action="ppaction://hlinksldjump"/>
          </p:cNvPr>
          <p:cNvSpPr/>
          <p:nvPr/>
        </p:nvSpPr>
        <p:spPr>
          <a:xfrm>
            <a:off x="7991640" y="5975280"/>
            <a:ext cx="647640" cy="432000"/>
          </a:xfrm>
          <a:prstGeom prst="leftArrow">
            <a:avLst>
              <a:gd name="adj1" fmla="val 50000"/>
              <a:gd name="adj2" fmla="val 37479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Izotonická kontra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210280" y="1871640"/>
            <a:ext cx="2206440" cy="4416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7704000" y="1860480"/>
            <a:ext cx="2127240" cy="4402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76360" y="2386080"/>
            <a:ext cx="417492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val vykonává pohyb 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dynamické cv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 svalu se nem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ní se délka sv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val se zkracuje koncentr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val se natahuje excentr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7128000" y="676764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Izometrická kontra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983280" y="2087640"/>
            <a:ext cx="1652760" cy="3862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576360" y="2376360"/>
            <a:ext cx="439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drž v určité poloze  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statické cv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ní se napětí sv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élka svalu se nem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7415280" y="640872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reeform 1"/>
          <p:cNvSpPr/>
          <p:nvPr/>
        </p:nvSpPr>
        <p:spPr>
          <a:xfrm>
            <a:off x="2879640" y="5724360"/>
            <a:ext cx="4308480" cy="15494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095640" y="6012000"/>
            <a:ext cx="3930480" cy="10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Aut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Gymnázium Pierra de Coubertina, Tá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doudova@gymta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říje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27160" y="201600"/>
            <a:ext cx="488772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 - 20"/>
              </a:rPr>
              <a:t>Seznam použité literatury a pramenů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47640" y="539640"/>
            <a:ext cx="91663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Skopová, M., Zítko, M. </a:t>
            </a:r>
            <a:r>
              <a:rPr b="0" i="1" lang="cs-CZ" sz="1200" spc="-1" strike="noStrike">
                <a:solidFill>
                  <a:srgbClr val="000000"/>
                </a:solidFill>
                <a:latin typeface="Arial - 16"/>
              </a:rPr>
              <a:t>Základní gymnastika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. Praha: Univerzita Karlova, 2008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Jarkovská, H., Jarkovská, M. </a:t>
            </a:r>
            <a:r>
              <a:rPr b="0" i="1" lang="cs-CZ" sz="1200" spc="-1" strike="noStrike">
                <a:solidFill>
                  <a:srgbClr val="000000"/>
                </a:solidFill>
                <a:latin typeface="Arial - 16"/>
              </a:rPr>
              <a:t>Posilování s vlastním tělem 417krát jinak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.  Praha: Grada publishing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Jarkovská, H. </a:t>
            </a:r>
            <a:r>
              <a:rPr b="0" i="1" lang="cs-CZ" sz="1200" spc="-1" strike="noStrike">
                <a:solidFill>
                  <a:srgbClr val="000000"/>
                </a:solidFill>
                <a:latin typeface="Arial - 16"/>
              </a:rPr>
              <a:t>Posilování: kondiční kruhový trénink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. Praha: Grada publishing,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ffice.com: obrázky. MICROSOFT CORPORATION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Office.co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2012. vyd. [cit. 2012-10-26]. Dostupné z: http://officeimg.vo.msecnd.net/en-us/images/MH90043439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ffice.com: obrázky. MICROSOFT CORPORATION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Office.co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2012. vyd. [cit. 2012-10-26]. Dostupné z: http://officeimg.vo.msecnd.net/en-us/images/MH900198184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ffice.com: obrázky. MICROSOFT CORPORATION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Office.co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2012. vyd. [cit. 2012-10-26]. Dostupné z: http://officeimg.vo.msecnd.net/en-us/images/MH900429819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ffice.com: obrázky. MICROSOFT CORPORATION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Office.co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2012. vyd. [cit. 2012-10-26]. Dostupné z: http://officeimg.vo.msecnd.net/en-us/images/MH900413574.jp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7:45:39Z</dcterms:created>
  <dc:creator/>
  <dc:description/>
  <dc:language>en-US</dc:language>
  <cp:lastModifiedBy>hchotovinska</cp:lastModifiedBy>
  <dcterms:modified xsi:type="dcterms:W3CDTF">2014-06-10T12:50:24Z</dcterms:modified>
  <cp:revision>17</cp:revision>
  <dc:subject/>
  <dc:title>Snímek 1</dc:title>
</cp:coreProperties>
</file>