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C4063-59BB-46BE-BA52-1AF9184D161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2A86C-7549-42FC-B932-EF39A8BADCD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20C26-6532-4FBF-9E5E-13CED7022A0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2C474-2477-4790-A0EC-2ACE3BA957E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EFA00-8CE1-4554-84EC-25067BDA277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6313F-6368-436A-A7E2-62CB819D821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2027A-648C-4CB1-A79A-6543249E53F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65F17-4328-4EA0-9E4A-BBCA6C8D9E7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D956A-0CB4-4BA8-A405-6CC142EF990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F7185-AF55-4045-AB27-E2BD14C6A36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737DE-0428-4EFD-B26B-791A3E15A52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EADE6-D23F-4C70-8F1D-11BAF9C0C4B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847CC-8059-4BCC-A00A-8D25A7190AE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4B1-6DBD-480D-B363-6BBA89BE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A5B-E5B0-4363-9558-79C9E846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805-38E9-4454-A3B8-88EBE646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DB3-E70E-49DF-92A6-A34798EC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8AC-B9AD-4E11-9232-05A1F06E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0D8-FB83-4AB0-A989-B58435C6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9C3-9EC7-46CB-B136-5D276192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674-E1A3-4462-959A-4A62867F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6DF5-0918-4400-ADFB-E7832C75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7A3-C265-4EC8-BBE8-BE18559D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356-CED1-42C7-B460-4C12F1A1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0BA-5415-4028-A40E-6A38ED61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65E69-AD25-49F9-8F5F-EF913CC5C798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714680" y="209520"/>
            <a:ext cx="6502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rojekt: Inovace vybavení    Registrační číslo projektu:  CZ.1.07/1.5.00/34.03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87320" y="482760"/>
            <a:ext cx="8585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říjemce: Gymnázium Pierra de Coubertina, Tábor, Náměstí Františka Křižíka 860, 390 01 Táb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595520" y="5880240"/>
            <a:ext cx="6968880" cy="1342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876240" y="5410080"/>
            <a:ext cx="84074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4838760"/>
            <a:ext cx="103377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55680" y="1295280"/>
            <a:ext cx="19047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Autor materiál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68280" y="1003320"/>
            <a:ext cx="21589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9280"/>
                <a:tab algn="l" pos="144288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Název materiálu:</a:t>
            </a: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55680" y="2413080"/>
            <a:ext cx="86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5688000" y="2136600"/>
            <a:ext cx="3960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Předmět: tělesná výchova     ročník: první až čtvrtý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355680" y="1828800"/>
            <a:ext cx="2209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5680" y="2120760"/>
            <a:ext cx="1143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5759280" y="2387520"/>
            <a:ext cx="22161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Číslo DUM: 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55680" y="2946240"/>
            <a:ext cx="307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355680" y="3238560"/>
            <a:ext cx="1727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atum ověření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355680" y="3809880"/>
            <a:ext cx="86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Tříd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355680" y="3530520"/>
            <a:ext cx="1752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Ověřující učitel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2400480" y="1003320"/>
            <a:ext cx="3358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Testování posturálních sval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2400480" y="1295280"/>
            <a:ext cx="177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1244520" y="2120760"/>
            <a:ext cx="5181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1244520" y="2413080"/>
            <a:ext cx="9399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32_Tv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8051760" y="2387520"/>
            <a:ext cx="1320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2400480" y="3517920"/>
            <a:ext cx="177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4"/>
          <p:cNvSpPr/>
          <p:nvPr/>
        </p:nvSpPr>
        <p:spPr>
          <a:xfrm>
            <a:off x="2400480" y="3809880"/>
            <a:ext cx="736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1.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2400480" y="3238560"/>
            <a:ext cx="1774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22. 11.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cc99"/>
                </a:solidFill>
                <a:latin typeface="Arial"/>
              </a:rPr>
              <a:t>Trojhlavý sval lýtkov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092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řep na celých chodidl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224000" y="2459160"/>
            <a:ext cx="1871640" cy="3373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5400720" y="2376360"/>
            <a:ext cx="3132000" cy="3373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76360" y="5975280"/>
            <a:ext cx="334800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ráv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odidla jsou celá na podložc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da jsou narovnaná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a v prodloužení trup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543640" y="5973840"/>
            <a:ext cx="284148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yb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odidla jsou na špičkách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da jsou shrbe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cc99"/>
                </a:solidFill>
                <a:latin typeface="Arial"/>
              </a:rPr>
              <a:t>Zadní strana ste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02920" y="1481040"/>
            <a:ext cx="907092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, přednožit jednu no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008000" y="2217600"/>
            <a:ext cx="3373560" cy="238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1008000" y="5000760"/>
            <a:ext cx="3373560" cy="2198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778280" y="2365200"/>
            <a:ext cx="4503960" cy="16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ráv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nožená noha i noha na podlož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napnuté v kolen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dra jsou přitisknuta k podložc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nožená noha je v pravém nebo vetš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hlu k natažené no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896000" y="5110200"/>
            <a:ext cx="468756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yb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a nebo obě nohy jsou pokrčené v kolen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nožená noha svírá s nohou natažen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nší úhel než 9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2886120" y="3941640"/>
            <a:ext cx="4308480" cy="15494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bfbf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098880" y="4094280"/>
            <a:ext cx="393048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Auto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oudova@gymtac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říjen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27160" y="201600"/>
            <a:ext cx="488772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 - 20"/>
              </a:rPr>
              <a:t>Seznam použité literatury a pramenů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47640" y="792000"/>
            <a:ext cx="8856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Skopová, M., Zítko, M. </a:t>
            </a:r>
            <a:r>
              <a:rPr b="0" i="1" lang="cs-CZ" sz="1200" spc="-1" strike="noStrike">
                <a:solidFill>
                  <a:srgbClr val="000000"/>
                </a:solidFill>
                <a:latin typeface="Arial - 16"/>
              </a:rPr>
              <a:t>Základní gymnastika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.  Praha : Univerzita Karlova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Jarkovská, H., Jarkovská,  </a:t>
            </a:r>
            <a:r>
              <a:rPr b="0" i="1" lang="cs-CZ" sz="1200" spc="-1" strike="noStrike">
                <a:solidFill>
                  <a:srgbClr val="000000"/>
                </a:solidFill>
                <a:latin typeface="Arial - 16"/>
              </a:rPr>
              <a:t>Posilování s vlastním tělem 417krát jinak.. 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 Praha : Grada publishing,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Fotografická dokumentace autorky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cc99"/>
                </a:solidFill>
                <a:latin typeface="Arial"/>
              </a:rPr>
              <a:t>Posturální sv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2920" y="1368000"/>
            <a:ext cx="9070920" cy="457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45720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212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držují vzpřímenou polohu tě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212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važuje u nich statická vytrvalostní činn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212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ují pom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212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jí tendenci se zkrac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212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sou uloženy blíže osy těla než svaly fázic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142920"/>
            <a:ext cx="907092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rojevy zkrácení posturálních sva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76000" y="1312920"/>
            <a:ext cx="9070920" cy="567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>
              <a:lnSpc>
                <a:spcPct val="93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1) šíjové sval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krční hyperlord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2) horní část trapézového svalu a zdvihač lopat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malý úklon hl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3) prsní sval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odstávání lopatek, kulatá zá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4) zádové svalstv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oblast beder) – zvýšená bederní lord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) přitahovač steh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nedostatečné un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6) trojhlavý sval lýtkový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nelze udělat dřep na celých chodidl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7) zadní strana steh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krčená kolena v hlubokém předkl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Testování posturálních sva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vičí se ve dvoj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en cv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ý hodnotí a zapisuje provedení do tabul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rávné provedení =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ybné provedení nebo v nedostatečném rozsahu = popis odliš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cc99"/>
                </a:solidFill>
                <a:latin typeface="Arial"/>
              </a:rPr>
              <a:t>Šíjové sv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2920" y="1440000"/>
            <a:ext cx="90709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přímený stoj nebo sed, předklon hl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576360" y="2262240"/>
            <a:ext cx="2651040" cy="3786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672000" y="2262240"/>
            <a:ext cx="2663640" cy="37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6888240" y="2232000"/>
            <a:ext cx="2687400" cy="3786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936720" y="6191280"/>
            <a:ext cx="186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chozí polo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543480" y="6189840"/>
            <a:ext cx="3009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ráv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těř se plynule ohýbá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ada směřuje na prsní k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056360" y="6189840"/>
            <a:ext cx="23353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ybné provedení</a:t>
            </a:r>
            <a:r>
              <a:rPr b="0" lang="cs-CZ" sz="1800" spc="-1" strike="noStrike">
                <a:solidFill>
                  <a:srgbClr val="ffcc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ada je předsunut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teř není ohn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ffcc99"/>
                </a:solidFill>
                <a:latin typeface="Arial"/>
              </a:rPr>
              <a:t>Horní část trapézového svalu a zdvihač lopat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1640" y="1728720"/>
            <a:ext cx="9071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oj nebo sed, úklon hl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7178760" y="2793960"/>
            <a:ext cx="2365200" cy="3038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797280" y="2793960"/>
            <a:ext cx="2322360" cy="303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20720" y="2879640"/>
            <a:ext cx="2209680" cy="3038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876240" y="6126120"/>
            <a:ext cx="186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chozí polo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70280" y="6075360"/>
            <a:ext cx="27702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ráv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klon hlavy je větší ne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°, ramena se nezvedaj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912000" y="6048360"/>
            <a:ext cx="302400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ybné provedení</a:t>
            </a:r>
            <a:r>
              <a:rPr b="0" lang="cs-CZ" sz="1800" spc="-1" strike="noStrike">
                <a:solidFill>
                  <a:srgbClr val="ffcc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klon je doprová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klonem či záklonem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edají se ram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cc99"/>
                </a:solidFill>
                <a:latin typeface="Arial"/>
              </a:rPr>
              <a:t>Prsní sv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2920" y="1409760"/>
            <a:ext cx="9070920" cy="60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, vzpažit pokrč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96800" y="2455920"/>
            <a:ext cx="5622840" cy="222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503280" y="5165640"/>
            <a:ext cx="5622840" cy="1962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6551640" y="2664000"/>
            <a:ext cx="26892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ráv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volněné paže leží cel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ochou na podložc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dra jsou přitiskn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 podlož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696000" y="5184720"/>
            <a:ext cx="26910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yb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že se nedotýkají cel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ochou podložk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teř je v bederní obla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hn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cc99"/>
                </a:solidFill>
                <a:latin typeface="Arial"/>
              </a:rPr>
              <a:t>Zádové svalst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02920" y="1701360"/>
            <a:ext cx="9070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d na židli, ohnutý předk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03280" y="2376360"/>
            <a:ext cx="2436840" cy="3851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456000" y="2362320"/>
            <a:ext cx="2519280" cy="2966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tretch/>
        </p:blipFill>
        <p:spPr>
          <a:xfrm>
            <a:off x="6696000" y="2376360"/>
            <a:ext cx="2598840" cy="2990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803160" y="6413400"/>
            <a:ext cx="1860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chozí polo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384720" y="5641920"/>
            <a:ext cx="31557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ráv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těř je obloukovitě vyhrbe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a u ko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840360" y="5613480"/>
            <a:ext cx="284004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yb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teř je vyhrbena v obla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udní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statečný předkl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cc99"/>
                </a:solidFill>
                <a:latin typeface="Arial"/>
              </a:rPr>
              <a:t>Přitahovače steh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679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 roznožný, osa chodidel kolmo k podlož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76360" y="2448000"/>
            <a:ext cx="3373200" cy="2112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576360" y="4896000"/>
            <a:ext cx="4500360" cy="2217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608360" y="2808360"/>
            <a:ext cx="3084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ráv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sah pohybu je 9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° a ví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256360" y="5184720"/>
            <a:ext cx="38448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yb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sah pohybu je méně než 9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a chodidel není kolmo k podlož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09:55:48Z</dcterms:created>
  <dc:creator/>
  <dc:description/>
  <dc:language>en-US</dc:language>
  <cp:lastModifiedBy>doma</cp:lastModifiedBy>
  <dcterms:modified xsi:type="dcterms:W3CDTF">2014-05-11T18:03:43Z</dcterms:modified>
  <cp:revision>17</cp:revision>
  <dc:subject/>
  <dc:title>Snímek 1</dc:title>
</cp:coreProperties>
</file>