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158413" cy="76215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8FA72-0558-4399-BDE7-744EEEA369F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12C13-7B95-4596-8CC5-16306196F555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077E18-4E3D-4B6D-8602-A45E57D1560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4A46A-31D3-4570-941C-D5306E647E5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F3C82-A02E-4622-95CF-6A4B622E142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9C0E5-58E9-4F91-97A3-E5A4DB30DDF1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1A9928-A2F3-4725-9FE5-22B401E57569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560FB-3250-4D06-9CE9-92BF22C4547F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710B1A-EEED-4EBD-8A24-2441B2779544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8B2E8B-BF36-4A08-B874-A1A0B0450FC0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9554F9-949A-4F23-9E74-5BD75A965447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F6A15-BCA0-4FC1-A0C3-F92BD4D4038A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3A62AB-63A8-4C6C-8C93-74D27C9DD88D}" type="slidenum">
              <a:rPr b="0" lang="cs-CZ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1E499-1251-4400-91F2-A61D4190DA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91425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408920"/>
            <a:ext cx="91425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BA08-F926-4866-ACD4-A3375CF7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00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4089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000" y="44089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100D8-61D3-427E-B8D5-F3B8320B0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7827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0600" y="17827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4089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44089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0600" y="4408920"/>
            <a:ext cx="294372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D5F4A-E816-4EA1-A9A8-F632643886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82720"/>
            <a:ext cx="91425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9F082-2262-4859-B000-AF8B8F60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91425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7ACAD-5CC7-4B0B-BDAA-AD407C47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446148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000" y="1782720"/>
            <a:ext cx="446148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3A5B-F2CF-48C1-81B0-ADF87B3E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86C51-6C51-4EC8-B83E-57CC3598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03120"/>
            <a:ext cx="914256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91549-40EB-4727-B62F-BB77CF32D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000" y="1782720"/>
            <a:ext cx="446148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4089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99077-6E6C-4672-A4A9-9A6B906F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446148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00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000" y="44089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EF24-E95C-49A0-902C-797613CA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000" y="1782720"/>
            <a:ext cx="446148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408920"/>
            <a:ext cx="9142560" cy="239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81301-EE89-4DDF-AB17-DAF52F990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7600" y="7062840"/>
            <a:ext cx="236844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25.11.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2"/>
          <p:cNvSpPr/>
          <p:nvPr/>
        </p:nvSpPr>
        <p:spPr>
          <a:xfrm>
            <a:off x="3471840" y="7062840"/>
            <a:ext cx="32162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2"/>
          </p:nvPr>
        </p:nvSpPr>
        <p:spPr>
          <a:xfrm>
            <a:off x="7281720" y="7062840"/>
            <a:ext cx="236880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52491-A795-42AA-8ADD-F05AD1D60A2A}" type="slidenum">
              <a:rPr b="0" lang="cs-CZ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256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507960" y="1782720"/>
            <a:ext cx="9142560" cy="502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1766880" y="190440"/>
            <a:ext cx="6564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rojekt: Inovace vybavení    Registrační číslo projektu: CZ.1.07/1.5.00/34.03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787320" y="482760"/>
            <a:ext cx="8585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595520" y="5880240"/>
            <a:ext cx="6968880" cy="13428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876240" y="5410080"/>
            <a:ext cx="840744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-88920" y="4838760"/>
            <a:ext cx="103377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1013472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355680" y="1295280"/>
            <a:ext cx="19047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368280" y="1003320"/>
            <a:ext cx="2158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8"/>
          <p:cNvSpPr/>
          <p:nvPr/>
        </p:nvSpPr>
        <p:spPr>
          <a:xfrm>
            <a:off x="355680" y="24130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6016680" y="2120760"/>
            <a:ext cx="2158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Předmět: tělesná výcho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355680" y="1828800"/>
            <a:ext cx="2209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55680" y="2120760"/>
            <a:ext cx="11430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6087960" y="2425680"/>
            <a:ext cx="1887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Číslo DUM: 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355680" y="2946240"/>
            <a:ext cx="30733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55680" y="3238560"/>
            <a:ext cx="1727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5"/>
          <p:cNvSpPr/>
          <p:nvPr/>
        </p:nvSpPr>
        <p:spPr>
          <a:xfrm>
            <a:off x="355680" y="3809880"/>
            <a:ext cx="8636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55680" y="3530520"/>
            <a:ext cx="17524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2400480" y="1003320"/>
            <a:ext cx="42224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Testování fázických sval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400480" y="129528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1244520" y="2120760"/>
            <a:ext cx="51818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8051760" y="2120760"/>
            <a:ext cx="180360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ročník: první až čtvrt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1244520" y="2413080"/>
            <a:ext cx="26830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32_Tv_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2"/>
          <p:cNvSpPr/>
          <p:nvPr/>
        </p:nvSpPr>
        <p:spPr>
          <a:xfrm>
            <a:off x="8051760" y="2387520"/>
            <a:ext cx="13208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3"/>
          <p:cNvSpPr/>
          <p:nvPr/>
        </p:nvSpPr>
        <p:spPr>
          <a:xfrm>
            <a:off x="2400480" y="3517920"/>
            <a:ext cx="17776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4"/>
          <p:cNvSpPr/>
          <p:nvPr/>
        </p:nvSpPr>
        <p:spPr>
          <a:xfrm>
            <a:off x="2400480" y="3809880"/>
            <a:ext cx="7365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1.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5"/>
          <p:cNvSpPr/>
          <p:nvPr/>
        </p:nvSpPr>
        <p:spPr>
          <a:xfrm>
            <a:off x="2516040" y="3238560"/>
            <a:ext cx="112392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29.1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valy noh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7960" y="1782720"/>
            <a:ext cx="3524400" cy="1889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ed na lavičc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ehno vodorov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503280" y="4422600"/>
            <a:ext cx="4895640" cy="23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pakovaně vztyk a sed na jedné noz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ruhá se nedotýká země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rup vzpřímen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ívky 6 x, chlapci 10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4751280" y="1440000"/>
            <a:ext cx="1968480" cy="2822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7199280" y="3654360"/>
            <a:ext cx="2048040" cy="354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elkový svalový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07960" y="1782360"/>
            <a:ext cx="359568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por na prav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pravo lež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647640" y="5184720"/>
            <a:ext cx="395136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nožit a upažit lev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rž 10 vteřin dív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0 vteřin chlap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4608360" y="1576440"/>
            <a:ext cx="3910320" cy="2440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4886280" y="4287960"/>
            <a:ext cx="3538440" cy="291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reeform 1"/>
          <p:cNvSpPr/>
          <p:nvPr/>
        </p:nvSpPr>
        <p:spPr>
          <a:xfrm>
            <a:off x="2908440" y="3973680"/>
            <a:ext cx="4343400" cy="1562040"/>
          </a:xfrm>
          <a:custGeom>
            <a:avLst/>
            <a:gdLst>
              <a:gd name="textAreaLeft" fmla="*/ 0 w 4343400"/>
              <a:gd name="textAreaRight" fmla="*/ 4343760 w 4343400"/>
              <a:gd name="textAreaTop" fmla="*/ 0 h 1562040"/>
              <a:gd name="textAreaBottom" fmla="*/ 1562400 h 156204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3124080" y="4127400"/>
            <a:ext cx="3962520" cy="10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Mgr. Lea Doud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doudova@gymta.c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říjen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463840" y="2793960"/>
            <a:ext cx="523224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 - 16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228600" y="203040"/>
            <a:ext cx="4927680" cy="3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bdélník 1"/>
          <p:cNvSpPr/>
          <p:nvPr/>
        </p:nvSpPr>
        <p:spPr>
          <a:xfrm>
            <a:off x="228600" y="785880"/>
            <a:ext cx="924408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kopová, M., Zítko, M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ákladní gymnastika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2. vyd. Praha : Univerzita Karlova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arkovská, H., Jarkovská, M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silování s vlastním tělem 417krát jinak.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Praha : Grada publishing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ázické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07960" y="178272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konávají pohy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í horší cévní zásobení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maleji regeneruj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ají sklon k ochabnu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 jich méně než svalů posturální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7960" y="234720"/>
            <a:ext cx="9144000" cy="6253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ázické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3280" y="152244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Ohybače krku a hlav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většená krční lordoza, předsunutí br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Fixátory lopatek a zádové svaly–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věšená ramena, kulatá páteř, odstávající lopat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Břišní sval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změna sklonu pánve, bederní lordóz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valy hýžďové –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většení sklonu pán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Svaly nohou –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epropnutí v kolenním kloub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 fázických sva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255600" y="1793880"/>
            <a:ext cx="93600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vičí se ve dvoji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 všech cviků se hodnotí provedení a výdrž v dané polo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en cvič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ý hodnotí a zapisuje provedení do tabulky, měří č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rávné provedení = 1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hybné provedení nebo v nedostatečném rozsahu = popis odlišn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hybače krku a hl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79280" y="1573200"/>
            <a:ext cx="3384360" cy="15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 pokrčm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rcRect l="0" t="0" r="5003" b="0"/>
          <a:stretch/>
        </p:blipFill>
        <p:spPr>
          <a:xfrm>
            <a:off x="5094360" y="1581120"/>
            <a:ext cx="4120920" cy="1731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5100480" y="3981600"/>
            <a:ext cx="4052880" cy="17319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230040" y="3498840"/>
            <a:ext cx="452304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 výdechem předklon hlavy až do hrudního předklon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rž 20 vteř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lní fixátory lopatek, svaly ramen a tru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6880" y="3936600"/>
            <a:ext cx="9506160" cy="911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lik a vzpor – neprohýbat, lopatky se nepřibližují, 5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666720" y="5327640"/>
            <a:ext cx="3797280" cy="1417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5659560" y="5191200"/>
            <a:ext cx="3411360" cy="157644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720720" y="2376360"/>
            <a:ext cx="6099120" cy="8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9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zpor klečmo (dívky), ležmo (chlap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079640" y="7056360"/>
            <a:ext cx="21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ávné pro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459480" y="7018200"/>
            <a:ext cx="20401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ybné pro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valy zádov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31640" y="1728360"/>
            <a:ext cx="496440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zpor klečmo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aně u ko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431640" y="4824360"/>
            <a:ext cx="39592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laně zkřižmo na ramena, výdrž 20 vteř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4896000" y="1689120"/>
            <a:ext cx="3717720" cy="21272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4896000" y="4535640"/>
            <a:ext cx="3765240" cy="23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řišní sva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7960" y="1611000"/>
            <a:ext cx="3379680" cy="136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 přednožit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uce v tý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20720" y="4680000"/>
            <a:ext cx="3481560" cy="10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ustit nohy – 45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rž 30 vteř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4319640" y="1663560"/>
            <a:ext cx="2440080" cy="2584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"/>
          <p:cNvPicPr/>
          <p:nvPr/>
        </p:nvPicPr>
        <p:blipFill>
          <a:blip r:embed="rId2"/>
          <a:stretch/>
        </p:blipFill>
        <p:spPr>
          <a:xfrm>
            <a:off x="4748040" y="4680000"/>
            <a:ext cx="39643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7960" y="303120"/>
            <a:ext cx="914400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valy hýžďov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36320" y="1576080"/>
            <a:ext cx="4964040" cy="2033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Základní poloha: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eh na břiš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aže skrčit upažmo dovnitř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ložit č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576360" y="4230720"/>
            <a:ext cx="4110120" cy="14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nožit jednu no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drž 20 vteř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rohýbat v bedr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5688000" y="1800360"/>
            <a:ext cx="3552840" cy="1118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5759280" y="3959280"/>
            <a:ext cx="3791160" cy="141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3"/>
          <a:stretch/>
        </p:blipFill>
        <p:spPr>
          <a:xfrm>
            <a:off x="7056360" y="5838840"/>
            <a:ext cx="2544840" cy="15764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5759280" y="3527280"/>
            <a:ext cx="21067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rávné pro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4896000" y="6408720"/>
            <a:ext cx="20397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ybné pro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chotovinska</cp:lastModifiedBy>
  <dcterms:modified xsi:type="dcterms:W3CDTF">2014-06-10T12:51:24Z</dcterms:modified>
  <cp:revision>12</cp:revision>
  <dc:subject/>
  <dc:title>Snímek 1</dc:title>
</cp:coreProperties>
</file>