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C58-8A41-4B2F-967B-462C0813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E41-9C5D-4954-B51A-35C7D399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1DA-97AA-4B91-95C4-070A59B4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441-C270-4931-BD3B-262F5B82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2890-779C-4FEF-A788-EEC530A9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599B-544D-4679-8871-BE7C9FA9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AE0D-42B1-4D85-BE97-6F5A0593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99CC-A8DF-49B4-B372-33185670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B00C-42BD-4A36-9570-C6A1CCB6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57E9-1CA8-4EF7-8B47-CADAA043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A2A3-D5EC-4FFF-A3CA-05979AE4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FFB-A760-4BCC-B1E6-96722157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CCC8-27B1-453E-A423-84C2B190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FECF-A680-4516-B3DC-AEF48B79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413E-AB7E-4E0A-9D93-66001934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D8D7-D9D7-48D7-9721-3D2F9501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4BF7-D927-4B64-89F4-234E1FDD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838-CAC6-4082-8AF3-A9F814F1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F75-F34A-45DE-ACE4-3A301902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798-65DF-4751-BB51-5EFF19CA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2F4-B47A-4DF2-942F-2318649D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796-66C6-4566-AFB5-2E522E3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975-F6DA-4E04-9CB4-E032545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3F1-B73B-437C-A9AE-EE00FE03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ae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ae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D153-7EE9-44EB-B9D8-A118BEE20CB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ae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D029-B1EC-4A3D-997B-05C9019F154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492200" y="171360"/>
            <a:ext cx="5950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rojekt: Inovace vybavení      Registrační číslo projektu: CZ.1.07/1.5.00/34.0325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643720" y="1908000"/>
            <a:ext cx="1350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 zeměpis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572080" y="2182680"/>
            <a:ext cx="1606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04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8222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Litosféra 2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ročník  prima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 </a:t>
            </a:r>
            <a:r>
              <a:rPr b="0" lang="cs-CZ" sz="1100" spc="-1" strike="noStrike">
                <a:solidFill>
                  <a:srgbClr val="666699"/>
                </a:solidFill>
                <a:latin typeface="Century Schoolbook"/>
              </a:rPr>
              <a:t>_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Z</a:t>
            </a:r>
            <a:r>
              <a:rPr b="0" lang="cs-CZ" sz="1100" spc="-1" strike="noStrike">
                <a:solidFill>
                  <a:srgbClr val="666699"/>
                </a:solidFill>
                <a:latin typeface="Century Schoolbook"/>
              </a:rPr>
              <a:t>_ 1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rima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971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20.11.2012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Zlom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orušení uložených vrstev zemské kůr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jevy vnitřních sil Země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Zvětrávání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Změny na zemském povrchu způsobené vnějšími silami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Vrása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3333600" y="2362320"/>
          <a:ext cx="27003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0" y="2362320"/>
                    <a:ext cx="27003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Zlom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2513160" y="3048120"/>
          <a:ext cx="43434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3160" y="3048120"/>
                    <a:ext cx="43434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Ostrovy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př.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Britské ostrovy, Kréta, Madagaskar, Cejlon,    Nový Zéland, Grónsko,….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Sopky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př. 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Etna, Vesuv, Fudžisan, Popocatépetl, Mauna Loa, Hekla,…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Sopky na území ČR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Činné sopky u nás nejsou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Pohoří v ČR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př.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Krkonoše, Šumava, Orlické hory, Beskydy, Jizerské hory,…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Pohoří ve světě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př.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Alpy, Himaláje, Andy,… 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dvorakova@gymta.cz@gymta.cz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Listopad 2012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 --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666699"/>
                </a:solidFill>
                <a:latin typeface="Arial"/>
              </a:rPr>
              <a:t>Litosféra</a:t>
            </a:r>
            <a:endParaRPr b="1" lang="en-US" sz="6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1. Vysvětli pojmy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Vrása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Vrásnění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Zlom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Zvětrávání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2. Schematicky zakresli 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Vrásu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Zlom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3. Odpověz na následující otázky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Jaké znáš ostrov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Jaké znáš sopk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jdeme na území ČR sopk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Jaké znáš pohoří u nás v ČR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Jaké znáš pohoří ve světě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Řešení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Vrása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hnutí části zemské kůr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Vrásnění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ces, při kterém vznikají vrás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Vznikají pohoří 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jevy vnitřních sil Země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3:54Z</dcterms:created>
  <dc:creator>nonamed</dc:creator>
  <dc:description/>
  <dc:language>en-US</dc:language>
  <cp:lastModifiedBy>doma</cp:lastModifiedBy>
  <dcterms:modified xsi:type="dcterms:W3CDTF">2014-05-06T07:29:02Z</dcterms:modified>
  <cp:revision>17</cp:revision>
  <dc:subject/>
  <dc:title>lito</dc:title>
</cp:coreProperties>
</file>