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2A5-D9F1-462C-8BC2-8320851B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B12D-ECC6-474F-8D5E-5AE665D0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4E0-4F1B-415A-B558-8AE1B226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E12-41A3-4598-A8E1-2ABAF36A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C715-0A23-4124-A4CE-17AB8FAE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BF49-4023-48BC-BE43-CBD16B29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6795-2F3F-4186-B008-94EC054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673-7055-43D2-9DC3-952F4E43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C6E1-0F77-476E-96B9-AD7FB6C0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5FC-DE51-4984-8E98-0F3689C9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526B-6312-4CE4-AA6A-51ACFE95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706-2445-460F-A258-2B2ED48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322F-2EE7-4508-9DEA-4D8CA450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B440-E36F-4D74-A006-B3CB17C6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771A-D53F-4141-B378-76B0F1CE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8389-0E7D-4159-A8EF-87981787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C4EC-C5FF-4BE0-9FED-081DD99F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373-5A83-4186-A01A-C848E527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86C-094E-4AE4-9AA5-90CC0760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401-D097-43C8-9D3D-E60837A5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434-2D3F-4205-A7FD-CA2E89B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9E6-CBCD-4ACE-BDD8-67D7BF48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72B-D92A-4E23-A33B-DBDDA81E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580-AFD8-467D-93FF-36644CE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2a4c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2a4c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E455-42F1-45FC-827D-5C3B01A6DD9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2a4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71B-E274-448F-800E-ED449F35A92E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547640" y="171360"/>
            <a:ext cx="5950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ojekt: Inovace vybavení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429160" y="1908000"/>
            <a:ext cx="156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286240" y="2182680"/>
            <a:ext cx="189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116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ydrosfér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</a:t>
            </a:r>
            <a:r>
              <a:rPr b="0" lang="cs-CZ" sz="1100" spc="-1" strike="noStrike">
                <a:solidFill>
                  <a:srgbClr val="000000"/>
                </a:solidFill>
                <a:latin typeface="Century Schoolbook"/>
              </a:rPr>
              <a:t>_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Z</a:t>
            </a:r>
            <a:r>
              <a:rPr b="0" lang="cs-CZ" sz="1100" spc="-1" strike="noStrike">
                <a:solidFill>
                  <a:srgbClr val="000000"/>
                </a:solidFill>
                <a:latin typeface="Century Schoolbook"/>
              </a:rPr>
              <a:t>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98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2.11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Jižní Amerika -  největší řeku a jejích 6 přítoků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azo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toky zprava – Madeira, Tapajos,    společné ústí – Xingů, Tocan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toky zleva – Negro, Putumayo, Maraň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Afrika – nejmenší průměrné roční srážky – urči kolik mm a místo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 – Dakh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salinita v okolí jižní Austráli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5 pro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název mořského proudu omývajícího východní Asi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ý mořský proud                                  Kuro – š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ý mořský proud                                     Oja - šio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Cesta po vodě z Tábora do Sydne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Lužnice – Vltava – Labe – severní moře – Calaiská úžina – Lamanšský průliv – Atlantik – Gibraltar – Středozemní moře – Suez – Rudé moře – průliv Bab al Mandab - Adenský záliv – Indický oceán – Tasmanovo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stopad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Hydrosféra 1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99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1. Vyhledej v atla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ětové oce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2. Vyhledej v atla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Severní  Americe 7 velkých j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Jižní Americe největší řeku a jejích 6 přítoků – rozděl na levé a pravé přít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Africe – nejmenší průměrné roční srážky – urči kolik mm a mí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u - slanost v okolí jižní Austrá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mořského proudu omývající východní As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3. Vyhledej v atla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stu po vod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nás z České republiky, z Tábora do Austrálie, do Syd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apiš, které řeky, moře, průlivy, průplavy či oceány během své cesty navštíví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Světové oceán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ch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ck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lantsk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verní ledov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Severní  Amerika -  7 velkých jez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á kanadská jezera – Hořejší, Michiganské, Huronské, Erijské a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é medvědí, Otr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29:25Z</dcterms:modified>
  <cp:revision>16</cp:revision>
  <dc:subject/>
  <dc:title>Snímek 1</dc:title>
</cp:coreProperties>
</file>