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E6CF-77DB-4F77-BAD9-1DD6DB71B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68A7-1BE6-4603-A501-11634CF86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544C-9B52-498E-BCA2-33293FAF1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61EE-3E68-4475-ADE4-68EA32477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B85C2-C44A-4EEA-B056-FA7B286D4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D69D6-95AF-465D-BBCE-BE37C62C0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D62E1-0770-491B-9F09-3EB2F1FD9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8209B-7775-43A2-990F-F62819E2F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D3529-B093-4A87-9C4B-01942A97F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51AD9-86B8-478C-9BE4-9308CA9A0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CFA51-CF0E-4575-AF27-9E1B1A764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4377-9293-4DD7-87B3-75D2A50BE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B6675-55E1-4ECB-ADC3-45F778C1D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67527-8C28-41D1-94B3-7DEA4D9DB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02D48-B6FB-4DED-BD6E-C21533FC8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AAE7D-1A1C-4E78-86B0-893A4D6A1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13BFA-71AB-4ED8-80A1-107AC0E6C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4876-8F8E-4F35-875C-E7E44B1A9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E416-CB58-465B-857A-6C1DEA7C6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3FDE-278D-425B-B95D-15C290694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180F-C016-4A66-80FE-F27EDF9B5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D220-44D4-4D56-9EFF-B67DFA4D1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83BC-7887-4BAE-8286-25BD595E6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145A-7A16-4CE8-A93F-C0DFDCA3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1f33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1f33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44D59-FE18-4068-A88B-86BFEB7DF8AD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1f33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ADE6E-D02A-495D-B935-EA6EB7835D08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ovéPole 1"/>
          <p:cNvSpPr/>
          <p:nvPr/>
        </p:nvSpPr>
        <p:spPr>
          <a:xfrm>
            <a:off x="1646280" y="171360"/>
            <a:ext cx="5851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  <a:ea typeface="Arial"/>
              </a:rPr>
              <a:t>Projekt: Inovace vybavení    Registrační číslo projektu CZ.1.07/1.5.00/34.032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ovéPole 2"/>
          <p:cNvSpPr/>
          <p:nvPr/>
        </p:nvSpPr>
        <p:spPr>
          <a:xfrm>
            <a:off x="708120" y="434880"/>
            <a:ext cx="77277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  <a:ea typeface="Arial"/>
              </a:rPr>
              <a:t>Příjemce: Gymnázium Pierra de Coubertina, Tábor, Náměstí Františka Křižíka 860, 390 01 Táb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Obrázek 3" descr="Logolink OPVK - oříznutý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1436760" y="5292720"/>
            <a:ext cx="6272280" cy="1208160"/>
          </a:xfrm>
          <a:prstGeom prst="rect">
            <a:avLst/>
          </a:prstGeom>
          <a:ln w="0">
            <a:noFill/>
          </a:ln>
        </p:spPr>
      </p:pic>
      <p:sp>
        <p:nvSpPr>
          <p:cNvPr id="98" name="TextovéPole 4"/>
          <p:cNvSpPr/>
          <p:nvPr/>
        </p:nvSpPr>
        <p:spPr>
          <a:xfrm>
            <a:off x="789120" y="4869000"/>
            <a:ext cx="756576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Tento výukový materiál vznikl v rámci Operačního programu Vzdělání pro konkurenceschopnos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5"/>
          <p:cNvSpPr/>
          <p:nvPr/>
        </p:nvSpPr>
        <p:spPr>
          <a:xfrm>
            <a:off x="0" y="4354560"/>
            <a:ext cx="930420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Materiál je určen k bezplatnému používání pro potřeby výuky a vzdělávání na všech typech škol a školských zařízení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Jakékoliv další používání podléhá autorskému zákonu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6"/>
          <p:cNvSpPr/>
          <p:nvPr/>
        </p:nvSpPr>
        <p:spPr>
          <a:xfrm>
            <a:off x="320760" y="1165320"/>
            <a:ext cx="17143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utor materiálu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ovéPole 7"/>
          <p:cNvSpPr/>
          <p:nvPr/>
        </p:nvSpPr>
        <p:spPr>
          <a:xfrm>
            <a:off x="331920" y="903240"/>
            <a:ext cx="19429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Název materiálu:</a:t>
            </a: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ovéPole 8"/>
          <p:cNvSpPr/>
          <p:nvPr/>
        </p:nvSpPr>
        <p:spPr>
          <a:xfrm>
            <a:off x="320760" y="217188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Sad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ovéPole 9"/>
          <p:cNvSpPr/>
          <p:nvPr/>
        </p:nvSpPr>
        <p:spPr>
          <a:xfrm>
            <a:off x="5943600" y="1908000"/>
            <a:ext cx="22003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ředmět: zeměp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ovéPole 10"/>
          <p:cNvSpPr/>
          <p:nvPr/>
        </p:nvSpPr>
        <p:spPr>
          <a:xfrm>
            <a:off x="320760" y="1646280"/>
            <a:ext cx="19875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Zařazení materiálu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ovéPole 11"/>
          <p:cNvSpPr/>
          <p:nvPr/>
        </p:nvSpPr>
        <p:spPr>
          <a:xfrm>
            <a:off x="320760" y="1908000"/>
            <a:ext cx="1028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Šablon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ovéPole 12"/>
          <p:cNvSpPr/>
          <p:nvPr/>
        </p:nvSpPr>
        <p:spPr>
          <a:xfrm>
            <a:off x="5943600" y="2182680"/>
            <a:ext cx="1235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Číslo DUM: 0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ovéPole 13"/>
          <p:cNvSpPr/>
          <p:nvPr/>
        </p:nvSpPr>
        <p:spPr>
          <a:xfrm>
            <a:off x="320760" y="2651040"/>
            <a:ext cx="2765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věření materiálu ve výuc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ovéPole 14"/>
          <p:cNvSpPr/>
          <p:nvPr/>
        </p:nvSpPr>
        <p:spPr>
          <a:xfrm>
            <a:off x="320760" y="2914560"/>
            <a:ext cx="15541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Datum ověření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ovéPole 15"/>
          <p:cNvSpPr/>
          <p:nvPr/>
        </p:nvSpPr>
        <p:spPr>
          <a:xfrm>
            <a:off x="320760" y="342900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Tříd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ovéPole 16"/>
          <p:cNvSpPr/>
          <p:nvPr/>
        </p:nvSpPr>
        <p:spPr>
          <a:xfrm>
            <a:off x="320760" y="3178080"/>
            <a:ext cx="1576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věřující učitel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ovéPole 17"/>
          <p:cNvSpPr/>
          <p:nvPr/>
        </p:nvSpPr>
        <p:spPr>
          <a:xfrm>
            <a:off x="2160720" y="903240"/>
            <a:ext cx="34909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Hydrosféra 2 – oceány a moř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ovéPole 18"/>
          <p:cNvSpPr/>
          <p:nvPr/>
        </p:nvSpPr>
        <p:spPr>
          <a:xfrm>
            <a:off x="2160720" y="1165320"/>
            <a:ext cx="16002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Ivana Dvořá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ovéPole 19"/>
          <p:cNvSpPr/>
          <p:nvPr/>
        </p:nvSpPr>
        <p:spPr>
          <a:xfrm>
            <a:off x="1120680" y="1908000"/>
            <a:ext cx="46627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Inovace a zkvalitnění výuky prostřednictvím ICT (III/2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ovéPole 20"/>
          <p:cNvSpPr/>
          <p:nvPr/>
        </p:nvSpPr>
        <p:spPr>
          <a:xfrm>
            <a:off x="7246800" y="1908000"/>
            <a:ext cx="1622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 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ročník: prim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ovéPole 21"/>
          <p:cNvSpPr/>
          <p:nvPr/>
        </p:nvSpPr>
        <p:spPr>
          <a:xfrm>
            <a:off x="1120680" y="2171880"/>
            <a:ext cx="2414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32 _Z_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ovéPole 22"/>
          <p:cNvSpPr/>
          <p:nvPr/>
        </p:nvSpPr>
        <p:spPr>
          <a:xfrm>
            <a:off x="7246800" y="2149560"/>
            <a:ext cx="11890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ovéPole 23"/>
          <p:cNvSpPr/>
          <p:nvPr/>
        </p:nvSpPr>
        <p:spPr>
          <a:xfrm>
            <a:off x="2160720" y="3165480"/>
            <a:ext cx="16002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Ivana Dvořá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ovéPole 24"/>
          <p:cNvSpPr/>
          <p:nvPr/>
        </p:nvSpPr>
        <p:spPr>
          <a:xfrm>
            <a:off x="2160720" y="3429000"/>
            <a:ext cx="6616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rim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ovéPole 25"/>
          <p:cNvSpPr/>
          <p:nvPr/>
        </p:nvSpPr>
        <p:spPr>
          <a:xfrm>
            <a:off x="2160720" y="2914560"/>
            <a:ext cx="13316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29.11.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cc"/>
                </a:solidFill>
                <a:latin typeface="Arial"/>
              </a:rPr>
              <a:t>Oceánské dno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cc"/>
                </a:solidFill>
                <a:latin typeface="Arial"/>
              </a:rPr>
              <a:t>Úkol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kol -  urči - vyhledej v map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lubokomořský přík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př. Mariánsk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ředooceánský hřb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př. Středoatlantsk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str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př. Britské ostro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cc"/>
                </a:solidFill>
                <a:latin typeface="Arial"/>
              </a:rPr>
              <a:t>Vlastnosti oceánské vody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alinita = slanost….v prom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nožství solí rozpuštěných ve vod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plo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hlavní zdroj - sluneční zář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hy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vlnění, příboj, tsunami, dmutí, mořské pro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cc"/>
                </a:solidFill>
                <a:latin typeface="Arial"/>
              </a:rPr>
              <a:t>Úkol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jdi studený a teplý proud Atlanti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studený – např. Kanárský, Benguelský                    -  teplý – např. Golfský, Brazilsk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Volný tvar 1"/>
          <p:cNvSpPr/>
          <p:nvPr/>
        </p:nvSpPr>
        <p:spPr>
          <a:xfrm>
            <a:off x="2617920" y="3576600"/>
            <a:ext cx="3908160" cy="1405080"/>
          </a:xfrm>
          <a:custGeom>
            <a:avLst/>
            <a:gdLst>
              <a:gd name="textAreaLeft" fmla="*/ 0 w 3908160"/>
              <a:gd name="textAreaRight" fmla="*/ 3908520 w 3908160"/>
              <a:gd name="textAreaTop" fmla="*/ 0 h 1405080"/>
              <a:gd name="textAreaBottom" fmla="*/ 1405440 h 1405080"/>
            </a:gdLst>
            <a:ahLst/>
            <a:rect l="textAreaLeft" t="textAreaTop" r="textAreaRight" b="textAreaBottom"/>
            <a:pathLst>
              <a:path w="4342131" h="1562101">
                <a:moveTo>
                  <a:pt x="0" y="1562100"/>
                </a:moveTo>
                <a:lnTo>
                  <a:pt x="0" y="0"/>
                </a:lnTo>
                <a:lnTo>
                  <a:pt x="4342130" y="0"/>
                </a:lnTo>
                <a:lnTo>
                  <a:pt x="4342130" y="1562100"/>
                </a:lnTo>
                <a:lnTo>
                  <a:pt x="0" y="15621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ovéPole 2"/>
          <p:cNvSpPr/>
          <p:nvPr/>
        </p:nvSpPr>
        <p:spPr>
          <a:xfrm>
            <a:off x="2811600" y="3714840"/>
            <a:ext cx="35668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utor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Ivana Dvořá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Gymnázium Pierra de Coubertina, Táb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idvorakova@gymta.cz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rosinec  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ovéPole 4"/>
          <p:cNvSpPr/>
          <p:nvPr/>
        </p:nvSpPr>
        <p:spPr>
          <a:xfrm>
            <a:off x="206280" y="182520"/>
            <a:ext cx="44341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 - 20"/>
                <a:ea typeface="Arial"/>
              </a:rPr>
              <a:t>Seznam použité literatury a pramenů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ovéPole 5"/>
          <p:cNvSpPr/>
          <p:nvPr/>
        </p:nvSpPr>
        <p:spPr>
          <a:xfrm>
            <a:off x="628560" y="514440"/>
            <a:ext cx="8515440" cy="7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marL="343080" indent="-343080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DEMEK, Jaromír, Vít VOŽENÍLEK a Miroslav VYSOUDIL. </a:t>
            </a: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Geografie pro střední školy</a:t>
            </a: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. 1. vyd. Praha: SPN – pedagogické nakladatelství, 1997, 94 s. ISBN 80-85937-73-5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SOBOTOVÁ, Miromila a Karel SOBOTA.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Zeměpisný náčrtník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. 1. vyd. Praha: Nakladatelství České geografické společnosti, 1996, 25 l. ISBN 80-901942-5-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Arial"/>
              </a:rPr>
              <a:t>Hydrosféra 2</a:t>
            </a:r>
            <a:br>
              <a:rPr sz="5400"/>
            </a:br>
            <a:r>
              <a:rPr b="1" lang="cs-CZ" sz="5400" spc="-1" strike="noStrike">
                <a:solidFill>
                  <a:srgbClr val="000000"/>
                </a:solidFill>
                <a:latin typeface="Arial"/>
              </a:rPr>
              <a:t>oceány a moře</a:t>
            </a:r>
            <a:endParaRPr b="1" lang="en-US" sz="5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cc"/>
                </a:solidFill>
                <a:latin typeface="Arial"/>
              </a:rPr>
              <a:t>Pro primu víceletého gymnáz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cc"/>
                </a:solidFill>
                <a:latin typeface="Arial"/>
              </a:rPr>
              <a:t>Hydrosféra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učást  fyzickogeografické sfé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odní obal Zem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oda -  v oceánech a mořích                                    - na pevninách - ledovce, jezera, řeky, sníh…      - pod povrchem                                                      - v atmosféře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cc"/>
                </a:solidFill>
                <a:latin typeface="Arial"/>
              </a:rPr>
              <a:t>Oběh vody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1042920" y="2378160"/>
            <a:ext cx="6305760" cy="44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cc"/>
                </a:solidFill>
                <a:latin typeface="Arial"/>
              </a:rPr>
              <a:t>Rozložení vody na Zemi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838080" y="2565360"/>
            <a:ext cx="8055000" cy="35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cc"/>
                </a:solidFill>
                <a:latin typeface="Arial"/>
              </a:rPr>
              <a:t>Rozložení vody na Zemi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838080" y="2708280"/>
            <a:ext cx="769320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cc"/>
                </a:solidFill>
                <a:latin typeface="Arial"/>
              </a:rPr>
              <a:t>Oceán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35" name="Picture 3" descr=""/>
          <p:cNvPicPr/>
          <p:nvPr/>
        </p:nvPicPr>
        <p:blipFill>
          <a:blip r:embed="rId1"/>
          <a:stretch/>
        </p:blipFill>
        <p:spPr>
          <a:xfrm>
            <a:off x="1332000" y="2362320"/>
            <a:ext cx="509904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cc"/>
                </a:solidFill>
                <a:latin typeface="Arial"/>
              </a:rPr>
              <a:t>Moře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okrajová  - např. Norské                                                                      - meziostrovní – např. Středozemní                                                         - vnitřní – např. Baltsk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kol                                                              - Oceány a moře ukaž na map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2T03:05:46Z</dcterms:created>
  <dc:creator>nonamed</dc:creator>
  <dc:description/>
  <dc:language>en-US</dc:language>
  <cp:lastModifiedBy>doma</cp:lastModifiedBy>
  <dcterms:modified xsi:type="dcterms:W3CDTF">2014-05-06T07:29:47Z</dcterms:modified>
  <cp:revision>20</cp:revision>
  <dc:subject/>
  <dc:title>Snímek 1</dc:title>
</cp:coreProperties>
</file>