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24B-D304-44A8-8B97-30D61C1C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E78-BB6E-4536-A3D7-D6E9C8B8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756-7A44-47B9-8DE9-90CBD6D4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97E-ACD8-4369-8431-6006F42D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0EB9-9176-457F-A4D2-54CBB3D6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FAC0-B0E2-4BBF-9EF4-46772668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99B7-154F-48E1-8CE9-F0ED4818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4850-A9CC-474E-9ADA-1032E016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78AB-CE28-4A13-A8A2-32F1B0DA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9181-8BBB-4FE3-8D5C-C5B89FB7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24DB-1BB8-4E8C-A90D-087B4494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E1B9-9F6A-4179-A682-8682B366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3116-5111-49B7-AC28-86451EFB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A11B-885B-4D14-8713-BF5A3816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1E96-92E5-4CB5-917A-7B0B4C60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37E9-2346-460A-B3B1-4C22A03E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084D-3F16-4DDB-8F0D-6969F98C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1BC1-4CD1-44D6-AF0E-57F7488D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1C96-D10A-4037-8F46-E41D36B9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2148-A323-4200-8882-8BF2A035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339-A8A3-4ABD-A59D-AB9E888A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09F-312B-4E68-A8D8-2A3EDE6B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5C2-853E-4699-BC81-316EF96E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FEAB-CB6A-4D0C-A4A6-7F1339C3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1f33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1f33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C5C7-F603-4045-8FBC-A4199C72FF8F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1f3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F236-E4B1-4EDA-B2F2-3A1F8671E73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rojekt: Inovace vybavení   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365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0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95640" y="836640"/>
            <a:ext cx="23763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Hydrosféra 3 – voda pevn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_Z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11160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4.12.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Jezera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rodní sníženina zaplněná vod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urči – najdi v mapě jezero Bajkal, Kaspické moře, Velká kanadská jezera – Hořejší, Huronské, Ontrario, Michiganské, Erij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Rybník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lé vodní nádr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udované v minu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ě v jižních Čech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urči – najdi v mapě rybník Svět a Horus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Přehradní nádrž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lé vodní nádr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urči – najdi v mapě přehrady na Vlta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ipno I a II, Hněvkovice, Kořensko, Orlík, Kamýk, Slapy, Štěchovice, Vrané, Štv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Podpovrchová voda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tná 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ívaná k lé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urči – najdi v mapě nejznámější lázně v ČR, na západě územ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y Vary, Františkovy  Lázně, Mariánské Láz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osinec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3"/>
          <p:cNvSpPr/>
          <p:nvPr/>
        </p:nvSpPr>
        <p:spPr>
          <a:xfrm>
            <a:off x="2217600" y="2514600"/>
            <a:ext cx="47088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5"/>
          <p:cNvSpPr/>
          <p:nvPr/>
        </p:nvSpPr>
        <p:spPr>
          <a:xfrm>
            <a:off x="628560" y="514440"/>
            <a:ext cx="73281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343080" indent="-343080"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EMEK, Jaromír, Vít VOŽENÍLEK a Miroslav VYSOUDIL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Geografie pro střední škol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: SPN - pedagogické nakladatelství, 1997, 94 s. ISBN 80-85937-73-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OBOTOVÁ, Miromila a Karel SOBOTA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eměpisný náčrtník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: Nakladatelství České geografické společnosti, 1996, 25 l. ISBN 80-901942-5-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Hydrosféra 3</a:t>
            </a:r>
            <a:br>
              <a:rPr sz="5400"/>
            </a:b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voda pevnin</a:t>
            </a:r>
            <a:endParaRPr b="1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cc"/>
                </a:solidFill>
                <a:latin typeface="Arial"/>
              </a:rPr>
              <a:t>Pro primu víceletého gymná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Ledovc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vnin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r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Úkol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či – najdi v map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vninský ledov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např. Antarkt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rský ledov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např. Fedčenkův - Pamí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Řek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j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ramen a ústí – odkud kam řeka teče 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ústí – jiná řeka, jezero, moř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řítoky – zprava a zl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ovodí – území, ze kterého je voda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váděna do určité ř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úmoří – území, ze kterého je voda odváděna do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rčitého mo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rozvodí – hranice mezi povodí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Úkol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či – najdi v mapě a přiřaď pro řeku Vltava  – na Šumavě, u Mělníka, Lužnice, Berounka,    Sázava, Otava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men                                                                      ústí                                                                             přítoky zprava                                                    přítoky zl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Úkol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či – najdi v mapě a přiřaď pro řeku Vltava  – na Šumavě, u Mělníka, Lužnice, Berounka,    Sázava, Otav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men – na Šumavě                                                                     ústí   - u Mělníka                                                                          přítoky zprava  - Lužnice, Sázava                                                  přítoky zleva – Otava, Berou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Činnost řek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47900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0:06Z</dcterms:modified>
  <cp:revision>18</cp:revision>
  <dc:subject/>
  <dc:title>Snímek 1</dc:title>
</cp:coreProperties>
</file>