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5B4-532E-4341-81D0-8C7ED459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DD53-09A5-4901-9AF4-6765006B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1170-38D6-46D7-B606-19EAA32F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164-5999-4389-8CD7-8F97CB80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C160-87B4-4717-9403-593E7B9C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ACB6-7426-46DA-B93F-6C7E739E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CC20-A0A2-4A49-BF1D-B488FA7E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5A76-0EF3-4640-8B67-3AD46CAB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9EEF-347C-4EFF-BE19-FB09CA51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7FCE-72E6-4F2A-AAD2-33EA59F9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571A-7C42-4A8E-B8D6-7FA61F9A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1C1-8D7E-4164-AD9F-9B18CF79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B556-E8BC-4F3C-B3E8-AB77EC96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4577-84ED-462D-9AE3-45950AB0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188F-0057-4257-88BC-8A4F41A7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F3A0-67EC-4805-83C3-B3AD2646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A914-7251-4744-B91B-701A1BDA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1F73-7ED8-467A-A665-6D710539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859-79F8-42D5-A23A-ABCE869B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E1A-6474-4DD5-863F-B3063991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418-32EE-4D04-8D59-02A9FB2B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3028-9924-4FB9-B1AF-76156748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A557-DF67-4AD4-BD12-BB4F030A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351-BB6F-45CE-8AED-63D7EED9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1f33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1f33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1098-27E4-4CAC-9138-B2D0175B7490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1f3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65B0-2671-48C4-9E09-D6CE5476EC79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rojekt: Inovace vybavení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628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2050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Hydrosféra 4 - opaková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1187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1331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1.12.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Salinita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a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množství solí rozpuštěných ve vod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Povodí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zemí, ze kterého je voda  odváděna do určité ře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Úmoří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území, ze kterého je voda odváděna do určitého mo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Jezero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Přírodní sníženina zaplněná vod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Rybník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Umělá vodní nádr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Oběh vod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5753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Rozložení vody na Zem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838080" y="2565360"/>
            <a:ext cx="80550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Rozložení vody na Zem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838080" y="2708280"/>
            <a:ext cx="76932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Vlastnosti oceánské vod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linita                                                            Teplota                                                                   Po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Činnost řek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47900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osinec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3"/>
          <p:cNvSpPr/>
          <p:nvPr/>
        </p:nvSpPr>
        <p:spPr>
          <a:xfrm>
            <a:off x="2217600" y="2514600"/>
            <a:ext cx="47088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5"/>
          <p:cNvSpPr/>
          <p:nvPr/>
        </p:nvSpPr>
        <p:spPr>
          <a:xfrm>
            <a:off x="628560" y="514440"/>
            <a:ext cx="797580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EMEK, Jaromír, Vít VOŽENÍLEK a Miroslav VYSOUDIL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Geografie pro střední škol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: SPN -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edagogické nakladatelství, 1997, 94 s. ISBN 80-85937-73-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OBOTOVÁ, Miromila a Karel SOBOTA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eměpisný náčrtník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: Nakladatelství České geografické společnosti, 1996, 25 l. ISBN 80-901942-5-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Urči – doplň – konkrétní názv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dovce – Antarktický, Fedčenkův                  Evropské řeky – Rýn, Dunaj                              Ostrova – Sicílie, Britské ostrovy                               Hlubokomořského příkopu – Mariánský, Jávský                                                                 Rybníka v ČR – Svět, Horusický                         Přehrady v ČR – Orlík, Kamý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Hydrosféra 4</a:t>
            </a:r>
            <a:br>
              <a:rPr sz="5400"/>
            </a:b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opakování</a:t>
            </a:r>
            <a:endParaRPr b="1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cc"/>
                </a:solidFill>
                <a:latin typeface="Arial"/>
              </a:rPr>
              <a:t>Pro primu víceletého gymná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1. Vysvětli pojm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ydrosfé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linita – sla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vod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moř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yb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2. Schematicky načrtn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ěh vody v přírod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ložení vody na Z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3. Urč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osti oceánské 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á je činnost řek během horního, středního a dolního to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4.Urči – doplň – konkrétní názv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dov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ské ře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tr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ubokomořského příko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ybníka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hrady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Správné odpověd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Hydrosféra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féra fyzickogeografické sféry                Vodní obal Země                                                               Voda -  v oceánech a mořích                                    - na pevninách - ledovce, jezera, řeky, sníh…      - pod povrchem                                                      - v atmosféře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0:24Z</dcterms:modified>
  <cp:revision>17</cp:revision>
  <dc:subject/>
  <dc:title>Snímek 1</dc:title>
</cp:coreProperties>
</file>