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FBA-4DC0-494C-95F2-B8B00724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579-C02A-4D7E-8BDB-7ADC5FEF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0F1-34AF-461C-BF77-668A4518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700-2A6A-4A30-B23D-CB1906DB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670B-EAD8-461D-A967-ED965233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203A-C896-4DB1-A3CB-814E4D6C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5D8F-5278-478C-A8DB-F2B7E213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EDAB-022E-480E-A1A0-EA4BB940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0D97-6C4C-4522-9CC2-059D0A75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1310-EBDB-455D-9BA0-2896983D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B8DC-33F3-49B0-B8A1-F8C1C8FA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174-1233-4BDD-AA3D-4F45DF07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EED5-0DCF-4594-93D5-991387B1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E5CA-A528-41F0-9BF9-45D6C51E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9F51-08C0-4D0B-A2C9-26CAF61E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8EA4-C00D-4BEE-82A7-AEFB6DFB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8EAB-E8C0-462D-A57E-3AEDBF4A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B13-0E80-4490-A166-44366C04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E7B-E358-4A09-8057-7AB2AB41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FB6-DC69-40BC-B6CE-D7063D12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BCC-6C2C-41FF-9C78-17E99B38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D31-0F51-4B4A-9DFA-CD95780D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5082-23AC-485C-8F6A-813BBAEF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6D3-AEC8-4A42-91E5-7A0BB0CD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81e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39BE-7A50-482B-82AB-FE8BC04AD91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81e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1FDC-9570-4768-BF65-AB440F7CAE1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rojekt: Inovace vybavení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5080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331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tmosféra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1187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3.12.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Vzduchové hmoty a front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7058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Vzduchové hmoty a front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uchové hmoty se liší                                                  – teplotou, tlakem a vlhk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hraní vzduchových hmot – vznikají atmosférické fronty – neustále v pohybu – vlní se a vznikají tlakové útvary – cyklóny a anticykló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Cyklóna a anticyklóna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18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yklóna                                                                           – tlaková níže – teplejší, lehčí vzduch                    anticyklóna                                                            – tlaková výše – chladnější, těžší vz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Cyklóna a anticyklóna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větrů v cyklóně a anticykló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87566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Cyklóna a anticyklóna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039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 a vývoj cykló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46120" y="3141720"/>
            <a:ext cx="85978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Závěr - opakování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i pojmy 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osféra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oposféra        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así         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nebí        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ptická mapa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laková výše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laková ní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                                    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 čeho je tvořena atmosféra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é jsou vrstvy atmosféry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é veličiny se měří pro předpověď počasí                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á meteorologická stanice je nám nejblí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sinec2 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3"/>
          <p:cNvSpPr/>
          <p:nvPr/>
        </p:nvSpPr>
        <p:spPr>
          <a:xfrm>
            <a:off x="2217600" y="2514600"/>
            <a:ext cx="4708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5"/>
          <p:cNvSpPr/>
          <p:nvPr/>
        </p:nvSpPr>
        <p:spPr>
          <a:xfrm>
            <a:off x="628560" y="514440"/>
            <a:ext cx="8047080" cy="12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EMEK, Jaromír, Vít VOŽENÍLEK a Miroslav VYSOUDI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Geografie pro střední škol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SPN - pedagogické nakladatelství, 1997, 94 s. ISBN 80-85937-73-5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942-5-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Atmosféra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Vysvětli pojem atm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ynný obal Země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uchový obal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Složení atmosfér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kol – z čeho je atmosféra slož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38685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Vrstvy atmosfér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039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kol – jaké jsou vrstvy atmosf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4106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Hranice atmosféry a troposféra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do jaké výšky dosahuje atm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0 00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co je trop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dní část atmo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výšky 11 km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 9 km – póly, 17 km – rovník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Počasí a podnebí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vysvětli pojmy počasí a podne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así – okamžitý stav atmo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ebí – dlouhodobý režim poča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Počasí – předpověď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co se sleduje a měří na meteorologických stanicích  a  využívá pro předpověď poča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Teplota, tlak, srážky, směr a rychlost vět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Úkol – která meteorologická stanice je nám nejblíž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Churáňov, Temelí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Počasí – předpověď - 2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jak se nazývá předpovědní mapa poča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noptická 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domácí – synoptickou mapu vyhledej v novinách nebo na internetu a vlep do seš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0:42Z</dcterms:modified>
  <cp:revision>17</cp:revision>
  <dc:subject/>
  <dc:title>Snímek 1</dc:title>
</cp:coreProperties>
</file>