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222-9ED8-4232-A015-B4B1059D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2AB-3BB2-42E0-9234-58BE50C9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D03-4552-49C9-8678-097025A9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F64-6138-402F-996A-DBD4C519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F2F6-D7BC-4BB6-AE22-12DEB074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8A20-C0B0-4006-9CFC-76CD4B52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23C4-762B-4D27-9595-601C7E0C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DC44-BAED-43FC-91EC-D73B2464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78D9-7557-40F6-A78D-E144875D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F575-2CCC-40F5-A97F-599A3E2F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723D-3136-4CC9-84C9-2F960F94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590-F4E6-4EB2-B009-4A86B340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0168-C624-4E03-8925-4AF7CA4F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A5F1-BA91-4481-A0D5-DEB52622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123E-994B-4B95-A2CB-4E512E5F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3930-D05C-43E6-BCAD-C4CF4C40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7A5A-24FD-43D8-A3D9-C46BF477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9EE-EBB5-47C3-8536-D84EE77B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84A-5B7F-4645-BDCE-BD1963EA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7E2-D376-4528-8932-D2EA77C4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1EF-6365-4312-AD79-A1A342B1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56E-EC81-416D-A767-0698E033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680-D385-4EEB-AE1D-E6EC5AFF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62D-0661-488D-ABA5-16EACC0C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81e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ED19-4B0B-43E8-82B6-039979664E39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81e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4472-787A-4BC9-B1D3-27E568204E3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rojekt: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365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1547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tmosféra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8.12.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Zemský povrch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ětrná strana hor                                           srážkový s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Klimadiagramy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raficky znázorněné teploty a množství srážek během ro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Klimadiagramy – př.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eáns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inent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2760480" cy="3722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"/>
          <p:cNvPicPr/>
          <p:nvPr/>
        </p:nvPicPr>
        <p:blipFill>
          <a:blip r:embed="rId2"/>
          <a:stretch/>
        </p:blipFill>
        <p:spPr>
          <a:xfrm>
            <a:off x="5003640" y="2708280"/>
            <a:ext cx="269892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Klimadiagramy – úkol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ete průběhy teplot a rozložení množství srážek během roku pro klima oceánské a pevnin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ete, jak se budou lišit klimadiagramy pro rovníkovou oblast a pro arktickou ob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Závěr – úkol - 1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sešitu vlep slepou mapu kontinen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znač v mapě podnebné pá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každý podnebný pás urči množství srážek, teploty, převládající větry, které jsou pro danou oblast charakteris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Závěr – úkol - 2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klimatické rekordy na Zemi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solutní maxima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solutní minima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yšší úhrn srážek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nižší úhrn srážek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yšší rychlost vě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sinec 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3"/>
          <p:cNvSpPr/>
          <p:nvPr/>
        </p:nvSpPr>
        <p:spPr>
          <a:xfrm>
            <a:off x="2217600" y="2514600"/>
            <a:ext cx="4708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5"/>
          <p:cNvSpPr/>
          <p:nvPr/>
        </p:nvSpPr>
        <p:spPr>
          <a:xfrm>
            <a:off x="395280" y="514440"/>
            <a:ext cx="8280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EMEK, Jaromír, Vít VOŽENÍLEK a Miroslav VYSOUDIL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Geografie pro střední škol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SPN pedagogické nakladatelství, 1997, 94 s. ISBN 80-85937-73-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Nakladatelství České geografické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polečnosti, 1996, 25 l. ISBN 80-901942-5-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Podnebí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co ovlivňuje podne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měpisná šíř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álenost od moř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obecný oběh atmosfé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eánské prou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dmořská výš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mský pov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lově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Zeměpisná šířka 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 rovníku k pólům ubývá intenzity slunečního zá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nás – severní mírný pás – střídání čtyř ročn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ebné pá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Podnebné pásy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547640" y="2362320"/>
            <a:ext cx="48960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Vzdálenost od moře 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inentální – pevninské podnebí  Oceánské podne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nás – přechod mezi oceánským a pevninským podneb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Všeobecný oběh atmosféry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187280" y="2362320"/>
            <a:ext cx="71298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Oceánské proudy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plé                                                                stude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najděte v  atlase teplý a studený proud Atlant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Nadmořská výška 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 výškou klesá tepl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ška ovlivňuje množství srážek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Kde na světě budou největší podnebné rozdíly mezi podhůřím a vrcholky 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1:05Z</dcterms:modified>
  <cp:revision>25</cp:revision>
  <dc:subject/>
  <dc:title>Snímek 1</dc:title>
</cp:coreProperties>
</file>