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57D-6DD4-44AD-A33C-E9053383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961-115A-4B21-8CFF-3BB2FFC2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A7E-151F-4091-B1FC-554F8FC8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608-61B8-45B6-8350-1D58E808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9D87-BA3F-4C89-80BF-EF439D62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E273-7870-40AE-93D9-7931FD82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686F-6760-415B-94D6-9D6FFBEF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0127-A4A4-470D-B0F1-955278E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4FB5-89BA-499B-9E0A-50E17417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3BF0-1C79-49D1-8CAD-41F401F7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D6F4-0E90-477E-A729-DB54A145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906-0BE2-469E-8362-9312B78F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361A-26B5-46C8-87E6-F8F31C8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FEE4-A0A6-4AA8-9E47-F837C687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B79F-AF05-46E6-9E43-B8E3CC88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282E-B620-407E-8D77-0298FD2E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87DB-415B-4FAF-BFA6-579A329F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59F-4772-4978-AF83-2997B44D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A65-FE45-497C-B4C0-EB05DE53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A9D-54DB-4653-A2E1-E0165EEC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133-913E-45DB-9E7B-9950162D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E73-0ECC-41EF-8EE9-BA0B174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173-68E8-4ABD-B9CD-C4451AC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613-9B2B-4F1B-848E-3212CA5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864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0A3-DFBF-45E1-AD53-62B9B390856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864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75D7-5365-4CE9-89A4-21372CE48ED6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436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8222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edosfé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2.1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ní typy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dní horizonty – patra v řezu pů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ak zbarv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vlast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í s půdotvornými proc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Hlavní půdní typy Země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drové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olové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rnozem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štní půdy – mírného, subtro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ckéh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ckéh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á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žlutozemě a červenozemě vlhkých subtro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ckých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rvené půdy travnatých sav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rvenožluté půdy vlhkých tropických les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b8647"/>
                </a:solidFill>
                <a:latin typeface="Arial"/>
              </a:rPr>
              <a:t>Hlavní půdní typy ve střední Evropě</a:t>
            </a:r>
            <a:endParaRPr b="1" lang="en-US" sz="32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erno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nědozem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glejené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nědé lesní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ndziny – horsk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zolové pů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ivní pů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užní půdy - čer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lejové pů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 atlase světa vyhledejte tematickou mapu půd a určete, jaké půdy se nachází v Evro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 učebnici vyhledejte půdní horizonty a popište 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819144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ČERVENÝ, Pave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 6: pro základní školy a víceletá gymnázia : učeb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lzeň: Fraus, 2003, 124 s. ISBN 80-723-8209-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Školní atlas svět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2. vyd. Praha: Kartografie Praha, 2007, 1 atlas (175 s.). ISBN 978-80-7011-925-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edosféra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dní kr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á přeměnou svrchní části lit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ůsobením – slunečního záření, vzduchu a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otvorný proces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172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a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živá složka – horniny,voda,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ivá – organismy – rostliny a živočich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Složení půdy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5029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Úrodná půda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znivý poměr složek pevných, tekutých a plynný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statek humusu – nahromaděné živiny z odumřelých rostlin a živočich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otvorní činitelé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čná hor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logický čini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ne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eomorfologické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rchová a podpovrchová 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a působení půdotvorných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iv člově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b8647"/>
                </a:solidFill>
                <a:latin typeface="Arial"/>
              </a:rPr>
              <a:t>Půdní druhy</a:t>
            </a:r>
            <a:endParaRPr b="1" lang="en-US" sz="3600" spc="-1" strike="noStrike">
              <a:solidFill>
                <a:srgbClr val="db8647"/>
              </a:solidFill>
              <a:latin typeface="Arial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1619280" y="2781360"/>
          <a:ext cx="439272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781360"/>
                    <a:ext cx="439272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1:27Z</dcterms:modified>
  <cp:revision>17</cp:revision>
  <dc:subject/>
  <dc:title>Snímek 1</dc:title>
</cp:coreProperties>
</file>