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C799-B790-4261-AF7F-360984B9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0C3C-15F7-4E72-AC00-E5CFFD70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BBB8-F1E0-44B6-BCE2-ADA7E7EE3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EB3D-7FC2-47C8-813E-A9A5541E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9673-5941-4A27-9B3D-37F1E3923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ABB7-DAD6-4706-A6AE-7E3D3CFE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D51F-187E-47B4-A740-86278057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E8B9-7E15-4BA5-A137-05F45341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9A63-53CD-4C3E-9DF2-5570F2C7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0EE5-9280-469A-9D14-5443E4E9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F5D3-D361-4A32-B054-72BC5F9F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D19E-49E7-43F7-9A1F-2E004985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ABF5-D60A-4BE6-B52E-C66D5494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BBBA-FDCB-4474-99EE-F4E66B03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9096-F051-44F7-88C8-575149DE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E453-DAC6-4F70-8F75-C345BFBF4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D862-AFCF-466F-B6E2-D10A0982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6BB3-66E4-4FAA-9600-81A81730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159A-AFA5-4948-8795-F0A164D4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73F7-6411-4A64-9133-EB46AAA7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27C9-0371-41F1-9FEB-611333F4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70DA-9EF1-4F9D-9F1D-F7E06E71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2AA4-362A-4B34-AAB5-12E664C7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0849-6697-4B1E-88C7-BEC1AF37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904C-8170-48DB-88D0-2F80130E3614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D77E-97F7-4DBE-A9CA-D3D56E85BCDF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          </a:t>
            </a: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rojekt:  Inovace vybavení 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98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9"/>
          <p:cNvSpPr/>
          <p:nvPr/>
        </p:nvSpPr>
        <p:spPr>
          <a:xfrm>
            <a:off x="5943600" y="1908000"/>
            <a:ext cx="12207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mět: země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12"/>
          <p:cNvSpPr/>
          <p:nvPr/>
        </p:nvSpPr>
        <p:spPr>
          <a:xfrm>
            <a:off x="5943600" y="218268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ovéPole 17"/>
          <p:cNvSpPr/>
          <p:nvPr/>
        </p:nvSpPr>
        <p:spPr>
          <a:xfrm>
            <a:off x="2160720" y="907920"/>
            <a:ext cx="11160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Biosfé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ovéPole 18"/>
          <p:cNvSpPr/>
          <p:nvPr/>
        </p:nvSpPr>
        <p:spPr>
          <a:xfrm>
            <a:off x="2160720" y="116532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 _ Z_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ovéPole 23"/>
          <p:cNvSpPr/>
          <p:nvPr/>
        </p:nvSpPr>
        <p:spPr>
          <a:xfrm>
            <a:off x="2160720" y="316548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25"/>
          <p:cNvSpPr/>
          <p:nvPr/>
        </p:nvSpPr>
        <p:spPr>
          <a:xfrm>
            <a:off x="2160720" y="291456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24.1.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cc00"/>
                </a:solidFill>
                <a:latin typeface="Arial"/>
              </a:rPr>
              <a:t>Úkol</a:t>
            </a: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jaké oblasti  rostlinstva  je rozdělen povrch plan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jaké se nachází Česká republ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cc00"/>
                </a:solidFill>
                <a:latin typeface="Arial"/>
              </a:rPr>
              <a:t>Zoogeografické oblasti Země</a:t>
            </a: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cc00"/>
                </a:solidFill>
                <a:latin typeface="Arial"/>
              </a:rPr>
              <a:t>Úkol</a:t>
            </a: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jaké oblasti  živočišstva  je rozdělen povrch plan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jaké se nachází Česká republ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á zvířata žijí u n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cc00"/>
                </a:solidFill>
                <a:latin typeface="Arial"/>
              </a:rPr>
              <a:t>Zoogeografické oblasti – Evropa</a:t>
            </a: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dvora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leden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ovéPole 5"/>
          <p:cNvSpPr/>
          <p:nvPr/>
        </p:nvSpPr>
        <p:spPr>
          <a:xfrm>
            <a:off x="628560" y="514440"/>
            <a:ext cx="797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Školní atlas světa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 2. vyd. Praha: Kartografie Praha, 2007, 1 atlas (175 s.). ISBN 978-80-7011-925-9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SOBOTOVÁ, Miromila a Karel SOBOTA. </a:t>
            </a: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Zeměpisný náčrtník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 1. vyd. Praha: Nakladatelství České geografické společnosti, 1996, 25 l. ISBN 80-901-9425-7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cc00"/>
                </a:solidFill>
                <a:latin typeface="Arial"/>
              </a:rPr>
              <a:t>Biosféra</a:t>
            </a: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hrn rostlinstva a živočišstva na Z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cc00"/>
                </a:solidFill>
                <a:latin typeface="Arial"/>
              </a:rPr>
              <a:t>Rostlinná pásma na Zemi</a:t>
            </a: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830592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cc00"/>
                </a:solidFill>
                <a:latin typeface="Arial"/>
              </a:rPr>
              <a:t>Úkol</a:t>
            </a: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é  rostlinné pásmo se nachází v oblasti, kde leží Česká republ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é je rozložení pásem na jižní polokou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cc00"/>
                </a:solidFill>
                <a:latin typeface="Arial"/>
              </a:rPr>
              <a:t>Výškové stupně na Zemi</a:t>
            </a: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cc00"/>
                </a:solidFill>
                <a:latin typeface="Arial"/>
              </a:rPr>
              <a:t>Úkol</a:t>
            </a: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é výškové stupně najdeme v našich hor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na Zemi najdeme všechna výšková pá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Object 3"/>
          <p:cNvGraphicFramePr/>
          <p:nvPr/>
        </p:nvGraphicFramePr>
        <p:xfrm>
          <a:off x="2441520" y="2428920"/>
          <a:ext cx="4486320" cy="35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1520" y="2428920"/>
                    <a:ext cx="4486320" cy="35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cc00"/>
                </a:solidFill>
                <a:latin typeface="Arial"/>
              </a:rPr>
              <a:t>Vegetační stupně ve stř. Evropě</a:t>
            </a: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cc00"/>
                </a:solidFill>
                <a:latin typeface="Arial"/>
              </a:rPr>
              <a:t>Fytogeografické oblasti</a:t>
            </a:r>
            <a:endParaRPr b="1" lang="en-US" sz="36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3:05:46Z</dcterms:created>
  <dc:creator>nonamed</dc:creator>
  <dc:description/>
  <dc:language>en-US</dc:language>
  <cp:lastModifiedBy>doma</cp:lastModifiedBy>
  <dcterms:modified xsi:type="dcterms:W3CDTF">2014-05-06T07:31:47Z</dcterms:modified>
  <cp:revision>20</cp:revision>
  <dc:subject/>
  <dc:title>Snímek 1</dc:title>
</cp:coreProperties>
</file>