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8E6-7D6C-4440-8C16-5B5A6423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F6A-13C9-4BFC-9CD4-7FFB55A9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DD5-7BD2-4BC5-A0AF-EAFD2B48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4CB-5470-443E-98C3-1DD764B5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2E14-D711-42B5-A6CA-6CAE4C2F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F768-5575-42BC-84C3-FC4CA217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E702-349B-4358-B0C0-626CB596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ED5C-F48C-448E-A0C2-710EB618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A058-0FCB-4D60-A8B0-A2C96B58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25D2-DB3C-46C3-B702-FF434D9F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2EF1-F55B-462C-BCA9-06D0F917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D55E-263E-4683-8E61-341D47E2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2AA5-C35D-4B50-91DA-F0F68EF0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FF24-9B8C-4CEA-9089-3F94A560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874F-ADDD-44C8-9628-09B97840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6F2B-1C35-4AEE-8421-9D590FD1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7AC2-B5BB-4A3E-B679-C9458E7C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3AD-E337-4EB9-A48B-76B02CF4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E80-AC0D-4322-8392-09411FDC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909-18FA-41B5-A9F3-0C7E6E67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2C5-CBC5-441F-8AD4-61312619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44F7-F87D-43A0-BCE2-DB2D40CE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42E-66F4-413C-BE28-F6B6D065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5AF-B944-4EB7-BCBF-CDB01889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E83A-68A5-4ACB-ABCA-8225DB582A43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FE7A-2E10-431F-9C6E-82DC78A7B66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dvorakova@gymta.cz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 Inovace vybavení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2207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1403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Bioklimatické pás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4.1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7. pás stepí 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ihozápadní Evropa,  východní Asie, centrální části Severní Amer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chodné pásmo mezi pouštěmi a lesy mírných šíř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dostatek vlá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ídké porosty – trávy, keře                                                        při dešti – se zazelená a bohatě rozkv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odavci, kurovi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cc00"/>
                </a:solidFill>
                <a:latin typeface="Arial"/>
              </a:rPr>
              <a:t>8. pásy pouští a polopouští mírného pásu 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ngolsko                                                                                      Karakum, Kyzylkum                                                                                   - s chladnými zimami, málo sráž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9. pás jehličnatých lesů 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severní polokouli – Aljaška, oblast  Skandinávie  a A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tinentální i oceánské k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z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mrk, borovice, modř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j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10. pásy tunder 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severní i jižní poloko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rsné k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es - hranice rozšíření lesa  - stromy přechází do křovin                                                                             trpasličí břízy, křovinaté vr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bytek tepla -  bylinný podrost – mechy, lišejní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ivočišstvo – ptáci, sobi, losy polární li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 u="sng">
                <a:solidFill>
                  <a:srgbClr val="99ff33"/>
                </a:solidFill>
                <a:uFillTx/>
                <a:latin typeface="Arial - 16"/>
                <a:ea typeface="Arial"/>
                <a:hlinkClick r:id="rId1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led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797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ČERVENÝ, Pavel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 6: pro základní školy a víceletá gymnázia: učebnice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lzeň: Fraus, 2003, 124 s. ISBN 80-723-8209-8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Školní atlas světa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2. vyd. Praha: Kartografie Praha, 2007, 1 atlas (175 s.). ISBN 978-80-7011-925-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Bioklimatické pásy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rodní oblasti Ze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1. pás trop. deštných lesů 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kolo rovníku                                                                     srážky – až 5000 mm – i 12000 – záp. Indie                                                               - vyrovnané počasí během dne                                                             - vysoká vlhkost – 90%                                                                                      - vegetace – vysoké bujné, husté lesy                                                             – pestré složení – na 1 ha – až 400 druhů,                                                             4 - 5 pater                                                                                                                   - živočišstvo – hl. v korunách stromů  světlo                                                                       ptactvo, hmyz, op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2. pás trop. opadavých a poloopadavých lesů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va pásy 10 – 25°s.š. aj.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dobí deště a sucha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ižší str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kácené oblasti -  plantá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dloužením doby sucha  lesy přechází do křovinatých až travnatých poros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avana – travnatá plocha a nízké stromy, keře            býložravci – kopytníci, šelmy                                                           antilopy, zebry, žirafy, hy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3. pásy trop. pouští a polopouští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ště - Saharská, Libyjská, Kalahari, Arabský poloostrov, oblast střední  Asie, Atacama, oblast střední Austrá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álo srážek – 400 mm – až 11 měsíců su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lké kolísání teplot mezi dnem a no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ůdy – bez humu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getace – místy  – málo druhů – suchomilné trávy, sukulety                                                                                                            oázy – vystupuje podzemní voda – palma datlová, velb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4. pásy středomořské 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okolo Středozemního moře, západní  pobřeží Severní    Ameriky, okolo Kapského města                                                                                - suché léto, vlhká z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vegetace – zelené i opadavé stromy, sucho – křoviny                              dub korkový, cypřiš, jalovce                                                                                                           Kapsko - mečí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5. pásy lesů vlhkých subtropů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chodná forma mezi trop. a opadavými lesy                            - nejde o pásy – jihovýchodní Asie, Florida, Kalifor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6. pásy opadavých listnatých lesů 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ední Evropa, Asie, Ame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jižní  polokouli – sporad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statek sráž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getace – dub, habr, buk, je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2:12Z</dcterms:modified>
  <cp:revision>22</cp:revision>
  <dc:subject/>
  <dc:title>Snímek 1</dc:title>
</cp:coreProperties>
</file>