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2EF-9452-478C-B718-BB3F9221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860-2FCD-45A3-B604-0D6A9F4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49C-9835-4710-98B5-91850D4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9C9-8593-4547-B416-98783A64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E41B-A9A3-4DF8-AB6E-5A76D8EA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9DDC-0450-438B-9674-1ED46E5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9C1F-0EBE-47F9-BB0F-A5BB0B99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C956-E729-452B-8F69-E60E721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C89-91CE-441B-B499-B9C4656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7870-BB8B-4718-9285-443B38EC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4815-29E9-4448-A316-3AD3596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06C-8933-4968-805B-5788BEA2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74CD-1E45-460D-A330-B13D3CB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7826-C3FD-4C11-91BA-1C6CFDD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C50-8A57-40E2-B1FD-C85B7B38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839-A8D1-471A-9936-8026D49E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606F-0E17-4753-8B0C-085DACB5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34B-39F7-4890-A1EC-4A0D5952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F32-F777-4FDE-82C6-27005E45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849-11EF-46BB-BF5A-CF866225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EAF-0E1C-4367-9341-3D3FEFF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30C-7257-483E-942A-5801383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318-A31C-4D1D-AF4E-7B3A6CF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7B7-AAB3-4763-B8CB-C48EFDF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2A2-5D1A-417D-A48B-19327EDE3BA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0B68-62CB-4912-9147-7B9F6743899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6041880" y="1908000"/>
            <a:ext cx="1409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205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ioklimatické pásy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9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7. Sestavte podle předcházejícího vzoru charakteristiky pro oblasti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omoří                                                                  Oblast 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7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Bioklimatické pásy 2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1. Opište si následující pás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lhký tropický pás                                                                       Savany                                                                   Pouště – subtropické                                                Step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Tund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cccc00"/>
                </a:solidFill>
                <a:latin typeface="Arial"/>
              </a:rPr>
              <a:t>2. </a:t>
            </a: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Přiřaďte oblasti správné místo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em obratníků                                                             kolem polárního kruhu                                                                    mezi rovníkem a obratníky                                              mírný pás                                                                        mírný pás - chladnější                                                                          oblast kolem r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cccc00"/>
                </a:solidFill>
                <a:latin typeface="Arial"/>
              </a:rPr>
              <a:t>3. Přiřaďte oblasti správnou podnebnou charakteristiku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trémní sucho                                                        málo srážek                                                     období sucha a dešťů                                                   tuhá zima, krátké léto                                                       vydatné srážky, vysoké teploty                                            zimy chladné, léta teple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4. Přiřaďte oblasti správné rostlin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obab, trnovník, akát                                      jehličnany - smrk, modřín                  mechy, lišejníky, tráva                                              orchidej, liány, bambus                                   bez vegetace                                                                trávy, místy ke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5. Přiřaďte oblasti správné živočich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raboš, zajíc, sysel                             papoušek, leopard, opice                                 plazi, štíři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uleň, lachtan, sob, los, medvěd                                                 vlk, medvěd                                                            zebra, žiraf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6. P</a:t>
            </a: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řiřaďte oblasti správné charakteristik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hnitý povrch                                                            oázy                                                               prérie, pampy                                                               prales                                                                     Sahel                                                                           zmrzlá pů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2:30Z</dcterms:modified>
  <cp:revision>21</cp:revision>
  <dc:subject/>
  <dc:title>Snímek 1</dc:title>
</cp:coreProperties>
</file>