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E77-36E2-4B73-B5FC-059E792D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4FE-4A08-49E4-99FE-D2B55B7E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1EC-6C8F-4E1F-9C01-A72D373B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574-42A7-425F-9970-1EB0DFE4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7C9-53B4-424B-9969-BF4D2BB6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EB9-45F3-441F-BACF-F48A052D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335-AE62-442E-92E8-0D35E9B3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0FD7-62A7-4718-BF91-584BD816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4030-BAF0-458E-9165-A66B8C17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59D1-1146-4547-9EF4-1A5F35D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E92-458A-4BDC-A97B-0660EA0F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16A-838C-428B-B216-AA82EE35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F62B-B474-4B49-93A3-BB5E77D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D928-E912-4097-9EC2-C818F21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EFD-791C-4A51-9FE1-38C0C2A8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D2B1-D801-43A9-9223-CA856EFB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5D36-3C0A-4E3C-BC2E-7750F5CC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5A7-8C06-4892-9E5A-08B44EF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18C-92D0-4BF8-AEED-839C622C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E15-237C-4FC4-B962-413A356C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6FF-13CF-4874-984D-953B6C8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199-38E6-4086-ACDE-F152312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65C-C919-40AF-8DE0-576338A9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C3D-6141-401D-A979-167BEC5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48d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48d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056-61B4-497C-9626-1FD4BB1485C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48d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C99-192A-4374-9B5E-381E0236E7F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414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5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Problém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ácení lesů                              http://www.amazonskepralesy.cz/priciny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á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Dřevo – surovina pro průmysl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¾ pochází z oblasti mírného pá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ětší producenti – skandinávské země a K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oblasti tropické – Brazílie a Austrá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Výrobky ze dřev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atina, prk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by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ulóza, pap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Dřevozpracující průmysl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1930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6154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Les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hatství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í a nově vysaze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novitelný přírodní zd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mezistromy.cz/cz/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Lesy – původní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mírném pásu = 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tropickém pásu = tropický deštný p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ajg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hličnaté stromy – smrky, modří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ěrem k jihu – přibývá listnatých str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ě vysazován                                                              – hlavně smrk – rychleji ro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ajg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Soubor:Taiga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ropický deštný prales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ěkolikapatrová vegetace                                           – až do výšky 7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ácná dřeva – mahagon, eben, b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alování lesa                                                                    – získávání půdy pro zeměděl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ropický deštný les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Soubor:Tropicke_lesy_sveta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Význam les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ivňuje atmosféru                                              foto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braňuje erozi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 života živočichů a rost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ba dřeva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2:46Z</dcterms:modified>
  <cp:revision>17</cp:revision>
  <dc:subject/>
  <dc:title>Snímek 1</dc:title>
</cp:coreProperties>
</file>