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5925-3511-4590-89C4-63D7EE63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E0B1-E889-4369-9DCE-100B063D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3DD4-AFCE-4833-8042-48C87F2A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E038-8245-49C4-A735-3AD2E379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3796-34B1-42A5-832D-296D974D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E628-CD07-453A-9DFF-AEC9E9BE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4CA5-8A93-49EF-9036-0C4328FD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1245-A36A-4616-9BC5-D9D50849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F139-BC29-439B-B8A8-6F8EE09A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7613-865C-426E-8F48-1B8428D9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D40C-1F2A-47D8-922D-01650787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3E1C-474B-46F3-9349-B0CF9DED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4E59-877E-4F27-81C4-98CCCD2B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C6F4-D002-4678-93E7-67ABE748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F26D-9D44-4EC5-8852-72816331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4F26-5FFF-4635-805A-964113F4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D727-C1EC-4875-A821-A4B05288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4C74-848C-4E25-814C-55643C0A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3AB-7469-46B3-9186-4A54F2D8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7FEB-B4E0-4A32-AB85-75F0F0F8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6896-B577-4D9E-882D-C29049DC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CA2F-F160-4EB2-A524-20642F10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CBC4-C494-4B72-8270-F2158D38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2687-20AE-494D-B089-D0AFE41D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1f33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1f33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0597-07F7-44A2-87FF-D36BD480CDED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1f3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956A-BC39-4CB0-8718-14BC96771057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.aktualne.centrum.cz/29/82/298276-svetove-zasoby-vody.png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ndeo.cz/spotreba-vody" TargetMode="External"/><Relationship Id="rId2" Type="http://schemas.openxmlformats.org/officeDocument/2006/relationships/hyperlink" Target="http://www.gymkh.cz/storage/slavicek/voda/spotreba_svet.jpg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   </a:t>
            </a: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 Inovace vybavení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5943600" y="1908000"/>
            <a:ext cx="1303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země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60720" y="90324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Vo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 _ Z_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5.2.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cc"/>
                </a:solidFill>
                <a:latin typeface="Arial"/>
              </a:rPr>
              <a:t>Světový rybolov a produktivita moří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1899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Lovené ryby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únor 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5"/>
          <p:cNvSpPr/>
          <p:nvPr/>
        </p:nvSpPr>
        <p:spPr>
          <a:xfrm>
            <a:off x="628560" y="514440"/>
            <a:ext cx="79041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marL="228600" indent="-22860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ČERVENÝ, Pavel. 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Zeměpis 6: pro základní školy a víceletá gymnázia: učebnice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1. vyd. Plzeň: Fraus, 2003, 124 s. ISBN 80723-8209-8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SOBOTOVÁ, Miromila a Karel SOBOTA. 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Zeměpisný náčrtník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1. vyd. Praha: Nakladatelství České geografické společnosti, 1996, 25 l. ISBN 80-901-9425-7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Voda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rodní zdroj Ze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ětšina – sla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využití – většinou pouze slad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Kde jsou zásoby sladké vody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dov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z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e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ybníky, vodní nádr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 povrc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Světové zásoby vody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img.aktualne.centrum.cz/29/82/298276-svetove-zasoby-vody.p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Spotřeba vody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ondeo.cz/spotreba-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gymkh.cz/storage/slavicek/voda/spotreba_svet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www.ctenarska-gramotnost.cz/wp-content/uploads/2012/12/11-Spotreba_vody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Přístup k pitné vodě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ucebnice2.enviregion.cz/userFiles/voda_pic/pristup-k-vode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Nedostatek vody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www.defenceandstrategy.eu/galerie/obrazky/imager.php?img=129797&amp;x=570&amp;y=3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thi.uloz.to/9/7/3/973cc5800dfe6ac2621bf61bc81b7c7e.800x600.p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Rybolov – světová loviště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www.herber.webz.cz/www_ocean/08-rybolov.html#C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doma</cp:lastModifiedBy>
  <dcterms:modified xsi:type="dcterms:W3CDTF">2014-05-06T07:33:04Z</dcterms:modified>
  <cp:revision>20</cp:revision>
  <dc:subject/>
  <dc:title>Snímek 1</dc:title>
</cp:coreProperties>
</file>