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16D-E137-42AC-8BA5-09D135F9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C34-F7D3-40EA-9C1E-4D8664EA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C36-417E-47AE-B590-E89E57B4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D4F-A3F4-4665-8D39-F24D8232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4C68-F9ED-4D15-BD4E-984726C3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183F-8EDF-43E4-9241-67C39652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6BB9-0917-4F12-81A4-A2FBF063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17CA-AC5C-4B06-BB1C-C3EA8CE2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23E8-E35E-47F5-898D-124FE6AB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02D8-3405-4B05-9487-6F272897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F77E-4C8E-4A5F-8445-97F7A497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292-28A1-452C-BE2A-355A19AD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866C-3A61-4FB1-943A-2CC66AED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C539-128B-4A38-B84D-ABC11764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A12E-C68D-4D47-8F06-F6C0F302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4AA2-9337-46B6-9C49-91174B8B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7A70-0074-4202-A6CC-3213D8B7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170-E949-45A0-866D-45A22B5A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61E-1D6A-4734-AC60-F6DC0C55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219-1DD9-45B3-B317-648F3478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49CF-78C8-462A-8228-69ACC065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9D1-41D4-4FB8-9701-2026CF35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C62-C1C1-4554-AD7F-17FCCBC7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B84-9CB8-4263-BFE4-AEF80530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3489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3489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9434-7D8B-4741-8F01-7C5DE27A7E33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348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0278-DFE2-42A4-89B3-D443C7AEF12E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dvorakova@gymta.cz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eologie.vsb.cz/loziska/loziska/loziska_cr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Oil_producing_countries_map.png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5080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1906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erostné surovi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2400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2.2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Železná ruda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cs.wikipedia.org/wiki/%C5%BDelezn%C3%A1_r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Vzácné kovy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í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Zlato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cs.wikipedia.org/wiki/Zlato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ěžba a zásoby                            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http://i.idnes.cz/12/033/cl5/JB421b6f_g5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Stavební materiál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á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í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ápen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Suroviny pro sklářský průmysl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klářské pí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eramické jí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o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Suroviny pro chemický průmysl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 u="sng">
                <a:solidFill>
                  <a:srgbClr val="969696"/>
                </a:solidFill>
                <a:uFillTx/>
                <a:latin typeface="Arial - 16"/>
                <a:ea typeface="Arial"/>
                <a:hlinkClick r:id="rId1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8047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MARADA, Miroslav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9: pro základní školy a víceletá gymnázia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8. ISBN 978-807-2385-904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Nerostné suroviny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rodní bohatství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ané člově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dělení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čerpatelné  – obnovitelné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– neobnoviteln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yčerpatel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Ložiska  nerostů v ČR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http://geologie.vsb.cz/loziska/loziska/loziska_c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Energetické zdroje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hl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mní ply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an, tho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lternativn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Ropa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centi </a:t>
            </a:r>
            <a:r>
              <a:rPr b="0" lang="cs-CZ" sz="28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http://cs.wikipedia.org/wiki/Soubor:Oil_producing_countries_map.p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ětové zásoby http://cs.wikipedia.org/wiki/Soubor:Oil_Reserves.p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Ropa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z http://cs.wikipedia.org/wiki/Soubor:Oil_exports.P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voz http://cs.wikipedia.org/wiki/Soubor:Oil_imports.P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Rudy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elezná r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udy barevných kovů                                                      - Cu, Co, Ni, Zn, Chrom, M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3:22Z</dcterms:modified>
  <cp:revision>19</cp:revision>
  <dc:subject/>
  <dc:title>Snímek 1</dc:title>
</cp:coreProperties>
</file>