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BAA-A328-474F-BD35-D868814F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206-6A33-40CD-B6B5-B1A5D1C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5B8-5F59-412F-9F27-258E5F43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E04-36E8-4222-B7B3-EF45A5E3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569-E158-4B26-ACEA-65FDD0E8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1C9A-51DF-42AA-88B6-DF2CF48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EE1-1575-4A4F-8BAE-9451D87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100-37FE-4878-9703-6892E40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355B-21EB-4B1C-9F58-23DF953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AF4-FF7E-4BBE-836C-F6DE3143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D22-E9C2-44B2-805E-75B3EC3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3DD-BBB5-41CD-B646-34F2DC09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F54-2F2F-4D91-AC51-D011738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57B9-AC5F-402B-AFA6-9ED7AC2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D274-CE37-4358-8AE1-04A3027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476-4C17-4228-918B-90875A52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3A0-FF3F-4834-932E-3B86DDB0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77D-334B-4904-8122-25E1F40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56A-1E1B-4020-A58B-60AE44C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C7A-905B-4CC8-9832-F55CF2A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BDF-F68D-4617-9E87-4DE21181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EB8-2CA0-4676-9EC4-102E507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6A3-A700-49C1-957F-076EF70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CB7-2DDD-45BB-8B7A-1B4DBD60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e63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e63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2AA4-85FA-4285-8033-403870FF4F8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e63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A25-39CE-4063-AB5C-6E8B471D2CA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765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Fyzickogeografická 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4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ff"/>
                </a:solidFill>
                <a:latin typeface="Arial"/>
              </a:rPr>
              <a:t>Fyzickogeografická sféra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pojem fyzickogeografická 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složky ji děl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1. </a:t>
            </a:r>
            <a:r>
              <a:rPr b="1" i="1" lang="cs-CZ" sz="3200" spc="-1" strike="noStrike">
                <a:solidFill>
                  <a:srgbClr val="ff00ff"/>
                </a:solidFill>
                <a:latin typeface="Arial"/>
              </a:rPr>
              <a:t>Zapište ke každé sféře alespoň tři změny způsobené člověkem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t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d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2. Vysvětlete následují pojmy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m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r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dná pů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3. Schematicky zakreslete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oběh vody v 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yklonu pro severní poloko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z Zemí a jeho vrst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né pásy severní polok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škové stupně na Zemi – jak se mění lesy s nadmořskou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. Sestavte správné dvojice pojmů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3805200" cy="3724200"/>
        </p:xfrm>
        <a:graphic>
          <a:graphicData uri="http://schemas.openxmlformats.org/drawingml/2006/table">
            <a:tbl>
              <a:tblPr/>
              <a:tblGrid>
                <a:gridCol w="1933560"/>
                <a:gridCol w="187164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l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alk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e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lo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edov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ibral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str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icí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hoř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něž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loostr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atnajok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l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ff"/>
                </a:solidFill>
                <a:latin typeface="Arial"/>
              </a:rPr>
              <a:t>5. Sestavte správné dvojice pojmů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2362320"/>
          <a:ext cx="4238640" cy="3724200"/>
        </p:xfrm>
        <a:graphic>
          <a:graphicData uri="http://schemas.openxmlformats.org/drawingml/2006/table">
            <a:tbl>
              <a:tblPr/>
              <a:tblGrid>
                <a:gridCol w="1862280"/>
                <a:gridCol w="2376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edov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erno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itosfé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linit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Lauras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ůdní dru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kamžitý sta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ůdní ty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ro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ře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eleh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38Z</dcterms:modified>
  <cp:revision>12</cp:revision>
  <dc:subject/>
  <dc:title>Snímek 1</dc:title>
</cp:coreProperties>
</file>