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EEF-C403-4536-B3E2-E5DCD6CE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0A9-6BFD-4A69-AD61-ADFD045E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E97-9889-4502-9991-8BBD28E2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66E-0192-48E5-876A-531851B1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8DCF-3062-47A2-8F1E-15B46DFF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BC4B-3D49-4D78-AE1B-5E98BF4F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31BB-0B6C-44C4-9654-BE587202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3AE8-DC21-47B7-A4F9-FD2B2562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75FB-298F-4959-B65B-EDFD20B6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66A6-C8FF-49E4-A16A-1735C05E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63CF-7DD5-4D61-84B4-81F46921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4AB-B350-4003-8A1F-AF138084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04E3-68E4-4914-89B0-6E789177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50C6-7165-429F-97BC-0C46A89B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CF9E-AF42-4ACD-830B-C4D107BA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8B30-B1B5-49CF-A247-7711275F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2FA7-D12D-41B5-AFD4-F12A92C4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8CA-A42A-48CF-9254-2C3A9F2D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110-D3E1-4711-A116-C7E3084B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273-893F-4965-9BB7-DC47903B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886-7D8E-4F81-9A62-61684165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4E2-ECFE-4A47-913F-F706B2EF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C0A-1A70-4A67-8B77-1618F062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F5D-D6B8-4B64-B987-408C0F64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a1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a1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C231-6ABA-4DB3-A24F-EC967D4B8E2B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a1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A78A-52DA-4E9D-AA27-6099A20570F2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rojekt:  Inovace vybavení     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365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1906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ocioekonomická sfé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6.2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Klasifikace sídel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mota                                                                          –  osada                                                                             –  vesnice                                                                                –  města                                                                                –  velkoměsta                                                                        –  aglomerace                                                                       –  konurb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galo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Průmysl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ěžební – paliv, rud, nerudných sur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raco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ěžk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třební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Zpracovatelský průmysl - těžký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nergetika – průmysl paliv a energetiky                                                           metalurgie – hutnictví       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 železa     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 barevných kovů                                                                                  strojírenský průmysl – část                                           chemický průmysl –  čá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3399"/>
                </a:solidFill>
                <a:latin typeface="Arial"/>
              </a:rPr>
              <a:t>Zpracovatelský průmysl - spotřební</a:t>
            </a:r>
            <a:endParaRPr b="1" lang="en-US" sz="32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část strojírenského a chemického                                                   - potravinářský                                                      - textilní                                                                           - oděvní                                                                             - kožedělný                                                                             - polygrafický                                                                   - dřevozpracující                                                                      - papírenský                                                                                    - výroba skla, keramiky a porcelá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Zemědělství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stlinná výroba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vočišná výro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tenzivní          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nz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Rostlinná výroba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Živočišná výroba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Součást zemědělství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bol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sní a vodní hospodář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790416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ČERVENÝ, Pavel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6: pro základní školy a víceletá gymnázia: učebnice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3, 124 s. ISBN 80-723-8209-8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MARADA, Miroslav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9: pro základní školy a víceletá gymnázia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8. ISBN 978-807-2385-9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-9425-7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Socioekonomická sféra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dská činnost v přírodním prostředí – ve fyzickogeografické sfé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dsk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3399"/>
                </a:solidFill>
                <a:latin typeface="Arial"/>
              </a:rPr>
              <a:t>Socioekonomická a fyzickogeografická sféra</a:t>
            </a:r>
            <a:endParaRPr b="1" lang="en-US" sz="3200" spc="-1" strike="noStrike">
              <a:solidFill>
                <a:srgbClr val="cc3399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2617920" y="2362320"/>
          <a:ext cx="41338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7920" y="2362320"/>
                    <a:ext cx="41338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Geografie a ostatní vědy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2916360" y="2997360"/>
          <a:ext cx="27208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997360"/>
                    <a:ext cx="27208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3399"/>
                </a:solidFill>
                <a:latin typeface="Arial"/>
              </a:rPr>
              <a:t>Geografie obyvatelstva - charakteristiky</a:t>
            </a:r>
            <a:endParaRPr b="1" lang="en-US" sz="32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žení obyvatelstva podle pohl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kové slož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rodnostní slož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sové slož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božen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konomick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Růst počtu obyvatel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ý pohyb                          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orodnost                      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úmrt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chanický pohyb – stěhování – migrace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řistěhování – imigrace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vystěhování – emi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Sídla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sto, kde se soustřeďuje činnost lidí, zboží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Typy sídel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3:55Z</dcterms:modified>
  <cp:revision>20</cp:revision>
  <dc:subject/>
  <dc:title>Snímek 1</dc:title>
</cp:coreProperties>
</file>