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1D9-5D40-4D46-BEA6-D2D74B5B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A45-25DD-408A-BB15-02738A06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3F9-EE4D-493B-9698-CF3938F5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972-013E-4344-8568-B756284C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932D-088B-4B05-B61A-C60315EF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E7D9-B207-4C80-868E-459CDEFB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22B5-FED1-4A8C-BE4D-3824C4C9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4706-F9F3-4AAB-BC0D-A771563F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2C51-53AB-4509-B98E-273B9458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C250-DCAF-467B-A00F-AA0923E6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6110-C980-426A-890A-54781F50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9EE-4052-4001-B801-4D0308D4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9C9F-741D-41E9-8687-FE591DBB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794D-0962-4290-96B1-46DE36BE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DFFA-3C78-4960-ACDE-07EE2A92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E62A-281F-4879-8FCC-2F6277BC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1394-2948-45A9-BF04-E14E4C1F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EC4-5859-4173-B790-6BD8594D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7CF-4809-4EE1-82A2-1A166289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212-E847-4791-8DBA-EA19D253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0C4-792F-47BD-8D70-384B19BA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358-7A06-40D1-8470-CB96E145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6E8-C5FF-4C60-9840-2B35514D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716-5ABF-4609-87D1-B905670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a1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a1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6E0C-E3EE-4402-AB00-9B07720C688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a1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C65D-C5B1-45EC-838E-E920173DEFF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365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9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ocioekonomická sféra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8.2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Zahraniční obchod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le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export – vývoz       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import –  dov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Příklad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Cestovní ruch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žby v cestovním ruchu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bytov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vov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ej – suvenýrů, map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vodcovské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pobytů, zájez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Druhy a formy cestovního ruchu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819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6: pro základní školy a víceletá gymnázia: učebnice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MARADA, Miroslav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 9: pro základní školy a víceletá gymnázia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lzeň: Fraus, 2008. ISBN 978-807-2385-9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-9425-7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Doprava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misťování lidí, surovin, zboží,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Složky dopravy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dopravní cesty – např. silnice                                                                 - dopravní prostředky – např. lodě                                                          - dopravní zařízení – např. letiš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Druhy dopravy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evnins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lni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elezni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nitrozemská vod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trub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stská hrom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ořsk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zduš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lete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vláštní dru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řenos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Doprava a hospodářské sektory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Sektory hospodářství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rimér                                                                        - sekundér                                                                 - terciér                                                                           - kvarté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Služby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výrobní                                                                                - nevýrob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3399"/>
                </a:solidFill>
                <a:latin typeface="Arial"/>
              </a:rPr>
              <a:t>Příklady</a:t>
            </a:r>
            <a:endParaRPr b="1" lang="en-US" sz="36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ejna potravin                                           nemocnice                                                                soud                                                                               zimní stadion                                                         restaurace                                                         supermarket                                                                    policie                                                                      kino                                                                             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4:13Z</dcterms:modified>
  <cp:revision>21</cp:revision>
  <dc:subject/>
  <dc:title>Snímek 1</dc:title>
</cp:coreProperties>
</file>