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A7A-F1F9-420F-9CB1-CA4FFDA9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4DC-0B59-435B-B98D-A82FFD57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DE4-11A9-4837-90C5-3561AE5C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A11-E68B-446E-ABD6-F9AA12FF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2895-221D-494A-9360-9D25E46D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AFCC-A251-4F33-9DF2-5202E6DE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F44D-FBD2-4761-9F49-14DB5658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1CEF-9036-40E9-9B99-184BE5FF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D7BD-8129-49F5-A35C-86B3D294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4B8E-243D-43B3-AF42-FD8446E2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CFA5-D2B8-41C3-A7D2-6EE994E8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70F-05DE-4082-840B-A7FE2C7E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D315-669A-4661-904D-62D95F6B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F06B-A805-4A8E-8979-CECABD85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291E-4DAF-4D36-8C64-760EFC80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0610-ED01-4B33-B39A-F86B07C0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524D-5951-4A2E-97D4-B50FC614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CF4A-60A1-40A6-9871-4C5652F4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60E-A344-4307-8039-181FBFE6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779-20C9-4E1B-B7F8-20F270D4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259-F1C1-4529-9B9C-AFAEF136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754-702C-45AB-B5E5-8522A4CD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AD6-29B5-4AFA-9A7D-BCB3A88C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541-6CBF-462F-A0F1-79EC884F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ca9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a9cc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6600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a9cc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66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0F81-BA22-4DA0-8DC6-F20CDFAB7B83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ca9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a9cc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6600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a9cc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66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F0E9-D208-4EFA-815F-53117E5DB838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uropa.eu/about-eu/countries/index_cs.ht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uropa.eu/about-eu/facts-figures/administration/index_cs.htm" TargetMode="External"/><Relationship Id="rId2" Type="http://schemas.openxmlformats.org/officeDocument/2006/relationships/hyperlink" Target="http://europa.eu/policies-activities/index_cs.ht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uropa.eu/about-eu/facts-figures/economy/index_cs.ht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Evropsk&#225;_uni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dclipart.org/displayimage.php?album=search&amp;cat=0&amp;pos=1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uropa.eu/about-eu/eu-history/index_cs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.wikipedia.org/wiki/&#268;lensk&#233;_st&#225;ty_Evropsk&#233;_uni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s.wikipedia.org/wiki/T&#345;i_pil&#237;&#345;e_Evropsk&#233;_unie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Inovace vybavení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3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5943600" y="1908000"/>
            <a:ext cx="1292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P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9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ovéPole 17"/>
          <p:cNvSpPr/>
          <p:nvPr/>
        </p:nvSpPr>
        <p:spPr>
          <a:xfrm>
            <a:off x="2160720" y="903240"/>
            <a:ext cx="1331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Evropská uni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 třetí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2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ovéPole 24"/>
          <p:cNvSpPr/>
          <p:nvPr/>
        </p:nvSpPr>
        <p:spPr>
          <a:xfrm>
            <a:off x="2160720" y="3429000"/>
            <a:ext cx="2698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. ročník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8.1.201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Kandidátské země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0099"/>
                </a:solidFill>
                <a:uFillTx/>
                <a:latin typeface="Verdana"/>
                <a:hlinkClick r:id="rId1"/>
              </a:rPr>
              <a:t>http://europa.eu/about-eu/countries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Orgány a instituce EU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institu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ttp://europa.eu/about-eu/institutions-bodies/index_cs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vropský parla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ttp://europa.eu/about-eu/institutions-bodies/european-parliament/index_cs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vropská r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ttp://europa.eu/about-eu/institutions-bodies/european-council/index_cs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ada E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ttp://europa.eu/about-eu/institutions-bodies/council-eu/index_cs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oudní dvů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ttp://europa.eu/about-eu/institutions-bodies/court-justice/index_cs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vropská kom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ttp://europa.eu/about-eu/institutions-bodies/european-commission/index_cs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práva a sídlo                                            </a:t>
            </a:r>
            <a:r>
              <a:rPr b="0" lang="cs-CZ" sz="2000" spc="-1" strike="noStrike" u="sng">
                <a:solidFill>
                  <a:srgbClr val="990099"/>
                </a:solidFill>
                <a:uFillTx/>
                <a:latin typeface="Verdana"/>
                <a:hlinkClick r:id="rId1"/>
              </a:rPr>
              <a:t>http://europa.eu/about-eu/facts-figures/administration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blasti politiky                                     </a:t>
            </a:r>
            <a:r>
              <a:rPr b="0" lang="cs-CZ" sz="2000" spc="-1" strike="noStrike" u="sng">
                <a:solidFill>
                  <a:srgbClr val="990099"/>
                </a:solidFill>
                <a:uFillTx/>
                <a:latin typeface="Verdana"/>
                <a:hlinkClick r:id="rId2"/>
              </a:rPr>
              <a:t>http://europa.eu/policies-activities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Ekonomika                                           </a:t>
            </a:r>
            <a:r>
              <a:rPr b="0" lang="cs-CZ" sz="2000" spc="-1" strike="noStrike" u="sng">
                <a:solidFill>
                  <a:srgbClr val="990099"/>
                </a:solidFill>
                <a:uFillTx/>
                <a:latin typeface="Verdana"/>
                <a:hlinkClick r:id="rId1"/>
              </a:rPr>
              <a:t>http://europa.eu/about-eu/facts-figures/economy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emědělství                                 http://europa.eu/pol/agr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Životní prostředí                                 http://europa.eu/pol/env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zdělávání                                     http://europa.eu/quick-links/schools-universities/index_cs.htm#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Shengenský systém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cs.wikipedia.org/wiki/Schengensk%C3%BD_pros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euro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europa.eu/legislation_summaries/economic_and_monetary_affairs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Informační společnost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europa.eu/legislation_summaries/information_society/index_cs.htm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den 201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ovéPole 5"/>
          <p:cNvSpPr/>
          <p:nvPr/>
        </p:nvSpPr>
        <p:spPr>
          <a:xfrm>
            <a:off x="628560" y="514440"/>
            <a:ext cx="2648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dkazy na internetové adres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Evropská unie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ový region v Evropě 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0099"/>
                </a:solidFill>
                <a:uFillTx/>
                <a:latin typeface="Verdana"/>
                <a:hlinkClick r:id="rId1"/>
              </a:rPr>
              <a:t>http://cs.wikipedia.org/wiki/Evropsk%C3%A1_un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obrázek 1" descr="europeanunion"/>
          <p:cNvPicPr/>
          <p:nvPr/>
        </p:nvPicPr>
        <p:blipFill>
          <a:blip r:embed="rId1"/>
          <a:stretch/>
        </p:blipFill>
        <p:spPr>
          <a:xfrm>
            <a:off x="1476360" y="1628640"/>
            <a:ext cx="3581280" cy="2384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1"/>
          <p:cNvSpPr/>
          <p:nvPr/>
        </p:nvSpPr>
        <p:spPr>
          <a:xfrm>
            <a:off x="455760" y="4182840"/>
            <a:ext cx="823428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990099"/>
                </a:solidFill>
                <a:uFillTx/>
                <a:latin typeface="Verdana"/>
                <a:hlinkClick r:id="rId2"/>
              </a:rPr>
              <a:t>http://www.pdclipart.org/displayimage.php?album=search&amp;cat=0&amp;pos=1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Integrace – počátky a historie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.1944 – Benel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.1947 – Marshallův plá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5.5.1949 – Rada Evropy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istori EU                                                             </a:t>
            </a:r>
            <a:r>
              <a:rPr b="0" lang="cs-CZ" sz="2000" spc="-1" strike="noStrike" u="sng">
                <a:solidFill>
                  <a:srgbClr val="990099"/>
                </a:solidFill>
                <a:uFillTx/>
                <a:latin typeface="Verdana"/>
                <a:hlinkClick r:id="rId1"/>
              </a:rPr>
              <a:t>http://europa.eu/about-eu/eu-history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Evropská unie - počátky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951 – Montánní unie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– Evropské společenství uhlí a ocel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íle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polečný trh pro uhlí, koks, železnou rudu a oc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akládající členové                                                    – státy Beneluxu, Francie, Itálie, Německ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957 – Římské smlouvy 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 platnosti od 1.1.195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Rozšiřování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973  Dánsko, Irsko, Británie                           1981  Řecko                                                       1986  Španělsko, Potugals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= evropská 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995 – Finsko, Švédsko, Rakousko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. 2004 – připojení – 10 zemí - Estonsko, ČR, Slovinsko, Maďarsko, Kypr,Malta, Lotyšsko, Litva, Slovensko, Pols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= evropská 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2007   Bulharsko, Rumuns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= evropská 2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Členské země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0099"/>
                </a:solidFill>
                <a:uFillTx/>
                <a:latin typeface="Verdana"/>
                <a:hlinkClick r:id="rId1"/>
              </a:rPr>
              <a:t>http://cs.wikipedia.org/wiki/%C4%8Clensk%C3%A9_st%C3%A1ty_Evropsk%C3%A9_uni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europa.eu/about-eu/countries/member-countries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europa.eu/about-eu/countries/index_cs.htm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0066"/>
                </a:solidFill>
                <a:latin typeface="Arial"/>
              </a:rPr>
              <a:t>Maastrichtská</a:t>
            </a: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 smlouva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depsáno 9.a 10 12.199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astrichtský chrám – tři pilíře                                                   1. – Rada, komise, HMU, společný trh                                          2. – Zahraniční politika, bezpečnost, lidská práva,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emokracie, právní stát                                                           3. – vnitro a just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0099"/>
                </a:solidFill>
                <a:uFillTx/>
                <a:latin typeface="Verdana"/>
                <a:hlinkClick r:id="rId1"/>
              </a:rPr>
              <a:t>http://cs.wikipedia.org/wiki/T%C5%99i_pil%C3%AD%C5%99e_Evropsk%C3%A9_un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hchotovinska</cp:lastModifiedBy>
  <dcterms:modified xsi:type="dcterms:W3CDTF">2014-06-16T06:58:00Z</dcterms:modified>
  <cp:revision>18</cp:revision>
  <dc:subject/>
  <dc:title>Snímek 1</dc:title>
</cp:coreProperties>
</file>