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162-E9D1-4D77-B4A9-2E8EC0B9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0A3-7662-4396-A71F-782689E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B89-A532-4773-9B58-6231396C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850-7F29-4947-9F97-25CF606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43B4-9472-472F-AF2C-60D5B7B3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B08-B567-4100-B27D-55CA091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AFAF-CFCE-439F-9A35-6483C95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F9B-8590-426A-A5A9-461B2DF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DE43-3870-468F-A962-7807BCD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5C6-A29C-4E7B-A631-5977A128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8FD-DC88-421A-82AE-7A45C21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2CE-9DA1-494A-9704-E9BA5B64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4386-457A-473A-92C3-1610FF26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0FFB-A84F-4C33-BADA-7989738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2F58-E124-470E-9E8A-2EC0B91C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1E95-1235-4AB9-AD80-9BD5BF6F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135-09E7-4AA9-87D8-9F443093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0A0-3022-4712-97DD-645FEF5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00C-2334-418D-ACAB-FF40FBC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462-86FE-4160-9552-B4B4818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20F-ECF0-4FDD-9370-A5322EB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D47-BE26-4A54-BD7A-E5FF899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C62-B25B-4E00-BFDF-EDAE7A4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E3-9E3E-4859-9900-BDC58DC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58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516-E4AF-4FCF-931C-688C3C305DF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58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7D7A-16D2-4C26-83D9-C2479A96D8B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n.cz/analyza/ern_cz/cz/?D=2" TargetMode="External"/><Relationship Id="rId2" Type="http://schemas.openxmlformats.org/officeDocument/2006/relationships/hyperlink" Target="http://www.czso.cz/csu/2005edicniplan.nsf/p/1372-05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uregio-egrensis.org/" TargetMode="External"/><Relationship Id="rId2" Type="http://schemas.openxmlformats.org/officeDocument/2006/relationships/hyperlink" Target="http://www.euroreg.cz/?content=page&amp;id=22" TargetMode="External"/><Relationship Id="rId3" Type="http://schemas.openxmlformats.org/officeDocument/2006/relationships/hyperlink" Target="http://www.euroregion-labe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uro-glacensis.cz/" TargetMode="External"/><Relationship Id="rId2" Type="http://schemas.openxmlformats.org/officeDocument/2006/relationships/hyperlink" Target="http://www.europraded.cz/" TargetMode="External"/><Relationship Id="rId3" Type="http://schemas.openxmlformats.org/officeDocument/2006/relationships/hyperlink" Target="http://www.euroregion-silesia.cz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5943600" y="1908000"/>
            <a:ext cx="1050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P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 2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Euroregion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3. roč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. roční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2.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Německo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Šumava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egio.cz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Polsko a Sloven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eskydy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oregion-beskydy.cz/                          http://www.tise.sk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Slovensko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moraví   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egio-weinviertel.org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Úko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berte si jeden Euroregion – nemusí být s českou účast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mezte jeho hra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rčete, kdy euroregion vznik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ejte o něm základní informace (geografické) – rozloha, počet obyvatel, počet obcí, organizační                     struktura at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rčete hlavní činnosti a aktivity euroregio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ejte významné projekty euroregio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plňte mapou a zajímavostm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pracujte v elektronické podob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shraniční spolupráce po obou stranách hra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upráce měst, obcí a okres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okální a regionální spoluprá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ůvodně vznik uvnitř Evropského společenstv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                                                                                     – vznik – 1958 – Gronau (Německo, Nizozemsko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ČR – 19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iž  existuje přes 150 subjekt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v Č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rn.cz/analyza/ern_cz/cz/?D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czso.cz/csu/2005edicniplan.nsf/p/1372-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Němec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grensis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uregio-egrensis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rušnohoř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euroreg.cz/?content=page&amp;id=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Labe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3"/>
              </a:rPr>
              <a:t>http://www.euroregion-labe.cz/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Pol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Glacensis   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uro-glacensis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aděd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europraded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ilesia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3"/>
              </a:rPr>
              <a:t>http://www.euroregion-silesia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ěšínské Slezsko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region.inforeg.cz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ilva Nortica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silvanortica.com/cs/section-1/zakladni-informace-o-ersn.htm?sub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Sloven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ílé Karpaty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rbbk.sk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Polsko a Němec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isa                               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neisse-nisa-nysa.org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hchotovinska</cp:lastModifiedBy>
  <dcterms:modified xsi:type="dcterms:W3CDTF">2014-06-16T06:57:24Z</dcterms:modified>
  <cp:revision>21</cp:revision>
  <dc:subject/>
  <dc:title>Snímek 1</dc:title>
</cp:coreProperties>
</file>